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186-5D06-4869-9FC9-8938DCC6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76C-9F80-48A2-916B-FF4A2E8B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26D-ADD6-4B58-BCA8-4F612EE3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B93-9DD5-444C-8A57-F4B32E3E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C42-809B-4FC6-A849-63F6156E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3D7-83FC-49BA-83B2-EE3E479C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2C7-0069-49EA-A6D9-2DE5561A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8BCE-7823-4AD3-B123-BE129961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68D-1B94-40EF-A364-9EE91065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DD6-844A-4202-A403-445D61E1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745-B0AD-41E2-BB0C-235304F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756-FE97-4507-AA64-A682AA94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05C8-4C59-4E9B-9FC2-72742F3378B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atike- pregle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ramatike koje gener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u LR jezik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0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A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G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gradn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pars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 gramatikam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Različite gramatike su pogodne za različite tehnike parsiranj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(Regula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 izrazi su "dobri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skener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AFF-869F-4D5E-9B62-66FF5B7B2D4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7B8A5-C3E8-4EF9-979A-6AD2761ABC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a li je spajanje bezbjedno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moguće je da se pojav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guće je da se pojav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postoji 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gra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tike ni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LR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 definiciji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lgori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konstrukciju tabel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efi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ALR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tabela dobijena primjenom algoritma konstrukicje ne sadfrži konflikte, tada je gramatik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LR(1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ED8-07BD-4567-9DE0-D708CCF14A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28A64-368F-45EA-AA0F-33074C1CF3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hift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mislit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ALR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m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 -&gt; uA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v , look1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 -&gt; uA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look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ko su ova dva itema došla u isti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pajamo stanja sa istim jezgrom, p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v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već u istom skup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D23-83A7-49E9-A5C3-D2C87E525A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D3F3C-D618-4773-8FA3-E02715C8F7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educe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smatrajmo sledeće skupov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n     =  { X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   ;  Y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b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m    =  { X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b   ;  Y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su u različitim stanji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ve je O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pajanjem dobija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nm  =  { X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/b ;  Y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/b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pajanje dovodi do konflikta, p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 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ALR(1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itanje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e raditi spajanja osim u ovakvom sluča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?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r to ne bi napravilo algoritam primjenljivijim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89A-BCDE-4FA6-AF19-FF40A1A8DB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3E7EE-D652-4A97-AAB4-6A69A5967A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onstrukci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A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primjenom algoritma spajanja n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1)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n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m  Inm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rute force”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onstru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ja tabel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stoje bolji načini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mplemen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cij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odgovara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ookahead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-ovi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st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#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ka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vjerovatno će biti više akci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uccessor(Inm) = un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uccesso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n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m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risti s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alg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 za tabelu akcija i prelazak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8F5-1B53-4770-BC54-3ADC8450EF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206F6-72A0-466E-AFC9-5563E1E012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rute for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762120"/>
          <a:ext cx="6835680" cy="5686200"/>
        </p:xfrm>
        <a:graphic>
          <a:graphicData uri="http://schemas.openxmlformats.org/drawingml/2006/table">
            <a:tbl>
              <a:tblPr/>
              <a:tblGrid>
                <a:gridCol w="1295280"/>
                <a:gridCol w="1067040"/>
                <a:gridCol w="1143000"/>
                <a:gridCol w="1295280"/>
                <a:gridCol w="1066680"/>
                <a:gridCol w="9684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i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las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ccep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7391520" y="685800"/>
            <a:ext cx="1523880" cy="1677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5105520"/>
            <a:ext cx="3733920" cy="13644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R(1) tab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Kandidati za spajanj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&amp;6, 4&amp;7, 8&amp;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47A-0AE1-4B42-AA5B-154BB1A839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E799F-71B7-4A81-8BE2-F71E8B6E97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brute force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" y="762120"/>
          <a:ext cx="6835680" cy="4265640"/>
        </p:xfrm>
        <a:graphic>
          <a:graphicData uri="http://schemas.openxmlformats.org/drawingml/2006/table">
            <a:tbl>
              <a:tblPr/>
              <a:tblGrid>
                <a:gridCol w="1295280"/>
                <a:gridCol w="1067040"/>
                <a:gridCol w="1143000"/>
                <a:gridCol w="1295280"/>
                <a:gridCol w="1066680"/>
                <a:gridCol w="9684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i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las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ccep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7391520" y="685800"/>
            <a:ext cx="1523880" cy="1677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343400"/>
            <a:ext cx="3276360" cy="1281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LR(1) tab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3 spojena stanja, ne postoje konflikt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A78-4C89-41F9-9745-494014FE37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A0C8C-90C3-4530-B10F-DE087583AB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 korak po kora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se prvo grad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ov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p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ća se cijena konstrukcije z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1)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šteda je u izvršavanju, jer je tabela manj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Bolji nači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gradnja i spajanje istovremeno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snov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d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trenutku dodavanja novog skup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porediti njegovo jezgro sa postojećim jezgrima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 se poklap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sa postojećim jezgrom, item dodajemo u taj skup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120-2673-42B9-A855-FDA310DA36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5417E-DF51-434D-B860-E1F9EBE6CB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orak po kor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51814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ledeć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ta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I11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{ E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,  ) / + }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sto jezgro kao 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I6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a ih kombinujemo u 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I611: { E -&gt; F 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$ / + / ) }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762120"/>
            <a:ext cx="8610480" cy="45972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’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;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=E  ; 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| E+F  ;  F -&gt; V | int | (E)  ;  V -&gt;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523880"/>
          <a:ext cx="9143640" cy="34290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  <a:gridCol w="304776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 S'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V = E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,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 S' -&gt; S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 S' -&gt; V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= E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3: V -&gt; i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4: S -&gt; V =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F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V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nt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)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 S -&gt; V =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F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6: E -&gt; F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7: F-&gt; V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8: F-&gt; int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9: F-&gt; (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)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F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V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nt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)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)/+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0: F-&gt; (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F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C9A-661F-48D3-8599-59A436A013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4FAD6-25F8-42F8-AFDF-A488C512F9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a li je korak po korak bol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korak po korak metroda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ep-by-step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tabele bolja od metod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rute forc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potreb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(n</a:t>
            </a:r>
            <a:r>
              <a:rPr b="0" lang="en-US" sz="3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upoređivanje svih jezga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ko efikasno implementirati ovaj meto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FCF-BA26-4C15-B569-154C2785A6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38338-99F7-484D-A893-0775BC3230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a li je korak po korak bol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korak po korak metroda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ep-by-step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tabele bolja od metod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rute forc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potreb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(n</a:t>
            </a:r>
            <a:r>
              <a:rPr b="0" lang="en-US" sz="3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upoređivanje svih jezga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ko efikasno implementirati ovaj meto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 treba upoređivati sa cijelom listom jezgara kada naiđe novo jezgro, već treba koristiti heš tabel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F68-BFAD-418F-8CE9-ED248CBBC1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8DBB2-17A0-451A-9647-59AB1E8ADD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ređe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828800"/>
          <a:ext cx="8610480" cy="4946760"/>
        </p:xfrm>
        <a:graphic>
          <a:graphicData uri="http://schemas.openxmlformats.org/drawingml/2006/table">
            <a:tbl>
              <a:tblPr/>
              <a:tblGrid>
                <a:gridCol w="1219320"/>
                <a:gridCol w="3886200"/>
                <a:gridCol w="3504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d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a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manje tabele, najlakše za izgradn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odgovarajuće za mnoge konstrukcije P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iš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nforma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a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d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noge korisne gramatike nisu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A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ame size tables as SLR, more langs, efficient to bui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preciznija upotreba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ookahead,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veći dio konstrukcija PJ koje mi želi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b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e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u za red veličine veće o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ab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8380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11B-5D96-470B-9A55-5E8CF8BDE7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1F7F4-2896-488A-9A8D-3368BC1D73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ALR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najbolji" meto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ore discriminating than SLR(1), but matches more PL language construct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Veličina tabele razumn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a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 jezik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snov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enerato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 kao što s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yac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bis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stojanje 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ta  ne utiče n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ALR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Razrješavanje konflikta direktno u tabeli poslije konstrukcije ("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dangling else</a:t>
            </a: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")</a:t>
            </a:r>
            <a:endParaRPr b="0" lang="en-US" sz="3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ra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tika može bi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kor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” LAL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B8B-9892-4D6D-BD67-B7BA0474E62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A368B-F7A8-49E1-B830-BA7430BF4A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boljšanja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?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ta se dešava ako "naslijepo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spajamo i ond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et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j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što ne odbijemo spajanje u takvom sluča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Dobićemo više 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sta</a:t>
            </a: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nja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ali će to biti i dalje manje nego za 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LR(1)</a:t>
            </a:r>
            <a:endParaRPr b="0" lang="en-US" sz="3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ažljivo proučite algoritam i zaključite zašto to ne možemo uradit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543-4EDE-4000-9CCF-E134EC399D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4F540-16A9-4602-8123-3F95104779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Od teorije ka praks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1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mogu imati nejasnoće, p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(1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mogu imati nejasnoć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 mi možemo koristiti LALR alate čak i ako gramatika ima nejasnoć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Yacc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Bison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u zasnovani n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a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 ne robuju tome, tj. ne zahtijevaju da njihov ulaz bude list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ALR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želimo posebno obraditi specijalne slučajeve i razriješiti konflikte ručno, možemo koristiti LALR alat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 u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treba nejasnih gramatik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145-E7E4-4698-B23E-7EBF6F8D164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3594F-DFBE-449C-97A4-3E87362FE9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Upotreba nejasnih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jasnoća 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c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: G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oizvodi viš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esnih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eriv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G = { E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E + E  |  E * E  |  (E)  |  id 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odali sm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er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o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bi otkonili nejasnoće za ispravan poredak operacija i asocijativnos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Šta kao pustimo algoritam za konstrukciju LR tabele z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likt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=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više akcija u poljima tabel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Biramo koju akciju želimo, eliminišemo ostale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55D-AE35-4E3F-9E82-140C512811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53F6C-EA82-4E51-B6B3-C8A45586D8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učno popravljan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838080"/>
          <a:ext cx="8610480" cy="4472280"/>
        </p:xfrm>
        <a:graphic>
          <a:graphicData uri="http://schemas.openxmlformats.org/drawingml/2006/table">
            <a:tbl>
              <a:tblPr/>
              <a:tblGrid>
                <a:gridCol w="2590920"/>
                <a:gridCol w="2819160"/>
                <a:gridCol w="320040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 E'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  E'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*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 E -&gt; (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3: E -&gt;i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4: E -&gt; E+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 E -&gt; E*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6: E -&gt; (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I7:</a:t>
                      </a:r>
                      <a:r>
                        <a:rPr b="1" lang="en-US" sz="8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E -&gt; E + E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E -&gt; E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E -&gt; E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8: E -&gt; E * 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9: E -&gt; (E)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0" y="0"/>
            <a:ext cx="22860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E + 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E * 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(E)  |  id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4864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Sta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nje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 I7 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- 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shift-reduce 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onfli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Da li možemo izabrati samo jednu akciju od ponuđenih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E07-D3D6-4EC7-ABBE-BAA5D58A79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93B64-89E0-487C-AD9E-273F458697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učno popravljan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smatramo proces parsiranja da bi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obili naznaku kako da popravimo tabelu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0"/>
            <a:ext cx="22860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E +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E *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(E)  | 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“id + id * i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činjemo s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0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t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ush id, reduce E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d, goto S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ush “+” (S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ush id, reduce E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d, goto S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“*”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stanj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E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+E?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treb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“*”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bi sledeća operacija bil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“+”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li treb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hift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Biramo po prioritetu i asocijativno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D95-3C34-47C9-9A2F-9B69314BC8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F7F5F-44BA-4290-A438-72720A4253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učno popravljan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678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ovano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E+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 ulaz 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*”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radimo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er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*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ma veći prioritet od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+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0"/>
            <a:ext cx="2286000" cy="144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E +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E *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(E)  | 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8288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se pomjeramo od operatora višeg ka operatoru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ižeg prioritet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radimo </a:t>
            </a:r>
            <a:r>
              <a:rPr b="0" i="1" lang="en-US" sz="2600" spc="-1" strike="noStrike">
                <a:solidFill>
                  <a:srgbClr val="000099"/>
                </a:solidFill>
                <a:latin typeface="Comic Sans MS"/>
              </a:rPr>
              <a:t>reduce</a:t>
            </a:r>
            <a:r>
              <a:rPr b="0" i="1" lang="sr-Latn-C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ovano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E+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 ulaz 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+”, reduce E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E+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bog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asoci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ativ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ost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smo parsiral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E op 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a desno asocijativne operatoir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i="1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“op”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ve nejasne gramatike će imati ovakve konflikte, čak i neke jas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izaberemo akcije za svaki konflikt, generator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parser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 nam mogu pomoći, bez obzira što gramatika ni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LR(0) / SLR(1) / LALR(1) /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bilo št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3BD-88A9-4302-AF07-E2A5D8D52A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3D593-9859-4499-90D0-11212E15C8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Nejasnoć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angling els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914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838080"/>
            <a:ext cx="8382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ak čist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k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generišu sbe programske konstrukc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 els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naiđe 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viable prefix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“if E then if E then S”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, pa zatim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else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(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 pravilom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1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U LR gramatikama ne može se otkloniti problem "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dangling else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Može se promijeniti tabela, tako da se izbjegne konflikt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C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Jav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bira s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, što znači vezivan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“else”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a najbliž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if”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lijevo od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else”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C62-BA13-4248-8585-981768D1B92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50809-B489-47DE-805B-EE79078069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ašto koristiti nejasne gram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ike i kod komuniciraj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mp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t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rogram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Čitljivije su ljudi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raju se dokumentovati izmjene u tabelam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anje pravila znači i manje tabel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Lakše se implementiraj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anje pravila znači i manje vrijeme potrebno za prelaske tip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E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T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F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38D-8CE0-4075-B3D9-78DF9AF40AF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FA105-5507-498B-A618-269AF0EAD5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ostor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638520" y="3602160"/>
            <a:ext cx="3365640" cy="1077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29080" y="3076560"/>
            <a:ext cx="5047920" cy="197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2286000"/>
            <a:ext cx="5889600" cy="34210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5320" y="2549520"/>
            <a:ext cx="2355840" cy="2895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21160" y="363060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3200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57640" y="238284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74320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2680" y="1628640"/>
            <a:ext cx="7067520" cy="43434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838080"/>
            <a:ext cx="8077320" cy="57913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560" y="187164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as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5320" y="110160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95920" y="4027320"/>
            <a:ext cx="1320840" cy="5270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83040" y="4033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BF7-6C9A-48BC-B79E-4D569DB0417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922FD-74CD-4C2A-B9AB-F4ADC4B165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ređe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1828800"/>
          <a:ext cx="8610480" cy="4946760"/>
        </p:xfrm>
        <a:graphic>
          <a:graphicData uri="http://schemas.openxmlformats.org/drawingml/2006/table">
            <a:tbl>
              <a:tblPr/>
              <a:tblGrid>
                <a:gridCol w="1219320"/>
                <a:gridCol w="3886200"/>
                <a:gridCol w="3504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d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a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manje tabele, najlakše za izgradn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odgovarajuće za mnoge konstrukcije P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iš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nforma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a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d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noge korisne gramatike nisu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Arial Narrow"/>
                        </a:rPr>
                        <a:t>LA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Veličina tabele kao</a:t>
                      </a: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 SLR, </a:t>
                      </a: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više jezika</a:t>
                      </a: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, ef</a:t>
                      </a: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ikasnije za izgradn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Defin</a:t>
                      </a: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isanje empirijski a ne matematič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preciznija upotreba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ookahead,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veći dio konstrukcija PJ koje mi želi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b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e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u za red veličine veće o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ab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28600" y="8380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7AA-8510-40E5-9588-228285328E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2C8E0-B7F8-4DEA-8007-46B2FB2103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ostor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638520" y="3602160"/>
            <a:ext cx="3365640" cy="10778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9080" y="3076560"/>
            <a:ext cx="5047920" cy="1973160"/>
          </a:xfrm>
          <a:prstGeom prst="ellipse">
            <a:avLst/>
          </a:prstGeom>
          <a:solidFill>
            <a:srgbClr val="bebaf8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286000"/>
            <a:ext cx="5889600" cy="342108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65320" y="2549520"/>
            <a:ext cx="2355840" cy="2895480"/>
          </a:xfrm>
          <a:prstGeom prst="ellipse">
            <a:avLst/>
          </a:prstGeom>
          <a:solidFill>
            <a:srgbClr val="febfb4">
              <a:alpha val="50000"/>
            </a:srgbClr>
          </a:solidFill>
          <a:ln w="28440">
            <a:solidFill>
              <a:srgbClr val="fc41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21160" y="363060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3200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57640" y="238284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274320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82680" y="1628640"/>
            <a:ext cx="7067520" cy="43434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838080"/>
            <a:ext cx="8077320" cy="57913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560" y="187164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b2b2b2"/>
                </a:solidFill>
                <a:latin typeface="Arial"/>
              </a:rPr>
              <a:t>Jasne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65320" y="110160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5920" y="4027320"/>
            <a:ext cx="1320840" cy="527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83040" y="4033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04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i radimo 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572000" y="914400"/>
            <a:ext cx="312408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00800" y="914400"/>
            <a:ext cx="129528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876560" y="914400"/>
            <a:ext cx="28191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BD7-5081-4B9A-B5EE-D49D7036F5C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A7FF0-476E-46B9-B348-BC82D3650F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L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L(k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ALR(k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uobičajeni izbor u praksi i najčešće je k=1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riterijumi za izbo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mplemen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Jednostavnost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pštos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slovi za transformaciju gramatik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poravak od grešak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Veličina tabel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ikasnos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C27-429F-4AD3-B249-74F5F8B5F2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82D7A-179B-4B2E-87BA-7BB99DA197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L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uslov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381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trebno je mnogo transformacija z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oste gramatike postaju složenij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19720" y="914040"/>
            <a:ext cx="441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 m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gu obraditi mnoge gramatik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ak 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-LALR!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895480"/>
            <a:ext cx="8534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poređivanje implementacionih zahtje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oliko dodatnog vremen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Vrijeme za transformaciju i pokuša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ome se vjeru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Mogu li čitati svoju transformisanu gramatik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Može li se nadgradit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4AC-7011-478F-A63D-4F77F4324293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198F4-3258-42BF-BC5E-7041711569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L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: implementa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152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v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 spust može se ručno kodirati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izgradi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able-driven LL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Lgen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6120" y="914040"/>
            <a:ext cx="415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izgled se uvijek generišu mašinski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ator (yacc / bison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že pronaći problem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nejasnoće u gramatic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2BF-35E0-40A5-AB86-08CE47BC0C6C}" type="slidenum">
              <a:t>3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B53FA-E16D-4D8E-8CFB-455F6FB576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eal lif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parser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GCC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pis i source na adresi: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http://www.gnu.org/software/gcc/gcc.htm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Comic Sans MS"/>
              </a:rPr>
              <a:t>Provjeriti </a:t>
            </a: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makefile!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Comic Sans MS"/>
              </a:rPr>
              <a:t>Vjerovatno nećete pisati čitav kompajler, ali jedan njegov dio vjerovatno hoćete</a:t>
            </a: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23A-F151-489E-BD32-24AE2AB3A66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747AA-BF7E-4C31-87BD-056BC14D55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dsjećanje n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djela skup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(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 osnov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-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jgori slučaj broja stanja: partitivni skup skupa ite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n ite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že bi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- 1 st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j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Vjerovatniji je broj stanja koji je za red veličine veći neg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kušaj čuvanj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 inf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macija uz smanjivanje broja stan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722-F1D4-444D-A560-99AC432466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79199-FF96-4C7A-A82E-72B56D9E79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A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stup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bično se govori sam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ALR (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vijek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raks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i skup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gramatik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kušaćemo sa spajanjem sličnih st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ndidati za spajanje (merging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sto jezgr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LR(0) item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dine razlike 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okahead-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vim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v , a/b/c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v , d/e/f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F1C-46A7-483E-8AAF-5697A63C75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11122-F131-4F18-84FB-3AE17DC3F9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762120"/>
          <a:ext cx="7543800" cy="52498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52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S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3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4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6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7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8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9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7315200" y="228600"/>
            <a:ext cx="1600200" cy="15570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5181480"/>
            <a:ext cx="5410080" cy="1191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bratiti pažnju na kandidate za spajan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isto jezg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npr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R(0) item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različit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ahead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o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F16-3CB7-48FC-A364-864ADC42C26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20D4D-B5AA-4CF6-901B-59BEA0BA94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685800"/>
          <a:ext cx="7543800" cy="52498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52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S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3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4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6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7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8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9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7315200" y="228600"/>
            <a:ext cx="1600200" cy="15570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4559400"/>
            <a:ext cx="3962520" cy="2288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ojeni parov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7f731"/>
                </a:solidFill>
                <a:uFillTx/>
                <a:latin typeface="Comic Sans MS"/>
              </a:rPr>
              <a:t>I47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b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800c8"/>
                </a:solidFill>
                <a:uFillTx/>
                <a:latin typeface="Comic Sans MS"/>
              </a:rPr>
              <a:t>I89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a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4122"/>
                </a:solidFill>
                <a:uFillTx/>
                <a:latin typeface="Comic Sans MS"/>
              </a:rPr>
              <a:t>I36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X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b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3E1-2C4B-4893-AE45-8B48724A70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D47A2-515D-49C7-BA81-14A8A485CF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1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-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ta se desil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rilikom spaj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ri stanja manj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m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oji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spojen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ovom sluča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lookahead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-ovi u spojenim skupovima čine čitav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llow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up, pa smo spajanjem dobil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.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zul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 spajanja obično ni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D9F-F451-4922-A475-900EBD5E21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07909-2F9C-4FCB-9429-6D07A1ADE1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85800"/>
            <a:ext cx="3886200" cy="1191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 -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-&gt; Bbb | aab | b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-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981080"/>
          <a:ext cx="7924680" cy="27432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0: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' –&gt; •S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•Bb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•aa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•bBa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 –&gt; •a,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1: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' –&gt; S•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2: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B•b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3: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a•a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 –&gt; a•,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....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533520" y="4800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smatrajte stanj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3. 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LR(1), shift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. 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ALR, shif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, 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, tj.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LR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pajanje ne vodi ka SL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7C8-4DC0-4189-A892-8568AC49BC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76717-434C-4D97-A7DE-C0829B700E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CPQ</cp:lastModifiedBy>
  <dcterms:modified xsi:type="dcterms:W3CDTF">2006-10-10T19:12:49Z</dcterms:modified>
  <cp:revision>2125</cp:revision>
  <dc:subject/>
  <dc:title>Welcome to CS143</dc:title>
</cp:coreProperties>
</file>