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72C9-1DDC-4491-9F30-5C069A191C2C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l vs. Pa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ise, prec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regular expressions to compose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utomata for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aning of program (specifies what result should be for each inpu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languages lack state required to model n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onical Primjer: nested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regular expression for language of parenthesized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guity in generating “utteranc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 tree shows all rules applied in derivation, not the order in which they were ap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6290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73A2DEE-D25C-4783-B97E-2B846F22643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0000"/>
            </a:gs>
            <a:gs pos="100000">
              <a:srgbClr val="5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3" marL="16002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4" marL="20574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5" marL="2057400" indent="-22860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6" marL="2057400" indent="-22860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2"/>
          </p:nvPr>
        </p:nvSpPr>
        <p:spPr>
          <a:xfrm>
            <a:off x="380880" y="66290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fld id="{BE8FA396-F23C-42A9-8724-814808101301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Jezici, regularni izrazi, automati i gramatik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egularni izraz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fabet (azbuka)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= 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up “slova”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gularni izrazi nad alfabetom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 regularan izraz koji označava skup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ko je a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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tada je a regularan izraz koji 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ačava skup </a:t>
            </a:r>
            <a:r>
              <a:rPr b="0" lang="en-US" sz="2400" spc="-1" strike="noStrike">
                <a:solidFill>
                  <a:srgbClr val="ccffff"/>
                </a:solidFill>
                <a:latin typeface="CMSS10"/>
              </a:rPr>
              <a:t>{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ccffff"/>
                </a:solidFill>
                <a:latin typeface="CMSS10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o su r i s regularni izrazi koji označavaju skupove R i S, tada: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|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*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*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oces keriranja string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990720"/>
            <a:ext cx="3962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ff"/>
                </a:solidFill>
                <a:latin typeface="Tahoma"/>
              </a:rPr>
              <a:t>Primjer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1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        </a:t>
            </a:r>
            <a:r>
              <a:rPr b="0" lang="sr-Latn-CS" sz="2600" spc="-1" strike="noStrike">
                <a:solidFill>
                  <a:srgbClr val="00ffff"/>
                </a:solidFill>
                <a:latin typeface="Tahoma"/>
              </a:rPr>
              <a:t>Primje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1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0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 jezic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up svih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ring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gene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s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h regularnim izrazo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M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že bit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brojivo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)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beskonača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nad alfabetom {0,1}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0|1)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0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00, 10}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(0|1)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|1)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100, 101, 110, 111}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0*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, 0, 00, 000, 0000…}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0|1)*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vi binarni brojev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i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h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= { 0, 1, . }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|1)*.(0|1)* - bina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i realni brojev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0)* -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izovi nula parne dužin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*(01*01*)* - string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vi sa parnim brojem nula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= { a,b,c, 0, 1, 2 }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a|b|c)(a|b|c|0|1|2)* - 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anumer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čk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dentif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kator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|1|2)* - t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ernarni brojevi (osnova 3)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809880"/>
            <a:ext cx="1295640" cy="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52680" y="1752120"/>
            <a:ext cx="1295640" cy="20574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  <a:ea typeface="Tahoma"/>
              </a:rPr>
              <a:t>1*((010)*0*)*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l-GR" sz="2400" spc="-1" strike="noStrike">
                <a:solidFill>
                  <a:srgbClr val="ccffff"/>
                </a:solidFill>
                <a:latin typeface="Tahoma"/>
                <a:ea typeface="Tahoma"/>
              </a:rPr>
              <a:t>ε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  <a:ea typeface="Tahoma"/>
              </a:rPr>
              <a:t>|1)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809880"/>
            <a:ext cx="129564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352680" y="1752120"/>
            <a:ext cx="1295640" cy="20574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ačni automat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bet 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ja, uključujući početno i završna st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lazak između stanja, označen slovima alfabet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325520" y="3341520"/>
            <a:ext cx="6998040" cy="2326680"/>
            <a:chOff x="1325520" y="3341520"/>
            <a:chExt cx="6998040" cy="2326680"/>
          </a:xfrm>
        </p:grpSpPr>
        <p:sp>
          <p:nvSpPr>
            <p:cNvPr id="293" name=""/>
            <p:cNvSpPr/>
            <p:nvPr/>
          </p:nvSpPr>
          <p:spPr>
            <a:xfrm>
              <a:off x="1819440" y="4724280"/>
              <a:ext cx="30456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472428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3" idx="2"/>
              <a:endCxn id="293" idx="0"/>
            </p:cNvCxnSpPr>
            <p:nvPr/>
          </p:nvCxnSpPr>
          <p:spPr>
            <a:xfrm flipH="1" rot="10800000">
              <a:off x="1809360" y="4714200"/>
              <a:ext cx="162720" cy="162720"/>
            </a:xfrm>
            <a:prstGeom prst="curvedConnector5">
              <a:avLst>
                <a:gd name="adj1" fmla="val -135254"/>
                <a:gd name="adj2" fmla="val 117516"/>
                <a:gd name="adj3" fmla="val -135254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1325520" y="421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70720" y="52927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70720" y="42260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5840" y="4141800"/>
              <a:ext cx="209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Ze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eno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ta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nj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10800" y="520848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Plavo stanj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293" idx="2"/>
              <a:endCxn id="293" idx="4"/>
            </p:cNvCxnSpPr>
            <p:nvPr/>
          </p:nvCxnSpPr>
          <p:spPr>
            <a:xfrm flipH="1" flipV="1" rot="10800000">
              <a:off x="1809360" y="4875840"/>
              <a:ext cx="162720" cy="162360"/>
            </a:xfrm>
            <a:prstGeom prst="curvedConnector5">
              <a:avLst>
                <a:gd name="adj1" fmla="val -135254"/>
                <a:gd name="adj2" fmla="val 117555"/>
                <a:gd name="adj3" fmla="val -135254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1325520" y="505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303" name=""/>
            <p:cNvCxnSpPr>
              <a:stCxn id="293" idx="6"/>
              <a:endCxn id="294" idx="2"/>
            </p:cNvCxnSpPr>
            <p:nvPr/>
          </p:nvCxnSpPr>
          <p:spPr>
            <a:xfrm>
              <a:off x="2133720" y="4876560"/>
              <a:ext cx="121032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04" name=""/>
            <p:cNvCxnSpPr>
              <a:stCxn id="294" idx="6"/>
              <a:endCxn id="294" idx="4"/>
            </p:cNvCxnSpPr>
            <p:nvPr/>
          </p:nvCxnSpPr>
          <p:spPr>
            <a:xfrm flipH="1">
              <a:off x="3504600" y="4876560"/>
              <a:ext cx="162360" cy="162360"/>
            </a:xfrm>
            <a:prstGeom prst="curvedConnector5">
              <a:avLst>
                <a:gd name="adj1" fmla="val -135111"/>
                <a:gd name="adj2" fmla="val 117555"/>
                <a:gd name="adj3" fmla="val -135111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05" name=""/>
            <p:cNvCxnSpPr>
              <a:stCxn id="294" idx="6"/>
              <a:endCxn id="294" idx="0"/>
            </p:cNvCxnSpPr>
            <p:nvPr/>
          </p:nvCxnSpPr>
          <p:spPr>
            <a:xfrm flipH="1" flipV="1">
              <a:off x="3504600" y="4714560"/>
              <a:ext cx="162360" cy="162720"/>
            </a:xfrm>
            <a:prstGeom prst="curvedConnector5">
              <a:avLst>
                <a:gd name="adj1" fmla="val -135111"/>
                <a:gd name="adj2" fmla="val 117516"/>
                <a:gd name="adj3" fmla="val -135111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06" name=""/>
            <p:cNvSpPr/>
            <p:nvPr/>
          </p:nvSpPr>
          <p:spPr>
            <a:xfrm>
              <a:off x="3840120" y="421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0120" y="505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920" y="426888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36640" y="3341520"/>
              <a:ext cx="260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(0|1)*.(0|1)*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efinicija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ačunarsk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ogramsk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čin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dobrim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ako definisat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stoji li definicija jezik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 li jezik definisati samog seb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stoji li univerzaln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repoznav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repoznavanje stringov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o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ite sa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tart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im stanjem i prvim slovom string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 svakom koraku, tražite poklapanje tekućeg slova sa oznakom grane prelask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navljati do kraja stringa ili nepoklap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ko ste u završnom stanju i došli ste do kraja stringa, automat prihvata datu riječ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 automata je skup svih stringova koje prihvata.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2"/>
            <a:endCxn id="312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5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2" idx="2"/>
            <a:endCxn id="312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7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2" idx="6"/>
            <a:endCxn id="313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9" name=""/>
          <p:cNvCxnSpPr>
            <a:stCxn id="313" idx="6"/>
            <a:endCxn id="313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20" name=""/>
          <p:cNvCxnSpPr>
            <a:stCxn id="313" idx="6"/>
            <a:endCxn id="313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1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36232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080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35" idx="2"/>
            <a:endCxn id="335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8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5" idx="2"/>
            <a:endCxn id="335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0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5" idx="6"/>
            <a:endCxn id="336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"/>
          <p:cNvCxnSpPr>
            <a:stCxn id="336" idx="6"/>
            <a:endCxn id="336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"/>
          <p:cNvCxnSpPr>
            <a:stCxn id="336" idx="6"/>
            <a:endCxn id="336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4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6668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357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7" idx="2"/>
            <a:endCxn id="357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0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57" idx="2"/>
            <a:endCxn id="357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2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7" idx="6"/>
            <a:endCxn id="358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4" name=""/>
          <p:cNvCxnSpPr>
            <a:stCxn id="358" idx="6"/>
            <a:endCxn id="358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5" name=""/>
          <p:cNvCxnSpPr>
            <a:stCxn id="358" idx="6"/>
            <a:endCxn id="358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6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430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119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9" idx="2"/>
            <a:endCxn id="379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2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9" idx="2"/>
            <a:endCxn id="379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4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9" idx="6"/>
            <a:endCxn id="380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6" name=""/>
          <p:cNvCxnSpPr>
            <a:stCxn id="380" idx="6"/>
            <a:endCxn id="380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7" name=""/>
          <p:cNvCxnSpPr>
            <a:stCxn id="380" idx="6"/>
            <a:endCxn id="380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8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2716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405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25480" y="128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1" idx="2"/>
            <a:endCxn id="401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4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401" idx="2"/>
            <a:endCxn id="401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6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1" idx="6"/>
            <a:endCxn id="402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8" name=""/>
          <p:cNvCxnSpPr>
            <a:stCxn id="402" idx="6"/>
            <a:endCxn id="402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9" name=""/>
          <p:cNvCxnSpPr>
            <a:stCxn id="402" idx="6"/>
            <a:endCxn id="402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10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5812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01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25480" y="128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47720" y="476712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ng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e prihvać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en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sanje vs. prepoznav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sno posmtrano, jezik je sku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egula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zraz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fin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u jezik 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mpo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icijo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utoma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fin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u jezik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mplemen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o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ređuju da li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ring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u jeziku ili n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eoret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su ekvivalentn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Automat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nstr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ja primjenom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ind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Dat je proizvoljan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egula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 izraz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onvertujemo ga u automat s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dnim p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čet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m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nj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dni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vrš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stanj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Automat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3800520" y="28195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4120" y="28195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8" idx="6"/>
            <a:endCxn id="429" idx="2"/>
          </p:cNvCxnSpPr>
          <p:nvPr/>
        </p:nvCxnSpPr>
        <p:spPr>
          <a:xfrm>
            <a:off x="4114800" y="297144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1" name=""/>
          <p:cNvSpPr/>
          <p:nvPr/>
        </p:nvSpPr>
        <p:spPr>
          <a:xfrm>
            <a:off x="2059560" y="26668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0520" y="39625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39625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6"/>
            <a:endCxn id="434" idx="2"/>
          </p:cNvCxnSpPr>
          <p:nvPr/>
        </p:nvCxnSpPr>
        <p:spPr>
          <a:xfrm>
            <a:off x="4114800" y="411444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6" name=""/>
          <p:cNvSpPr/>
          <p:nvPr/>
        </p:nvSpPr>
        <p:spPr>
          <a:xfrm>
            <a:off x="2052000" y="380988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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89560" y="3425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0000"/>
            </a:gs>
            <a:gs pos="100000">
              <a:srgbClr val="5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egled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Le</a:t>
            </a:r>
            <a:r>
              <a:rPr b="1" lang="sr-Latn-CS" sz="3200" spc="-1" strike="noStrike">
                <a:solidFill>
                  <a:srgbClr val="ffff99"/>
                </a:solidFill>
                <a:latin typeface="Tahoma"/>
              </a:rPr>
              <a:t>ksička analiz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Regular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ni izrazi (Regular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Expressions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Konačni automati (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inite State Automata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99"/>
                </a:solidFill>
                <a:latin typeface="Tahoma"/>
              </a:rPr>
              <a:t>deterministički (DKA, engl. DFA) 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99"/>
                </a:solidFill>
                <a:latin typeface="Tahoma"/>
              </a:rPr>
              <a:t>nedeterministički (NKA, engl. NFA) 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DFSA </a:t>
            </a:r>
            <a:r>
              <a:rPr b="0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NFSA </a:t>
            </a:r>
            <a:r>
              <a:rPr b="0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RE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 konverzija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intaksna analiz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Beskontekstni jezici (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text Free Languages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Parsi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ranje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sljedeće lekcije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0968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0140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1295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0720" y="18288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08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3820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7" idx="6"/>
            <a:endCxn id="480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1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672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672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905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826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29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190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9" idx="6"/>
            <a:endCxn id="502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3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6440" y="30481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5" idx="6"/>
            <a:endCxn id="512" idx="2"/>
          </p:cNvCxnSpPr>
          <p:nvPr/>
        </p:nvCxnSpPr>
        <p:spPr>
          <a:xfrm>
            <a:off x="4572000" y="373356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13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33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5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57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618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3" idx="6"/>
            <a:endCxn id="526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27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6440" y="30481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29" idx="6"/>
            <a:endCxn id="536" idx="2"/>
          </p:cNvCxnSpPr>
          <p:nvPr/>
        </p:nvCxnSpPr>
        <p:spPr>
          <a:xfrm>
            <a:off x="4572000" y="373356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7" name=""/>
          <p:cNvCxnSpPr>
            <a:stCxn id="532" idx="6"/>
            <a:endCxn id="524" idx="2"/>
          </p:cNvCxnSpPr>
          <p:nvPr/>
        </p:nvCxnSpPr>
        <p:spPr>
          <a:xfrm>
            <a:off x="7086240" y="3733560"/>
            <a:ext cx="677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38" name=""/>
          <p:cNvSpPr/>
          <p:nvPr/>
        </p:nvSpPr>
        <p:spPr>
          <a:xfrm>
            <a:off x="7317360" y="2971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619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540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743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904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3" idx="6"/>
            <a:endCxn id="586" idx="3"/>
          </p:cNvCxnSpPr>
          <p:nvPr/>
        </p:nvCxnSpPr>
        <p:spPr>
          <a:xfrm flipV="1">
            <a:off x="2895120" y="3470040"/>
            <a:ext cx="1035720" cy="52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7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83" idx="6"/>
            <a:endCxn id="591" idx="2"/>
          </p:cNvCxnSpPr>
          <p:nvPr/>
        </p:nvCxnSpPr>
        <p:spPr>
          <a:xfrm>
            <a:off x="2895480" y="3997440"/>
            <a:ext cx="905760" cy="65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6" name=""/>
          <p:cNvSpPr/>
          <p:nvPr/>
        </p:nvSpPr>
        <p:spPr>
          <a:xfrm>
            <a:off x="2964600" y="3159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40560" y="4302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7" idx="6"/>
            <a:endCxn id="610" idx="3"/>
          </p:cNvCxnSpPr>
          <p:nvPr/>
        </p:nvCxnSpPr>
        <p:spPr>
          <a:xfrm flipV="1">
            <a:off x="2895120" y="3470040"/>
            <a:ext cx="1035720" cy="52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1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40960" y="43434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07" idx="6"/>
            <a:endCxn id="616" idx="2"/>
          </p:cNvCxnSpPr>
          <p:nvPr/>
        </p:nvCxnSpPr>
        <p:spPr>
          <a:xfrm>
            <a:off x="2895480" y="3997440"/>
            <a:ext cx="905760" cy="65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1" name=""/>
          <p:cNvCxnSpPr>
            <a:stCxn id="613" idx="6"/>
            <a:endCxn id="608" idx="2"/>
          </p:cNvCxnSpPr>
          <p:nvPr/>
        </p:nvCxnSpPr>
        <p:spPr>
          <a:xfrm>
            <a:off x="5562720" y="3352680"/>
            <a:ext cx="829440" cy="610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2" name=""/>
          <p:cNvCxnSpPr>
            <a:stCxn id="617" idx="6"/>
            <a:endCxn id="608" idx="3"/>
          </p:cNvCxnSpPr>
          <p:nvPr/>
        </p:nvCxnSpPr>
        <p:spPr>
          <a:xfrm flipV="1">
            <a:off x="5562360" y="4079520"/>
            <a:ext cx="883080" cy="568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23" name=""/>
          <p:cNvSpPr/>
          <p:nvPr/>
        </p:nvSpPr>
        <p:spPr>
          <a:xfrm>
            <a:off x="6088680" y="2971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64600" y="3159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40560" y="4302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Zatvorenje (Kleene *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Opisivanje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lojevita struktura definicije jezik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f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abet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(azbuka)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osnovni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mbol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leksička struktur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riječ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intaksna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rečenic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emanti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značenj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u ovoj lekcij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: le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sička</a:t>
            </a:r>
            <a:r>
              <a:rPr b="0" lang="sr-Latn-C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s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nta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sna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72" name=""/>
          <p:cNvCxnSpPr/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3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74" name=""/>
          <p:cNvCxnSpPr/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5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stCxn id="686" idx="6"/>
            <a:endCxn id="689" idx="2"/>
          </p:cNvCxnSpPr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0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91" idx="6"/>
            <a:endCxn id="687" idx="2"/>
          </p:cNvCxnSpPr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4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1" idx="0"/>
            <a:endCxn id="689" idx="0"/>
          </p:cNvCxnSpPr>
          <p:nvPr/>
        </p:nvCxnSpPr>
        <p:spPr>
          <a:xfrm rot="5400000">
            <a:off x="4680000" y="3004920"/>
            <a:ext cx="2520" cy="1438920"/>
          </a:xfrm>
          <a:prstGeom prst="curvedConnector5">
            <a:avLst>
              <a:gd name="adj1" fmla="val -50900000"/>
              <a:gd name="adj2" fmla="val 50000"/>
              <a:gd name="adj3" fmla="val -50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7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0" name=""/>
          <p:cNvCxnSpPr>
            <a:stCxn id="708" idx="6"/>
            <a:endCxn id="711" idx="2"/>
          </p:cNvCxnSpPr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2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713" idx="6"/>
            <a:endCxn id="709" idx="2"/>
          </p:cNvCxnSpPr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6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3" idx="0"/>
            <a:endCxn id="711" idx="0"/>
          </p:cNvCxnSpPr>
          <p:nvPr/>
        </p:nvCxnSpPr>
        <p:spPr>
          <a:xfrm rot="5400000">
            <a:off x="4680000" y="3004920"/>
            <a:ext cx="2520" cy="1438920"/>
          </a:xfrm>
          <a:prstGeom prst="curvedConnector5">
            <a:avLst>
              <a:gd name="adj1" fmla="val -50900000"/>
              <a:gd name="adj2" fmla="val 50000"/>
              <a:gd name="adj3" fmla="val -50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9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08" idx="4"/>
            <a:endCxn id="709" idx="4"/>
          </p:cNvCxnSpPr>
          <p:nvPr/>
        </p:nvCxnSpPr>
        <p:spPr>
          <a:xfrm flipH="1" rot="16200000">
            <a:off x="4571280" y="2143440"/>
            <a:ext cx="2160" cy="3810960"/>
          </a:xfrm>
          <a:prstGeom prst="curvedConnector5">
            <a:avLst>
              <a:gd name="adj1" fmla="val 65780000"/>
              <a:gd name="adj2" fmla="val 49995"/>
              <a:gd name="adj3" fmla="val 657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1" name=""/>
          <p:cNvSpPr/>
          <p:nvPr/>
        </p:nvSpPr>
        <p:spPr>
          <a:xfrm>
            <a:off x="4421880" y="5257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FA vs. DF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F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m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lazak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više jedna prelaz iz svakog stanja za svako slovo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FA – 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može oboj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800520" y="3191040"/>
            <a:ext cx="1609560" cy="1724400"/>
            <a:chOff x="3800520" y="3191040"/>
            <a:chExt cx="1609560" cy="1724400"/>
          </a:xfrm>
        </p:grpSpPr>
        <p:sp>
          <p:nvSpPr>
            <p:cNvPr id="733" name=""/>
            <p:cNvSpPr/>
            <p:nvPr/>
          </p:nvSpPr>
          <p:spPr>
            <a:xfrm>
              <a:off x="3800520" y="387972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34" name=""/>
            <p:cNvCxnSpPr>
              <a:stCxn id="733" idx="6"/>
              <a:endCxn id="735" idx="3"/>
            </p:cNvCxnSpPr>
            <p:nvPr/>
          </p:nvCxnSpPr>
          <p:spPr>
            <a:xfrm flipV="1">
              <a:off x="4114440" y="3504960"/>
              <a:ext cx="1035720" cy="527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35" name=""/>
            <p:cNvSpPr/>
            <p:nvPr/>
          </p:nvSpPr>
          <p:spPr>
            <a:xfrm>
              <a:off x="5105520" y="32353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29200" y="453060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37" name=""/>
            <p:cNvCxnSpPr>
              <a:stCxn id="733" idx="6"/>
              <a:endCxn id="736" idx="2"/>
            </p:cNvCxnSpPr>
            <p:nvPr/>
          </p:nvCxnSpPr>
          <p:spPr>
            <a:xfrm>
              <a:off x="4114800" y="4032360"/>
              <a:ext cx="905760" cy="65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38" name=""/>
            <p:cNvSpPr/>
            <p:nvPr/>
          </p:nvSpPr>
          <p:spPr>
            <a:xfrm>
              <a:off x="4175280" y="3191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47280" y="433404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952360" y="372276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O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6772320" y="3191040"/>
            <a:ext cx="1609560" cy="1724400"/>
            <a:chOff x="6772320" y="3191040"/>
            <a:chExt cx="1609560" cy="1724400"/>
          </a:xfrm>
        </p:grpSpPr>
        <p:sp>
          <p:nvSpPr>
            <p:cNvPr id="742" name=""/>
            <p:cNvSpPr/>
            <p:nvPr/>
          </p:nvSpPr>
          <p:spPr>
            <a:xfrm>
              <a:off x="6772320" y="387972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43" name=""/>
            <p:cNvCxnSpPr>
              <a:stCxn id="742" idx="6"/>
              <a:endCxn id="744" idx="3"/>
            </p:cNvCxnSpPr>
            <p:nvPr/>
          </p:nvCxnSpPr>
          <p:spPr>
            <a:xfrm flipV="1">
              <a:off x="7086240" y="3504960"/>
              <a:ext cx="1035720" cy="527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44" name=""/>
            <p:cNvSpPr/>
            <p:nvPr/>
          </p:nvSpPr>
          <p:spPr>
            <a:xfrm>
              <a:off x="8077320" y="32353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01000" y="453060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2" idx="6"/>
              <a:endCxn id="745" idx="2"/>
            </p:cNvCxnSpPr>
            <p:nvPr/>
          </p:nvCxnSpPr>
          <p:spPr>
            <a:xfrm>
              <a:off x="7086600" y="4032360"/>
              <a:ext cx="905760" cy="65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47" name=""/>
            <p:cNvSpPr/>
            <p:nvPr/>
          </p:nvSpPr>
          <p:spPr>
            <a:xfrm>
              <a:off x="7147080" y="3191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23400" y="4334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555160" y="3494160"/>
            <a:ext cx="103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O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6553080" y="3048120"/>
            <a:ext cx="1904760" cy="1904400"/>
            <a:chOff x="6553080" y="3048120"/>
            <a:chExt cx="1904760" cy="1904400"/>
          </a:xfrm>
        </p:grpSpPr>
        <p:sp>
          <p:nvSpPr>
            <p:cNvPr id="751" name=""/>
            <p:cNvSpPr/>
            <p:nvPr/>
          </p:nvSpPr>
          <p:spPr>
            <a:xfrm>
              <a:off x="6553080" y="3048120"/>
              <a:ext cx="1904760" cy="1904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52" name=""/>
            <p:cNvCxnSpPr>
              <a:stCxn id="751" idx="3"/>
              <a:endCxn id="751" idx="7"/>
            </p:cNvCxnSpPr>
            <p:nvPr/>
          </p:nvCxnSpPr>
          <p:spPr>
            <a:xfrm flipV="1">
              <a:off x="6832800" y="3289680"/>
              <a:ext cx="1345680" cy="14202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onv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i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vođenje RE u automat kreira NK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Želimo da imamo DKA jer je algoritam prepoznavanja jednostavnij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mo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nver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at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D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 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l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može biti ekponencijalno veći od odgovarajućeg DK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lgoritam prevođenja postoj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gladjete knjigu i posebnu prezentaciju za još primjer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Stanje DKA je podskup skupa stanja NK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očetno stanje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KA odgovara skupu stanja u koja možemo preći iz p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četn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tanj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 NKA prateći 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elask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tanje DKA je završno ako se bar jedno završno stan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FA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lazi u skupu stanja koje predstavalja stanje DK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Prelasci iz stanja D DKA na slovo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eka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azan skup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ći skup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tanja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 koja su u D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524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ccffff"/>
                </a:solidFill>
                <a:latin typeface="Tahoma"/>
              </a:rPr>
              <a:t>Za svako stanje </a:t>
            </a:r>
            <a:r>
              <a:rPr b="0" lang="en-US" sz="2100" spc="-1" strike="noStrike">
                <a:solidFill>
                  <a:srgbClr val="ccffff"/>
                </a:solidFill>
                <a:latin typeface="Tahoma"/>
              </a:rPr>
              <a:t>n </a:t>
            </a:r>
            <a:r>
              <a:rPr b="0" lang="sr-Latn-CS" sz="2100" spc="-1" strike="noStrike">
                <a:solidFill>
                  <a:srgbClr val="ccffff"/>
                </a:solidFill>
                <a:latin typeface="Tahoma"/>
              </a:rPr>
              <a:t>iz</a:t>
            </a:r>
            <a:r>
              <a:rPr b="0" lang="en-US" sz="2100" spc="-1" strike="noStrike">
                <a:solidFill>
                  <a:srgbClr val="ccffff"/>
                </a:solidFill>
                <a:latin typeface="Tahoma"/>
              </a:rPr>
              <a:t> N</a:t>
            </a:r>
            <a:endParaRPr b="0" lang="en-US" sz="2100" spc="-1" strike="noStrike">
              <a:solidFill>
                <a:srgbClr val="cc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76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Naći skup stanja </a:t>
            </a:r>
            <a:r>
              <a:rPr b="0" lang="en-US" sz="1900" spc="-1" strike="noStrike">
                <a:solidFill>
                  <a:srgbClr val="ccffff"/>
                </a:solidFill>
                <a:latin typeface="Tahoma"/>
              </a:rPr>
              <a:t>N’ </a:t>
            </a: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u koje se može preći na slovo a</a:t>
            </a:r>
            <a:endParaRPr b="0" lang="en-US" sz="1900" spc="-1" strike="noStrike">
              <a:solidFill>
                <a:srgbClr val="cc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76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S </a:t>
            </a:r>
            <a:r>
              <a:rPr b="0" lang="sr-Latn-CS" sz="1900" spc="-1" strike="noStrike">
                <a:solidFill>
                  <a:srgbClr val="ccffff"/>
                </a:solidFill>
                <a:latin typeface="Symbol"/>
                <a:ea typeface="Symbol"/>
              </a:rPr>
              <a:t></a:t>
            </a:r>
            <a:r>
              <a:rPr b="0" lang="en-US" sz="1900" spc="-1" strike="noStrike">
                <a:solidFill>
                  <a:srgbClr val="ccffff"/>
                </a:solidFill>
                <a:latin typeface="Tahoma"/>
              </a:rPr>
              <a:t> S union N’</a:t>
            </a:r>
            <a:endParaRPr b="0" lang="en-US" sz="19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o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 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eprazan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t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da postoji prelazak iz stanja D u ono stanje DKA koje ima S kao skup stan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U suprotnom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ema prelaska iz D na slovo 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|b)*.(a|b)*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1488240" y="212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" y="1743120"/>
            <a:ext cx="381240" cy="3808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18116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59" idx="6"/>
            <a:endCxn id="760" idx="2"/>
          </p:cNvCxnSpPr>
          <p:nvPr/>
        </p:nvCxnSpPr>
        <p:spPr>
          <a:xfrm>
            <a:off x="809280" y="19332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2" name=""/>
          <p:cNvSpPr/>
          <p:nvPr/>
        </p:nvSpPr>
        <p:spPr>
          <a:xfrm>
            <a:off x="186696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6696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60" idx="7"/>
            <a:endCxn id="762" idx="3"/>
          </p:cNvCxnSpPr>
          <p:nvPr/>
        </p:nvCxnSpPr>
        <p:spPr>
          <a:xfrm flipV="1">
            <a:off x="1506240" y="162036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5" name=""/>
          <p:cNvCxnSpPr>
            <a:stCxn id="760" idx="5"/>
            <a:endCxn id="763" idx="1"/>
          </p:cNvCxnSpPr>
          <p:nvPr/>
        </p:nvCxnSpPr>
        <p:spPr>
          <a:xfrm>
            <a:off x="1506240" y="207792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6" name=""/>
          <p:cNvSpPr/>
          <p:nvPr/>
        </p:nvSpPr>
        <p:spPr>
          <a:xfrm>
            <a:off x="262908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88240" y="12826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7840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9" name=""/>
          <p:cNvCxnSpPr>
            <a:stCxn id="762" idx="6"/>
            <a:endCxn id="766" idx="2"/>
          </p:cNvCxnSpPr>
          <p:nvPr/>
        </p:nvCxnSpPr>
        <p:spPr>
          <a:xfrm>
            <a:off x="2257200" y="14760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0" name=""/>
          <p:cNvSpPr/>
          <p:nvPr/>
        </p:nvSpPr>
        <p:spPr>
          <a:xfrm>
            <a:off x="262908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stCxn id="763" idx="6"/>
            <a:endCxn id="770" idx="2"/>
          </p:cNvCxnSpPr>
          <p:nvPr/>
        </p:nvCxnSpPr>
        <p:spPr>
          <a:xfrm>
            <a:off x="2257200" y="23904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244600" y="1022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1000" y="247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148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5"/>
            <a:endCxn id="774" idx="1"/>
          </p:cNvCxnSpPr>
          <p:nvPr/>
        </p:nvCxnSpPr>
        <p:spPr>
          <a:xfrm>
            <a:off x="2954160" y="162072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6" name=""/>
          <p:cNvCxnSpPr>
            <a:stCxn id="770" idx="7"/>
            <a:endCxn id="774" idx="3"/>
          </p:cNvCxnSpPr>
          <p:nvPr/>
        </p:nvCxnSpPr>
        <p:spPr>
          <a:xfrm flipV="1">
            <a:off x="2954160" y="207756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7" name=""/>
          <p:cNvSpPr/>
          <p:nvPr/>
        </p:nvSpPr>
        <p:spPr>
          <a:xfrm>
            <a:off x="3031200" y="1292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0560" y="21780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006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74" idx="6"/>
            <a:endCxn id="779" idx="2"/>
          </p:cNvCxnSpPr>
          <p:nvPr/>
        </p:nvCxnSpPr>
        <p:spPr>
          <a:xfrm>
            <a:off x="3705120" y="1933200"/>
            <a:ext cx="2865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1" name=""/>
          <p:cNvSpPr/>
          <p:nvPr/>
        </p:nvSpPr>
        <p:spPr>
          <a:xfrm>
            <a:off x="369792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0" idx="4"/>
            <a:endCxn id="779" idx="4"/>
          </p:cNvCxnSpPr>
          <p:nvPr/>
        </p:nvCxnSpPr>
        <p:spPr>
          <a:xfrm flipH="1" rot="16200000">
            <a:off x="2780640" y="724320"/>
            <a:ext cx="2160" cy="2820240"/>
          </a:xfrm>
          <a:prstGeom prst="curvedConnector5">
            <a:avLst>
              <a:gd name="adj1" fmla="val 50080000"/>
              <a:gd name="adj2" fmla="val 49993"/>
              <a:gd name="adj3" fmla="val 500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3" name=""/>
          <p:cNvCxnSpPr>
            <a:stCxn id="774" idx="0"/>
            <a:endCxn id="760" idx="0"/>
          </p:cNvCxnSpPr>
          <p:nvPr/>
        </p:nvCxnSpPr>
        <p:spPr>
          <a:xfrm rot="5400000">
            <a:off x="2436840" y="666360"/>
            <a:ext cx="2520" cy="2134440"/>
          </a:xfrm>
          <a:prstGeom prst="curvedConnector5">
            <a:avLst>
              <a:gd name="adj1" fmla="val -56900000"/>
              <a:gd name="adj2" fmla="val 50000"/>
              <a:gd name="adj3" fmla="val -56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4" name=""/>
          <p:cNvSpPr/>
          <p:nvPr/>
        </p:nvSpPr>
        <p:spPr>
          <a:xfrm>
            <a:off x="3393000" y="977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5640" y="2273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83920" y="212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150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76840" y="17431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7" idx="6"/>
            <a:endCxn id="788" idx="2"/>
          </p:cNvCxnSpPr>
          <p:nvPr/>
        </p:nvCxnSpPr>
        <p:spPr>
          <a:xfrm>
            <a:off x="5305320" y="19332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0" name=""/>
          <p:cNvSpPr/>
          <p:nvPr/>
        </p:nvSpPr>
        <p:spPr>
          <a:xfrm>
            <a:off x="6362640" y="12859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62640" y="22003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2" name=""/>
          <p:cNvCxnSpPr>
            <a:stCxn id="788" idx="7"/>
            <a:endCxn id="790" idx="3"/>
          </p:cNvCxnSpPr>
          <p:nvPr/>
        </p:nvCxnSpPr>
        <p:spPr>
          <a:xfrm flipV="1">
            <a:off x="6002280" y="162036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3" name=""/>
          <p:cNvCxnSpPr>
            <a:stCxn id="788" idx="5"/>
            <a:endCxn id="791" idx="1"/>
          </p:cNvCxnSpPr>
          <p:nvPr/>
        </p:nvCxnSpPr>
        <p:spPr>
          <a:xfrm>
            <a:off x="6002280" y="207792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4" name=""/>
          <p:cNvSpPr/>
          <p:nvPr/>
        </p:nvSpPr>
        <p:spPr>
          <a:xfrm>
            <a:off x="712476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83920" y="12826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7444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7" name=""/>
          <p:cNvCxnSpPr>
            <a:stCxn id="790" idx="6"/>
            <a:endCxn id="794" idx="2"/>
          </p:cNvCxnSpPr>
          <p:nvPr/>
        </p:nvCxnSpPr>
        <p:spPr>
          <a:xfrm>
            <a:off x="6752880" y="14760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8" name=""/>
          <p:cNvSpPr/>
          <p:nvPr/>
        </p:nvSpPr>
        <p:spPr>
          <a:xfrm>
            <a:off x="712476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91" idx="6"/>
            <a:endCxn id="798" idx="2"/>
          </p:cNvCxnSpPr>
          <p:nvPr/>
        </p:nvCxnSpPr>
        <p:spPr>
          <a:xfrm>
            <a:off x="6752880" y="23904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0" name=""/>
          <p:cNvSpPr/>
          <p:nvPr/>
        </p:nvSpPr>
        <p:spPr>
          <a:xfrm>
            <a:off x="6740640" y="1022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37040" y="247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81056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4" idx="5"/>
            <a:endCxn id="802" idx="1"/>
          </p:cNvCxnSpPr>
          <p:nvPr/>
        </p:nvCxnSpPr>
        <p:spPr>
          <a:xfrm>
            <a:off x="7449840" y="162072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4" name=""/>
          <p:cNvCxnSpPr>
            <a:stCxn id="798" idx="7"/>
            <a:endCxn id="802" idx="3"/>
          </p:cNvCxnSpPr>
          <p:nvPr/>
        </p:nvCxnSpPr>
        <p:spPr>
          <a:xfrm flipV="1">
            <a:off x="7449840" y="207756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5" name=""/>
          <p:cNvSpPr/>
          <p:nvPr/>
        </p:nvSpPr>
        <p:spPr>
          <a:xfrm>
            <a:off x="7526880" y="1292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36600" y="21780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96360" y="1743120"/>
            <a:ext cx="380880" cy="38088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08" name=""/>
          <p:cNvCxnSpPr>
            <a:stCxn id="802" idx="6"/>
            <a:endCxn id="807" idx="2"/>
          </p:cNvCxnSpPr>
          <p:nvPr/>
        </p:nvCxnSpPr>
        <p:spPr>
          <a:xfrm>
            <a:off x="8200800" y="1933200"/>
            <a:ext cx="28620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9" name=""/>
          <p:cNvSpPr/>
          <p:nvPr/>
        </p:nvSpPr>
        <p:spPr>
          <a:xfrm>
            <a:off x="819360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88" idx="4"/>
            <a:endCxn id="807" idx="4"/>
          </p:cNvCxnSpPr>
          <p:nvPr/>
        </p:nvCxnSpPr>
        <p:spPr>
          <a:xfrm flipH="1" rot="16200000">
            <a:off x="7276320" y="724320"/>
            <a:ext cx="2160" cy="2820240"/>
          </a:xfrm>
          <a:prstGeom prst="curvedConnector5">
            <a:avLst>
              <a:gd name="adj1" fmla="val 50080000"/>
              <a:gd name="adj2" fmla="val 49993"/>
              <a:gd name="adj3" fmla="val 500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11" name=""/>
          <p:cNvCxnSpPr>
            <a:stCxn id="802" idx="0"/>
            <a:endCxn id="788" idx="0"/>
          </p:cNvCxnSpPr>
          <p:nvPr/>
        </p:nvCxnSpPr>
        <p:spPr>
          <a:xfrm rot="5400000">
            <a:off x="6932520" y="666360"/>
            <a:ext cx="2520" cy="2134440"/>
          </a:xfrm>
          <a:prstGeom prst="curvedConnector5">
            <a:avLst>
              <a:gd name="adj1" fmla="val -56900000"/>
              <a:gd name="adj2" fmla="val 50000"/>
              <a:gd name="adj3" fmla="val -56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2" name=""/>
          <p:cNvSpPr/>
          <p:nvPr/>
        </p:nvSpPr>
        <p:spPr>
          <a:xfrm>
            <a:off x="7889040" y="977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41320" y="2273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14" name=""/>
          <p:cNvCxnSpPr>
            <a:stCxn id="779" idx="6"/>
            <a:endCxn id="787" idx="2"/>
          </p:cNvCxnSpPr>
          <p:nvPr/>
        </p:nvCxnSpPr>
        <p:spPr>
          <a:xfrm>
            <a:off x="4390560" y="1933200"/>
            <a:ext cx="515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5" name=""/>
          <p:cNvSpPr/>
          <p:nvPr/>
        </p:nvSpPr>
        <p:spPr>
          <a:xfrm>
            <a:off x="4430520" y="12733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19000" y="4876920"/>
            <a:ext cx="1447920" cy="38088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52800" y="4114800"/>
            <a:ext cx="1523880" cy="38088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,7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52800" y="5638680"/>
            <a:ext cx="1523880" cy="38124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,7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62200" y="4876920"/>
            <a:ext cx="1905120" cy="38088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114800"/>
            <a:ext cx="2438280" cy="38088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,15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5638680"/>
            <a:ext cx="2438280" cy="38124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15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816" idx="0"/>
            <a:endCxn id="817" idx="1"/>
          </p:cNvCxnSpPr>
          <p:nvPr/>
        </p:nvCxnSpPr>
        <p:spPr>
          <a:xfrm flipV="1">
            <a:off x="1542600" y="4304520"/>
            <a:ext cx="600840" cy="562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3" name=""/>
          <p:cNvSpPr/>
          <p:nvPr/>
        </p:nvSpPr>
        <p:spPr>
          <a:xfrm>
            <a:off x="1901880" y="4460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16" idx="2"/>
            <a:endCxn id="818" idx="1"/>
          </p:cNvCxnSpPr>
          <p:nvPr/>
        </p:nvCxnSpPr>
        <p:spPr>
          <a:xfrm>
            <a:off x="1542600" y="5267160"/>
            <a:ext cx="600840" cy="563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5" name=""/>
          <p:cNvSpPr/>
          <p:nvPr/>
        </p:nvSpPr>
        <p:spPr>
          <a:xfrm>
            <a:off x="1441080" y="552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97000" y="41115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17" idx="3"/>
            <a:endCxn id="819" idx="0"/>
          </p:cNvCxnSpPr>
          <p:nvPr/>
        </p:nvCxnSpPr>
        <p:spPr>
          <a:xfrm>
            <a:off x="3686040" y="4304880"/>
            <a:ext cx="829440" cy="56268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28" name=""/>
          <p:cNvCxnSpPr>
            <a:stCxn id="818" idx="3"/>
            <a:endCxn id="819" idx="2"/>
          </p:cNvCxnSpPr>
          <p:nvPr/>
        </p:nvCxnSpPr>
        <p:spPr>
          <a:xfrm flipV="1">
            <a:off x="3686040" y="5266800"/>
            <a:ext cx="829440" cy="56304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9" name=""/>
          <p:cNvSpPr/>
          <p:nvPr/>
        </p:nvSpPr>
        <p:spPr>
          <a:xfrm>
            <a:off x="4030200" y="5330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30" name=""/>
          <p:cNvCxnSpPr>
            <a:stCxn id="819" idx="3"/>
            <a:endCxn id="820" idx="1"/>
          </p:cNvCxnSpPr>
          <p:nvPr/>
        </p:nvCxnSpPr>
        <p:spPr>
          <a:xfrm flipV="1">
            <a:off x="5476680" y="4304520"/>
            <a:ext cx="533880" cy="762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1" name=""/>
          <p:cNvSpPr/>
          <p:nvPr/>
        </p:nvSpPr>
        <p:spPr>
          <a:xfrm>
            <a:off x="5387760" y="43084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32" name=""/>
          <p:cNvCxnSpPr>
            <a:stCxn id="819" idx="3"/>
            <a:endCxn id="821" idx="1"/>
          </p:cNvCxnSpPr>
          <p:nvPr/>
        </p:nvCxnSpPr>
        <p:spPr>
          <a:xfrm>
            <a:off x="5476680" y="5067000"/>
            <a:ext cx="533880" cy="762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3" name=""/>
          <p:cNvSpPr/>
          <p:nvPr/>
        </p:nvSpPr>
        <p:spPr>
          <a:xfrm>
            <a:off x="5422320" y="5327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29040" y="449568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0800000">
            <a:off x="2647440" y="449532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78080" y="4613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36400" y="5070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372440" y="449568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0800000">
            <a:off x="6990840" y="449532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21480" y="4613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679800" y="5070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38440" y="3759120"/>
            <a:ext cx="609480" cy="35568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991200" y="3733920"/>
            <a:ext cx="609840" cy="35532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2657520" y="6045120"/>
            <a:ext cx="609480" cy="35568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010280" y="6019200"/>
            <a:ext cx="609840" cy="35532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81240" y="6013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12640" y="6013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16240" y="3699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559640" y="3679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16" idx="0"/>
            <a:endCxn id="819" idx="0"/>
          </p:cNvCxnSpPr>
          <p:nvPr/>
        </p:nvCxnSpPr>
        <p:spPr>
          <a:xfrm flipH="1" rot="16200000">
            <a:off x="3027600" y="3381120"/>
            <a:ext cx="2520" cy="2972520"/>
          </a:xfrm>
          <a:prstGeom prst="curvedConnector5">
            <a:avLst>
              <a:gd name="adj1" fmla="val -93200000"/>
              <a:gd name="adj2" fmla="val 50000"/>
              <a:gd name="adj3" fmla="val -932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1" name=""/>
          <p:cNvSpPr/>
          <p:nvPr/>
        </p:nvSpPr>
        <p:spPr>
          <a:xfrm>
            <a:off x="1534680" y="34257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|b)*.(a|b)*</a:t>
            </a:r>
            <a:endParaRPr b="1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-closure(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1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= {1,2,3,4,8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 = A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– po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č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o stanje 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DK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Trans(A,a)=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5}, jer imamo prelazak iz stanja 3 u stanje 5 na slovo 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-closure(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5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= {5,7,2,3,4,8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 =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U DKA imamo Trans(A,a) = B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k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č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ru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a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Svaki programski jezik ima više kategorija rječ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.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ipične kategorije s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ljučne riječ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if, while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ritmet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čk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er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+, -, *, /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eli brojev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1, 2, 45, 67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Realni brojev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1.0, .2, 3.337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dentif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ator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abc, i, j, ab345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običajeno je da imamo leksičku kategoriju za svaku ključnu riječ i/ili svaku kategoriju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Svaka leksička kategorija definiše se regulranim izrazo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ičke kategorije -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fKeyword = if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WhileKeyword = whil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Operator = +|-|*|/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nteger = [0-9] [0-9]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loat = [0-9]*. [0-9]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dentifier = [a-z]([a-z]|[0-9])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Note that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[0-9] = (0|1|2|3|4|5|6|7|8|9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4" marL="19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Tahoma"/>
              </a:rPr>
              <a:t>[a-z] = (a|b|c|…|y|z)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ljedeća faza kompajlera koristi leksičke kategorij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Formal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jezic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 je skup stringova (nizova karaktera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u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 pristu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Gene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sanje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gram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t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poznavanje riječi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parser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orm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 veza i mehanička koverzij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išemo r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e izraz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Svi stringovi nad alfabetom</a:t>
            </a: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 { &lt;, &gt; }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(&lt;|&gt;)*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ovi gdje iza otvorenih zagrada slijede zatvorene zagrade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*&gt;*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ovi sa odgovarajućim brojem otvorenih i zatvorenih zagrada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N</a:t>
            </a:r>
            <a:r>
              <a:rPr b="0" lang="sr-Latn-CS" sz="2600" spc="-1" strike="noStrike">
                <a:solidFill>
                  <a:srgbClr val="ccff99"/>
                </a:solidFill>
                <a:latin typeface="Tahoma"/>
              </a:rPr>
              <a:t>e može se napisati regularni izraz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! 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Ugnježedeni izraz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mo li regularnim izrazima opisati sintaks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obajte sljedeće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a+(b-c))*(d-(x-(y-z))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f (x &lt; y) if (y &lt; z) a = 5 else a = 6 else a = 7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Beskontekstne gramatike (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text-Free Grammar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nih simbol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{ Op, Int, Open, Close }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vaki terminal je definisan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egular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im izrazom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{ </a:t>
            </a:r>
            <a:r>
              <a:rPr b="0" i="1" lang="en-US" sz="2600" spc="-1" strike="noStrike">
                <a:solidFill>
                  <a:srgbClr val="ccffff"/>
                </a:solidFill>
                <a:latin typeface="Tahoma"/>
              </a:rPr>
              <a:t>Start, Exp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}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pravila (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produ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ja)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jedan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n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l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a lijeva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iz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l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a desne strane pravila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5486400" y="1447920"/>
            <a:ext cx="3505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en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s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činjemo sa neterminalom </a:t>
            </a:r>
            <a:r>
              <a:rPr b="0" i="1" lang="en-US" sz="3200" spc="-1" strike="noStrike">
                <a:solidFill>
                  <a:srgbClr val="ccffff"/>
                </a:solidFill>
                <a:latin typeface="Tahoma"/>
              </a:rPr>
              <a:t>Start</a:t>
            </a:r>
            <a:r>
              <a:rPr b="0" i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(ili onom koji je označen kao početni neterminal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oop until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ma neterminala u stringu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aber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erminal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aber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produ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ju sa tim netrminalom sa lijeve strane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amijeni neterminal sa desnom stranom produk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o je proces izvođenja (derivacije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 izvođe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96216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1523880"/>
            <a:ext cx="914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62520" y="2133720"/>
            <a:ext cx="914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2666880"/>
            <a:ext cx="83808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920" y="3200400"/>
            <a:ext cx="7617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76920" y="3809880"/>
            <a:ext cx="7617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53280" y="434340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43600" y="487692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8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8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 izvođe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+|-|*|/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|-|*|/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 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 - 1 &gt; + 1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38480" y="1371600"/>
            <a:ext cx="83844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43400" y="182880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48320" y="259092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76920" y="342900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05520" y="4191120"/>
            <a:ext cx="9903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10080" y="4648320"/>
            <a:ext cx="60984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791320" y="5410080"/>
            <a:ext cx="6858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8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8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8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500"/>
                            </p:stCondLst>
                            <p:childTnLst>
                              <p:par>
                                <p:cTn id="8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8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8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500"/>
                            </p:stCondLst>
                            <p:childTnLst>
                              <p:par>
                                <p:cTn id="8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8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Drvo parsira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nutrašnji čvorov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listov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ermin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gran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individu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 izvođenj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Drvo parsiranja 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&lt;2-1&gt;+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90" name=""/>
          <p:cNvSpPr/>
          <p:nvPr/>
        </p:nvSpPr>
        <p:spPr>
          <a:xfrm>
            <a:off x="4876200" y="10573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878000" y="1819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439360" y="2428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21000" y="26575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28760" y="2733840"/>
            <a:ext cx="7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45640" y="3114720"/>
            <a:ext cx="109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e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67760" y="3191040"/>
            <a:ext cx="10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41160" y="3267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33680" y="349560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2"/>
            <a:endCxn id="891" idx="0"/>
          </p:cNvCxnSpPr>
          <p:nvPr/>
        </p:nvCxnSpPr>
        <p:spPr>
          <a:xfrm flipH="1">
            <a:off x="5319000" y="1577520"/>
            <a:ext cx="26280" cy="2422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2"/>
            <a:endCxn id="894" idx="0"/>
          </p:cNvCxnSpPr>
          <p:nvPr/>
        </p:nvCxnSpPr>
        <p:spPr>
          <a:xfrm flipH="1">
            <a:off x="5312880" y="2340000"/>
            <a:ext cx="7200" cy="3945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1" name=""/>
          <p:cNvCxnSpPr>
            <a:stCxn id="891" idx="1"/>
            <a:endCxn id="892" idx="0"/>
          </p:cNvCxnSpPr>
          <p:nvPr/>
        </p:nvCxnSpPr>
        <p:spPr>
          <a:xfrm flipH="1">
            <a:off x="2880720" y="2079720"/>
            <a:ext cx="1996200" cy="349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2" name=""/>
          <p:cNvCxnSpPr>
            <a:stCxn id="891" idx="3"/>
            <a:endCxn id="893" idx="0"/>
          </p:cNvCxnSpPr>
          <p:nvPr/>
        </p:nvCxnSpPr>
        <p:spPr>
          <a:xfrm>
            <a:off x="5762160" y="2079360"/>
            <a:ext cx="700920" cy="5785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3" name=""/>
          <p:cNvCxnSpPr>
            <a:stCxn id="893" idx="2"/>
            <a:endCxn id="898" idx="0"/>
          </p:cNvCxnSpPr>
          <p:nvPr/>
        </p:nvCxnSpPr>
        <p:spPr>
          <a:xfrm flipH="1">
            <a:off x="6457320" y="3178080"/>
            <a:ext cx="540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4" name=""/>
          <p:cNvCxnSpPr>
            <a:stCxn id="892" idx="2"/>
            <a:endCxn id="897" idx="0"/>
          </p:cNvCxnSpPr>
          <p:nvPr/>
        </p:nvCxnSpPr>
        <p:spPr>
          <a:xfrm>
            <a:off x="2881440" y="2949480"/>
            <a:ext cx="216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5" name=""/>
          <p:cNvCxnSpPr>
            <a:stCxn id="892" idx="3"/>
            <a:endCxn id="896" idx="0"/>
          </p:cNvCxnSpPr>
          <p:nvPr/>
        </p:nvCxnSpPr>
        <p:spPr>
          <a:xfrm>
            <a:off x="3324240" y="2689200"/>
            <a:ext cx="984960" cy="5025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892" idx="1"/>
            <a:endCxn id="895" idx="0"/>
          </p:cNvCxnSpPr>
          <p:nvPr/>
        </p:nvCxnSpPr>
        <p:spPr>
          <a:xfrm flipH="1">
            <a:off x="1393200" y="2689200"/>
            <a:ext cx="1045080" cy="4262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7" name=""/>
          <p:cNvCxnSpPr>
            <a:stCxn id="897" idx="2"/>
            <a:endCxn id="908" idx="0"/>
          </p:cNvCxnSpPr>
          <p:nvPr/>
        </p:nvCxnSpPr>
        <p:spPr>
          <a:xfrm flipH="1">
            <a:off x="2876040" y="3787920"/>
            <a:ext cx="7200" cy="622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08" name=""/>
          <p:cNvSpPr/>
          <p:nvPr/>
        </p:nvSpPr>
        <p:spPr>
          <a:xfrm>
            <a:off x="2492280" y="4410000"/>
            <a:ext cx="7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97960" y="41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11000" y="501984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09" idx="2"/>
            <a:endCxn id="910" idx="0"/>
          </p:cNvCxnSpPr>
          <p:nvPr/>
        </p:nvCxnSpPr>
        <p:spPr>
          <a:xfrm flipH="1">
            <a:off x="1934640" y="4702320"/>
            <a:ext cx="576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12" name=""/>
          <p:cNvSpPr/>
          <p:nvPr/>
        </p:nvSpPr>
        <p:spPr>
          <a:xfrm>
            <a:off x="3507840" y="41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20520" y="509580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912" idx="2"/>
            <a:endCxn id="913" idx="0"/>
          </p:cNvCxnSpPr>
          <p:nvPr/>
        </p:nvCxnSpPr>
        <p:spPr>
          <a:xfrm flipH="1">
            <a:off x="3944160" y="4701960"/>
            <a:ext cx="540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15" name=""/>
          <p:cNvCxnSpPr>
            <a:stCxn id="897" idx="2"/>
            <a:endCxn id="912" idx="0"/>
          </p:cNvCxnSpPr>
          <p:nvPr/>
        </p:nvCxnSpPr>
        <p:spPr>
          <a:xfrm>
            <a:off x="2882520" y="3787560"/>
            <a:ext cx="106740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897" idx="2"/>
            <a:endCxn id="909" idx="0"/>
          </p:cNvCxnSpPr>
          <p:nvPr/>
        </p:nvCxnSpPr>
        <p:spPr>
          <a:xfrm flipH="1">
            <a:off x="1939320" y="3787560"/>
            <a:ext cx="94356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ar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&lt; 2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2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Op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Op Int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ar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96216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76920" y="152388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76920" y="2666880"/>
            <a:ext cx="2057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38480" y="3200400"/>
            <a:ext cx="25146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57800" y="373392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343400"/>
            <a:ext cx="2057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487692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9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6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1000" fill="hold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ksička analiza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(LA)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8382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Operator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=    +    -    &gt;    (    {   :=    ==    &lt;&gt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ljučne riječ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if    while   for    int    double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Numeri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 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43    6.035    -3.6e10    0x13F3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ara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ter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‘a’    ‘~’    ‘\’’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String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“6.891”   “Fall 98”   “\”\” = empty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 šta nisu token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Bjeline (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White space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space(‘ ‘)  tab(‘\t’)  end-of-line(‘\n’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omentar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/*this is not a token*/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167652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gradFill rotWithShape="0">
            <a:gsLst>
              <a:gs pos="0">
                <a:srgbClr val="cc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47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ource program text                 T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00" y="95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(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a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 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Drvo parsiranja za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(a, (a, a)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95280" y="762120"/>
            <a:ext cx="3960360" cy="5945400"/>
            <a:chOff x="4895280" y="762120"/>
            <a:chExt cx="3960360" cy="5945400"/>
          </a:xfrm>
        </p:grpSpPr>
        <p:sp>
          <p:nvSpPr>
            <p:cNvPr id="933" name=""/>
            <p:cNvSpPr/>
            <p:nvPr/>
          </p:nvSpPr>
          <p:spPr>
            <a:xfrm>
              <a:off x="48952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(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799960" y="612612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,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668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(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388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1560" y="612612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,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1400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956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)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5528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)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3736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4712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62336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42760" y="4362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52160" y="4362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58600" y="353520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66160" y="2600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01400" y="171936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08960" y="7621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2" idx="2"/>
              <a:endCxn id="934" idx="0"/>
            </p:cNvCxnSpPr>
            <p:nvPr/>
          </p:nvCxnSpPr>
          <p:spPr>
            <a:xfrm flipH="1">
              <a:off x="5538600" y="5823000"/>
              <a:ext cx="216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2" name=""/>
            <p:cNvCxnSpPr>
              <a:stCxn id="943" idx="2"/>
              <a:endCxn id="937" idx="0"/>
            </p:cNvCxnSpPr>
            <p:nvPr/>
          </p:nvCxnSpPr>
          <p:spPr>
            <a:xfrm flipH="1">
              <a:off x="6947640" y="5823000"/>
              <a:ext cx="252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3" name=""/>
            <p:cNvCxnSpPr>
              <a:stCxn id="944" idx="2"/>
              <a:endCxn id="939" idx="0"/>
            </p:cNvCxnSpPr>
            <p:nvPr/>
          </p:nvCxnSpPr>
          <p:spPr>
            <a:xfrm flipH="1">
              <a:off x="7818120" y="5823000"/>
              <a:ext cx="864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4" name=""/>
            <p:cNvCxnSpPr>
              <a:stCxn id="945" idx="2"/>
              <a:endCxn id="942" idx="0"/>
            </p:cNvCxnSpPr>
            <p:nvPr/>
          </p:nvCxnSpPr>
          <p:spPr>
            <a:xfrm>
              <a:off x="5540040" y="4941720"/>
              <a:ext cx="108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5" name=""/>
            <p:cNvCxnSpPr>
              <a:stCxn id="946" idx="2"/>
              <a:endCxn id="943" idx="0"/>
            </p:cNvCxnSpPr>
            <p:nvPr/>
          </p:nvCxnSpPr>
          <p:spPr>
            <a:xfrm>
              <a:off x="6949800" y="4941720"/>
              <a:ext cx="108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6" name=""/>
            <p:cNvCxnSpPr>
              <a:stCxn id="947" idx="2"/>
              <a:endCxn id="938" idx="0"/>
            </p:cNvCxnSpPr>
            <p:nvPr/>
          </p:nvCxnSpPr>
          <p:spPr>
            <a:xfrm flipH="1">
              <a:off x="7315920" y="4114440"/>
              <a:ext cx="40680" cy="20120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7" name=""/>
            <p:cNvCxnSpPr>
              <a:stCxn id="947" idx="2"/>
              <a:endCxn id="946" idx="0"/>
            </p:cNvCxnSpPr>
            <p:nvPr/>
          </p:nvCxnSpPr>
          <p:spPr>
            <a:xfrm flipH="1">
              <a:off x="6949440" y="4114800"/>
              <a:ext cx="407160" cy="248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8" name=""/>
            <p:cNvCxnSpPr>
              <a:stCxn id="947" idx="2"/>
              <a:endCxn id="944" idx="0"/>
            </p:cNvCxnSpPr>
            <p:nvPr/>
          </p:nvCxnSpPr>
          <p:spPr>
            <a:xfrm>
              <a:off x="7356240" y="4114440"/>
              <a:ext cx="470520" cy="11293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9" name=""/>
            <p:cNvCxnSpPr>
              <a:endCxn id="936" idx="0"/>
            </p:cNvCxnSpPr>
            <p:nvPr/>
          </p:nvCxnSpPr>
          <p:spPr>
            <a:xfrm>
              <a:off x="64004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0" name=""/>
            <p:cNvCxnSpPr>
              <a:endCxn id="940" idx="0"/>
            </p:cNvCxnSpPr>
            <p:nvPr/>
          </p:nvCxnSpPr>
          <p:spPr>
            <a:xfrm>
              <a:off x="82292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1" name=""/>
            <p:cNvCxnSpPr>
              <a:stCxn id="948" idx="2"/>
            </p:cNvCxnSpPr>
            <p:nvPr/>
          </p:nvCxnSpPr>
          <p:spPr>
            <a:xfrm flipH="1">
              <a:off x="6400440" y="3179520"/>
              <a:ext cx="969120" cy="1392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2" name=""/>
            <p:cNvCxnSpPr>
              <a:stCxn id="948" idx="2"/>
            </p:cNvCxnSpPr>
            <p:nvPr/>
          </p:nvCxnSpPr>
          <p:spPr>
            <a:xfrm>
              <a:off x="7369200" y="3179520"/>
              <a:ext cx="861120" cy="1392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3" name=""/>
            <p:cNvCxnSpPr>
              <a:stCxn id="948" idx="2"/>
              <a:endCxn id="947" idx="0"/>
            </p:cNvCxnSpPr>
            <p:nvPr/>
          </p:nvCxnSpPr>
          <p:spPr>
            <a:xfrm flipH="1">
              <a:off x="7355880" y="3179520"/>
              <a:ext cx="13320" cy="3560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4" name=""/>
            <p:cNvCxnSpPr/>
            <p:nvPr/>
          </p:nvCxnSpPr>
          <p:spPr>
            <a:xfrm>
              <a:off x="59432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5" name=""/>
            <p:cNvCxnSpPr>
              <a:stCxn id="949" idx="2"/>
            </p:cNvCxnSpPr>
            <p:nvPr/>
          </p:nvCxnSpPr>
          <p:spPr>
            <a:xfrm flipH="1">
              <a:off x="5942880" y="2298240"/>
              <a:ext cx="956520" cy="22741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6" name=""/>
            <p:cNvCxnSpPr>
              <a:stCxn id="949" idx="2"/>
              <a:endCxn id="945" idx="0"/>
            </p:cNvCxnSpPr>
            <p:nvPr/>
          </p:nvCxnSpPr>
          <p:spPr>
            <a:xfrm flipH="1">
              <a:off x="5539680" y="2298240"/>
              <a:ext cx="1359720" cy="20646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7" name=""/>
            <p:cNvCxnSpPr>
              <a:stCxn id="949" idx="2"/>
              <a:endCxn id="948" idx="0"/>
            </p:cNvCxnSpPr>
            <p:nvPr/>
          </p:nvCxnSpPr>
          <p:spPr>
            <a:xfrm>
              <a:off x="6899040" y="2298600"/>
              <a:ext cx="47052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8" name=""/>
            <p:cNvCxnSpPr/>
            <p:nvPr/>
          </p:nvCxnSpPr>
          <p:spPr>
            <a:xfrm>
              <a:off x="5028840" y="3352680"/>
              <a:ext cx="18360" cy="28202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9" name=""/>
            <p:cNvCxnSpPr>
              <a:stCxn id="950" idx="2"/>
            </p:cNvCxnSpPr>
            <p:nvPr/>
          </p:nvCxnSpPr>
          <p:spPr>
            <a:xfrm flipH="1">
              <a:off x="5028840" y="1341360"/>
              <a:ext cx="1883520" cy="19994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70" name=""/>
            <p:cNvCxnSpPr/>
            <p:nvPr/>
          </p:nvCxnSpPr>
          <p:spPr>
            <a:xfrm>
              <a:off x="8645040" y="3276360"/>
              <a:ext cx="18360" cy="281988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71" name=""/>
            <p:cNvCxnSpPr>
              <a:stCxn id="950" idx="2"/>
            </p:cNvCxnSpPr>
            <p:nvPr/>
          </p:nvCxnSpPr>
          <p:spPr>
            <a:xfrm>
              <a:off x="6911640" y="1341360"/>
              <a:ext cx="1734120" cy="19231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72" name=""/>
            <p:cNvCxnSpPr>
              <a:stCxn id="950" idx="2"/>
              <a:endCxn id="949" idx="0"/>
            </p:cNvCxnSpPr>
            <p:nvPr/>
          </p:nvCxnSpPr>
          <p:spPr>
            <a:xfrm flipH="1">
              <a:off x="6898680" y="1341360"/>
              <a:ext cx="13320" cy="3787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finisanje KSG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KSG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je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truktur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{S,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, N, T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}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tart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o stanj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produ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c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je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pravila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n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ermin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termin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V = N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p 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ma oblik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-&gt;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1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…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cc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2800" spc="-1" strike="noStrike" baseline="-25000">
                <a:solidFill>
                  <a:srgbClr val="ccff99"/>
                </a:solidFill>
                <a:latin typeface="Tahoma"/>
              </a:rPr>
              <a:t>i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 V</a:t>
            </a:r>
            <a:r>
              <a:rPr b="1" lang="sr-Latn-CS" sz="2800" spc="-1" strike="noStrike">
                <a:solidFill>
                  <a:srgbClr val="ccff99"/>
                </a:solidFill>
                <a:latin typeface="Tahoma"/>
              </a:rPr>
              <a:t>, i=1,...,n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Palindromi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e.g. “dennis sinned”, “abba”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    N = { E  }    S = 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 = { E -&gt; aEa | bEb |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99"/>
                </a:solidFill>
                <a:uFillTx/>
                <a:latin typeface="Tahoma"/>
              </a:rPr>
              <a:t>Deriva</a:t>
            </a:r>
            <a:r>
              <a:rPr b="0" lang="sr-Latn-CS" sz="3200" spc="-1" strike="noStrike" u="sng">
                <a:solidFill>
                  <a:srgbClr val="ccff99"/>
                </a:solidFill>
                <a:uFillTx/>
                <a:latin typeface="Tahoma"/>
              </a:rPr>
              <a:t>cija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sr-Latn-CS" sz="3200" spc="-1" strike="noStrike" u="sng">
                <a:solidFill>
                  <a:srgbClr val="ccff99"/>
                </a:solidFill>
                <a:uFillTx/>
                <a:latin typeface="Tahoma"/>
              </a:rPr>
              <a:t>Pravilo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1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E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 -&gt; aEa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2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Eb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 -&gt; bEb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3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b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-&gt; 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4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ba 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6172200" y="2362320"/>
            <a:ext cx="266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a  E  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b  E  b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   N = {  E  }     S = 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 = { E -&gt; aEa | bEb |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Parse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tablo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rontier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re-order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bilazak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Prikaz rečenic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4952880" y="2209680"/>
            <a:ext cx="403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 E 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 E 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2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N = { S }  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 = S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 = { S -&gt;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| aSbS | bSaS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v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sa jednakim broje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slova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a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b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914400" y="3276720"/>
            <a:ext cx="3581280" cy="2590560"/>
            <a:chOff x="914400" y="3276720"/>
            <a:chExt cx="3581280" cy="2590560"/>
          </a:xfrm>
        </p:grpSpPr>
        <p:sp>
          <p:nvSpPr>
            <p:cNvPr id="984" name=""/>
            <p:cNvSpPr/>
            <p:nvPr/>
          </p:nvSpPr>
          <p:spPr>
            <a:xfrm>
              <a:off x="1676520" y="5543640"/>
              <a:ext cx="4572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14400" y="4832280"/>
              <a:ext cx="363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38280" y="4832280"/>
              <a:ext cx="3668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33720" y="3276720"/>
              <a:ext cx="365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4832280"/>
              <a:ext cx="3664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20800" y="4832280"/>
              <a:ext cx="3668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29000" y="3987720"/>
              <a:ext cx="365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52480" y="3987720"/>
              <a:ext cx="365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89120" y="3987720"/>
              <a:ext cx="3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14400" y="3987720"/>
              <a:ext cx="3636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38480" y="4765680"/>
              <a:ext cx="4572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76720" y="5543640"/>
              <a:ext cx="4572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996" name=""/>
            <p:cNvCxnSpPr>
              <a:stCxn id="987" idx="2"/>
              <a:endCxn id="993" idx="0"/>
            </p:cNvCxnSpPr>
            <p:nvPr/>
          </p:nvCxnSpPr>
          <p:spPr>
            <a:xfrm flipH="1">
              <a:off x="1096200" y="3663720"/>
              <a:ext cx="122004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7" name=""/>
            <p:cNvCxnSpPr>
              <a:stCxn id="987" idx="2"/>
              <a:endCxn id="991" idx="0"/>
            </p:cNvCxnSpPr>
            <p:nvPr/>
          </p:nvCxnSpPr>
          <p:spPr>
            <a:xfrm flipH="1">
              <a:off x="1936440" y="3663720"/>
              <a:ext cx="38016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8" name=""/>
            <p:cNvCxnSpPr>
              <a:stCxn id="992" idx="0"/>
              <a:endCxn id="987" idx="2"/>
            </p:cNvCxnSpPr>
            <p:nvPr/>
          </p:nvCxnSpPr>
          <p:spPr>
            <a:xfrm flipH="1" flipV="1">
              <a:off x="2315880" y="3663360"/>
              <a:ext cx="45792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9" name=""/>
            <p:cNvCxnSpPr>
              <a:stCxn id="990" idx="0"/>
              <a:endCxn id="987" idx="2"/>
            </p:cNvCxnSpPr>
            <p:nvPr/>
          </p:nvCxnSpPr>
          <p:spPr>
            <a:xfrm flipH="1" flipV="1">
              <a:off x="2315880" y="3663360"/>
              <a:ext cx="129600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0" name=""/>
            <p:cNvCxnSpPr>
              <a:stCxn id="988" idx="0"/>
              <a:endCxn id="991" idx="2"/>
            </p:cNvCxnSpPr>
            <p:nvPr/>
          </p:nvCxnSpPr>
          <p:spPr>
            <a:xfrm flipH="1" flipV="1">
              <a:off x="1936080" y="4377600"/>
              <a:ext cx="156924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1" name=""/>
            <p:cNvCxnSpPr>
              <a:stCxn id="991" idx="2"/>
              <a:endCxn id="986" idx="0"/>
            </p:cNvCxnSpPr>
            <p:nvPr/>
          </p:nvCxnSpPr>
          <p:spPr>
            <a:xfrm>
              <a:off x="1936800" y="4377960"/>
              <a:ext cx="68472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2" name=""/>
            <p:cNvCxnSpPr>
              <a:stCxn id="991" idx="2"/>
              <a:endCxn id="989" idx="0"/>
            </p:cNvCxnSpPr>
            <p:nvPr/>
          </p:nvCxnSpPr>
          <p:spPr>
            <a:xfrm flipH="1">
              <a:off x="1904760" y="4377960"/>
              <a:ext cx="3240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3" name=""/>
            <p:cNvCxnSpPr>
              <a:stCxn id="991" idx="2"/>
              <a:endCxn id="985" idx="0"/>
            </p:cNvCxnSpPr>
            <p:nvPr/>
          </p:nvCxnSpPr>
          <p:spPr>
            <a:xfrm flipH="1">
              <a:off x="1096200" y="4377960"/>
              <a:ext cx="84060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4" name=""/>
            <p:cNvCxnSpPr>
              <a:stCxn id="989" idx="2"/>
              <a:endCxn id="984" idx="0"/>
            </p:cNvCxnSpPr>
            <p:nvPr/>
          </p:nvCxnSpPr>
          <p:spPr>
            <a:xfrm>
              <a:off x="1904760" y="5219640"/>
              <a:ext cx="1080" cy="32472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5" name=""/>
            <p:cNvCxnSpPr>
              <a:stCxn id="988" idx="2"/>
              <a:endCxn id="995" idx="0"/>
            </p:cNvCxnSpPr>
            <p:nvPr/>
          </p:nvCxnSpPr>
          <p:spPr>
            <a:xfrm>
              <a:off x="3504960" y="5219640"/>
              <a:ext cx="1080" cy="32472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6" name=""/>
            <p:cNvCxnSpPr>
              <a:stCxn id="990" idx="2"/>
              <a:endCxn id="994" idx="0"/>
            </p:cNvCxnSpPr>
            <p:nvPr/>
          </p:nvCxnSpPr>
          <p:spPr>
            <a:xfrm>
              <a:off x="3611160" y="4378320"/>
              <a:ext cx="656280" cy="3880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</p:grpSp>
      <p:sp>
        <p:nvSpPr>
          <p:cNvPr id="1007" name=""/>
          <p:cNvSpPr/>
          <p:nvPr/>
        </p:nvSpPr>
        <p:spPr>
          <a:xfrm>
            <a:off x="6913440" y="5613480"/>
            <a:ext cx="376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54760" y="3124080"/>
            <a:ext cx="2998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18200" y="3956040"/>
            <a:ext cx="30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1920" y="3956040"/>
            <a:ext cx="29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329520" y="395604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52880" y="3956040"/>
            <a:ext cx="29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251920" y="5613480"/>
            <a:ext cx="374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08" idx="2"/>
            <a:endCxn id="1012" idx="0"/>
          </p:cNvCxnSpPr>
          <p:nvPr/>
        </p:nvCxnSpPr>
        <p:spPr>
          <a:xfrm flipH="1">
            <a:off x="5103360" y="3578040"/>
            <a:ext cx="100080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5" name=""/>
          <p:cNvCxnSpPr>
            <a:stCxn id="1008" idx="2"/>
            <a:endCxn id="1010" idx="0"/>
          </p:cNvCxnSpPr>
          <p:nvPr/>
        </p:nvCxnSpPr>
        <p:spPr>
          <a:xfrm flipH="1">
            <a:off x="5790960" y="3578040"/>
            <a:ext cx="31320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6" name=""/>
          <p:cNvCxnSpPr>
            <a:stCxn id="1011" idx="0"/>
            <a:endCxn id="1008" idx="2"/>
          </p:cNvCxnSpPr>
          <p:nvPr/>
        </p:nvCxnSpPr>
        <p:spPr>
          <a:xfrm flipH="1" flipV="1">
            <a:off x="6103080" y="3577680"/>
            <a:ext cx="37692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7" name=""/>
          <p:cNvCxnSpPr>
            <a:stCxn id="1009" idx="0"/>
            <a:endCxn id="1008" idx="2"/>
          </p:cNvCxnSpPr>
          <p:nvPr/>
        </p:nvCxnSpPr>
        <p:spPr>
          <a:xfrm flipH="1" flipV="1">
            <a:off x="6103080" y="3577680"/>
            <a:ext cx="106596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6289560" y="4932360"/>
            <a:ext cx="30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2360" y="493236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267760" y="4932360"/>
            <a:ext cx="301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53400" y="493236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20" idx="0"/>
            <a:endCxn id="1009" idx="2"/>
          </p:cNvCxnSpPr>
          <p:nvPr/>
        </p:nvCxnSpPr>
        <p:spPr>
          <a:xfrm flipH="1" flipV="1">
            <a:off x="7168320" y="4409280"/>
            <a:ext cx="125028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3" name=""/>
          <p:cNvCxnSpPr>
            <a:stCxn id="1009" idx="2"/>
            <a:endCxn id="1019" idx="0"/>
          </p:cNvCxnSpPr>
          <p:nvPr/>
        </p:nvCxnSpPr>
        <p:spPr>
          <a:xfrm>
            <a:off x="7169040" y="4409640"/>
            <a:ext cx="52488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4" name=""/>
          <p:cNvCxnSpPr>
            <a:stCxn id="1009" idx="2"/>
            <a:endCxn id="1021" idx="0"/>
          </p:cNvCxnSpPr>
          <p:nvPr/>
        </p:nvCxnSpPr>
        <p:spPr>
          <a:xfrm flipH="1">
            <a:off x="7103880" y="4409640"/>
            <a:ext cx="6552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5" name=""/>
          <p:cNvCxnSpPr>
            <a:stCxn id="1009" idx="2"/>
            <a:endCxn id="1018" idx="0"/>
          </p:cNvCxnSpPr>
          <p:nvPr/>
        </p:nvCxnSpPr>
        <p:spPr>
          <a:xfrm flipH="1">
            <a:off x="6440040" y="4409640"/>
            <a:ext cx="72936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6" name=""/>
          <p:cNvCxnSpPr>
            <a:stCxn id="1021" idx="2"/>
            <a:endCxn id="1007" idx="0"/>
          </p:cNvCxnSpPr>
          <p:nvPr/>
        </p:nvCxnSpPr>
        <p:spPr>
          <a:xfrm flipH="1">
            <a:off x="7101720" y="5385960"/>
            <a:ext cx="2520" cy="2278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7" name=""/>
          <p:cNvCxnSpPr>
            <a:stCxn id="1020" idx="2"/>
            <a:endCxn id="1013" idx="0"/>
          </p:cNvCxnSpPr>
          <p:nvPr/>
        </p:nvCxnSpPr>
        <p:spPr>
          <a:xfrm>
            <a:off x="8418240" y="5385960"/>
            <a:ext cx="20880" cy="2278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sp>
        <p:nvSpPr>
          <p:cNvPr id="1028" name=""/>
          <p:cNvSpPr/>
          <p:nvPr/>
        </p:nvSpPr>
        <p:spPr>
          <a:xfrm>
            <a:off x="5130720" y="4873680"/>
            <a:ext cx="376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9" name=""/>
          <p:cNvCxnSpPr>
            <a:stCxn id="1010" idx="2"/>
            <a:endCxn id="1028" idx="0"/>
          </p:cNvCxnSpPr>
          <p:nvPr/>
        </p:nvCxnSpPr>
        <p:spPr>
          <a:xfrm flipH="1">
            <a:off x="5317920" y="4410000"/>
            <a:ext cx="475200" cy="46440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SG primjer 3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920" y="1447920"/>
            <a:ext cx="3733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Start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0" y="1676520"/>
            <a:ext cx="4572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kup tokena je  { +, -, *, /, Int }, gdje Int = [0-9][0-9]*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vaki Int n token predstavljamo samo sa 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676520" y="1692360"/>
            <a:ext cx="106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503760" y="356868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1080" y="5349960"/>
            <a:ext cx="40258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renutna pozicija u drv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209680" y="2209320"/>
            <a:ext cx="0" cy="31244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56560" y="5149800"/>
            <a:ext cx="197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29680" y="356868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76520" y="2514600"/>
            <a:ext cx="8344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endCxn id="1050" idx="0"/>
          </p:cNvCxnSpPr>
          <p:nvPr/>
        </p:nvCxnSpPr>
        <p:spPr>
          <a:xfrm>
            <a:off x="2092320" y="219564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451080" y="5349960"/>
            <a:ext cx="40258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renutna pozicija u drv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2209680" y="3048120"/>
            <a:ext cx="0" cy="2286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72720" y="515160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8480" y="3568680"/>
            <a:ext cx="186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64" name=""/>
          <p:cNvCxnSpPr>
            <a:endCxn id="1063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65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68" name=""/>
          <p:cNvCxnSpPr>
            <a:endCxn id="1067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69" name=""/>
          <p:cNvCxnSpPr>
            <a:endCxn id="1065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70" name=""/>
          <p:cNvCxnSpPr>
            <a:endCxn id="1066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7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71600" y="441972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47920" y="5029200"/>
            <a:ext cx="2971800" cy="380880"/>
          </a:xfrm>
          <a:prstGeom prst="rect">
            <a:avLst/>
          </a:prstGeom>
          <a:noFill/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35320" y="5151600"/>
            <a:ext cx="20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69520" y="3568680"/>
            <a:ext cx="195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3" name=""/>
          <p:cNvCxnSpPr>
            <a:endCxn id="108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8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7" name=""/>
          <p:cNvCxnSpPr>
            <a:endCxn id="108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8" name=""/>
          <p:cNvCxnSpPr>
            <a:endCxn id="108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9" name=""/>
          <p:cNvCxnSpPr>
            <a:endCxn id="108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0" name=""/>
          <p:cNvSpPr/>
          <p:nvPr/>
        </p:nvSpPr>
        <p:spPr>
          <a:xfrm>
            <a:off x="808200" y="4206960"/>
            <a:ext cx="109692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91" name=""/>
          <p:cNvCxnSpPr>
            <a:endCxn id="1090" idx="0"/>
          </p:cNvCxnSpPr>
          <p:nvPr/>
        </p:nvCxnSpPr>
        <p:spPr>
          <a:xfrm>
            <a:off x="135684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09680" y="4495680"/>
            <a:ext cx="3505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Expr +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Expr -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09680" y="5638680"/>
            <a:ext cx="2997360" cy="381240"/>
          </a:xfrm>
          <a:prstGeom prst="rect">
            <a:avLst/>
          </a:prstGeom>
          <a:noFill/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Skener u akcij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44434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45840" y="5151600"/>
            <a:ext cx="18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endCxn id="110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7" name=""/>
          <p:cNvCxnSpPr>
            <a:endCxn id="110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8" name=""/>
          <p:cNvCxnSpPr>
            <a:endCxn id="110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9" name=""/>
          <p:cNvCxnSpPr>
            <a:endCxn id="110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1" name=""/>
          <p:cNvCxnSpPr>
            <a:endCxn id="111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2" name=""/>
          <p:cNvSpPr/>
          <p:nvPr/>
        </p:nvSpPr>
        <p:spPr>
          <a:xfrm>
            <a:off x="840960" y="496872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3" name=""/>
          <p:cNvCxnSpPr>
            <a:endCxn id="1112" idx="0"/>
          </p:cNvCxnSpPr>
          <p:nvPr/>
        </p:nvCxnSpPr>
        <p:spPr>
          <a:xfrm>
            <a:off x="114912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4" name=""/>
          <p:cNvSpPr/>
          <p:nvPr/>
        </p:nvSpPr>
        <p:spPr>
          <a:xfrm>
            <a:off x="6128640" y="3568680"/>
            <a:ext cx="164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endCxn id="112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2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7" name=""/>
          <p:cNvCxnSpPr>
            <a:endCxn id="112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8" name=""/>
          <p:cNvCxnSpPr>
            <a:endCxn id="112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9" name=""/>
          <p:cNvCxnSpPr>
            <a:endCxn id="112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1" name=""/>
          <p:cNvCxnSpPr>
            <a:endCxn id="113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endCxn id="113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522840" y="2044800"/>
            <a:ext cx="84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3" name=""/>
          <p:cNvCxnSpPr>
            <a:endCxn id="114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91160" y="3429000"/>
            <a:ext cx="2844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7" name=""/>
          <p:cNvCxnSpPr>
            <a:endCxn id="1146" idx="0"/>
          </p:cNvCxnSpPr>
          <p:nvPr/>
        </p:nvCxnSpPr>
        <p:spPr>
          <a:xfrm flipH="1">
            <a:off x="2133360" y="3033720"/>
            <a:ext cx="216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endCxn id="114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endCxn id="114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1" name=""/>
          <p:cNvCxnSpPr>
            <a:endCxn id="115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endCxn id="115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3" name=""/>
          <p:cNvCxnSpPr>
            <a:endCxn id="116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6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7" name=""/>
          <p:cNvCxnSpPr>
            <a:endCxn id="116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8" name=""/>
          <p:cNvCxnSpPr>
            <a:endCxn id="116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9" name=""/>
          <p:cNvCxnSpPr>
            <a:endCxn id="116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71" name=""/>
          <p:cNvCxnSpPr>
            <a:endCxn id="117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74" name=""/>
          <p:cNvCxnSpPr>
            <a:endCxn id="117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96480" y="5151600"/>
            <a:ext cx="291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944320" y="3568680"/>
            <a:ext cx="201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*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85" name=""/>
          <p:cNvCxnSpPr>
            <a:endCxn id="1184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86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89" name=""/>
          <p:cNvCxnSpPr>
            <a:endCxn id="1188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0" name=""/>
          <p:cNvCxnSpPr>
            <a:endCxn id="1186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1" name=""/>
          <p:cNvCxnSpPr>
            <a:endCxn id="1187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92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93" name=""/>
          <p:cNvCxnSpPr>
            <a:endCxn id="1192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94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97" name=""/>
          <p:cNvCxnSpPr>
            <a:endCxn id="1196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endCxn id="1195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endCxn id="1194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00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01" name=""/>
          <p:cNvCxnSpPr>
            <a:endCxn id="1200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0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047280" y="5151600"/>
            <a:ext cx="18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17040" y="3568680"/>
            <a:ext cx="186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12" name=""/>
          <p:cNvCxnSpPr>
            <a:endCxn id="1211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13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16" name=""/>
          <p:cNvCxnSpPr>
            <a:endCxn id="1215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endCxn id="1213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8" name=""/>
          <p:cNvCxnSpPr>
            <a:endCxn id="1214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19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0" name=""/>
          <p:cNvCxnSpPr>
            <a:endCxn id="1219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1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4" name=""/>
          <p:cNvCxnSpPr>
            <a:endCxn id="1223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endCxn id="1222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endCxn id="1221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7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8" name=""/>
          <p:cNvCxnSpPr>
            <a:endCxn id="1227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9" name=""/>
          <p:cNvSpPr/>
          <p:nvPr/>
        </p:nvSpPr>
        <p:spPr>
          <a:xfrm>
            <a:off x="1855440" y="521172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30" name=""/>
          <p:cNvCxnSpPr>
            <a:endCxn id="1229" idx="0"/>
          </p:cNvCxnSpPr>
          <p:nvPr/>
        </p:nvCxnSpPr>
        <p:spPr>
          <a:xfrm>
            <a:off x="216324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3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0" name=""/>
          <p:cNvCxnSpPr>
            <a:endCxn id="1239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1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4" name=""/>
          <p:cNvCxnSpPr>
            <a:endCxn id="1243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5" name=""/>
          <p:cNvCxnSpPr>
            <a:endCxn id="1241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6" name=""/>
          <p:cNvCxnSpPr>
            <a:endCxn id="1242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7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8" name=""/>
          <p:cNvCxnSpPr>
            <a:endCxn id="1247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9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2" name=""/>
          <p:cNvCxnSpPr>
            <a:endCxn id="1251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3" name=""/>
          <p:cNvCxnSpPr>
            <a:endCxn id="1250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4" name=""/>
          <p:cNvCxnSpPr>
            <a:endCxn id="1249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5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endCxn id="1255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7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8" name=""/>
          <p:cNvCxnSpPr>
            <a:endCxn id="1257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670440" y="2044800"/>
            <a:ext cx="55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68" name=""/>
          <p:cNvCxnSpPr>
            <a:endCxn id="1267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69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72" name=""/>
          <p:cNvCxnSpPr>
            <a:endCxn id="1271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73" name=""/>
          <p:cNvCxnSpPr>
            <a:endCxn id="1269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endCxn id="1270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76" name=""/>
          <p:cNvCxnSpPr>
            <a:endCxn id="1275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7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0" name=""/>
          <p:cNvCxnSpPr>
            <a:endCxn id="1279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81" name=""/>
          <p:cNvCxnSpPr>
            <a:endCxn id="1278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82" name=""/>
          <p:cNvCxnSpPr>
            <a:endCxn id="1277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4" name=""/>
          <p:cNvCxnSpPr>
            <a:endCxn id="128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6" name=""/>
          <p:cNvCxnSpPr>
            <a:endCxn id="1285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2240" y="204480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endCxn id="1295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97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0" name=""/>
          <p:cNvCxnSpPr>
            <a:endCxn id="1299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1" name=""/>
          <p:cNvCxnSpPr>
            <a:endCxn id="1297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2" name=""/>
          <p:cNvCxnSpPr>
            <a:endCxn id="1298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03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4" name=""/>
          <p:cNvCxnSpPr>
            <a:endCxn id="1303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05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8" name=""/>
          <p:cNvCxnSpPr>
            <a:endCxn id="1307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9" name=""/>
          <p:cNvCxnSpPr>
            <a:endCxn id="1306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endCxn id="1305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12" name=""/>
          <p:cNvCxnSpPr>
            <a:endCxn id="1311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3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14" name=""/>
          <p:cNvCxnSpPr>
            <a:endCxn id="1313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762240" y="204480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07200" y="3568680"/>
            <a:ext cx="129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i="1" lang="sr-Latn-C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24" name=""/>
          <p:cNvCxnSpPr>
            <a:endCxn id="1323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25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28" name=""/>
          <p:cNvCxnSpPr>
            <a:endCxn id="1327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29" name=""/>
          <p:cNvCxnSpPr>
            <a:endCxn id="1325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0" name=""/>
          <p:cNvCxnSpPr>
            <a:endCxn id="1326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endCxn id="1331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84400" y="449568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endCxn id="1335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7" name=""/>
          <p:cNvCxnSpPr>
            <a:endCxn id="1334" idx="0"/>
          </p:cNvCxnSpPr>
          <p:nvPr/>
        </p:nvCxnSpPr>
        <p:spPr>
          <a:xfrm>
            <a:off x="3871440" y="3841920"/>
            <a:ext cx="459720" cy="654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8" name=""/>
          <p:cNvCxnSpPr>
            <a:endCxn id="1333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40" name=""/>
          <p:cNvCxnSpPr>
            <a:endCxn id="1339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41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42" name=""/>
          <p:cNvCxnSpPr>
            <a:endCxn id="1341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43" name=""/>
          <p:cNvSpPr/>
          <p:nvPr/>
        </p:nvSpPr>
        <p:spPr>
          <a:xfrm>
            <a:off x="3542400" y="1663560"/>
            <a:ext cx="176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te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kener u akcij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42440" y="2971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75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29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ID(“var1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4120" y="2971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eq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676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0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960" y="29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ID(“var1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800" y="2971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eq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657600"/>
            <a:ext cx="8534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Grupiše nizove karaktera u toke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Dodaje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tribute token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limin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še bjeline i komentar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07200" y="3568680"/>
            <a:ext cx="129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i="1" lang="sr-Latn-C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1" name=""/>
          <p:cNvCxnSpPr>
            <a:endCxn id="1350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52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5" name=""/>
          <p:cNvCxnSpPr>
            <a:endCxn id="1354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56" name=""/>
          <p:cNvCxnSpPr>
            <a:endCxn id="1352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endCxn id="1353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58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9" name=""/>
          <p:cNvCxnSpPr>
            <a:endCxn id="1358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0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84400" y="449568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3" name=""/>
          <p:cNvCxnSpPr>
            <a:endCxn id="1362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64" name=""/>
          <p:cNvCxnSpPr>
            <a:endCxn id="1361" idx="0"/>
          </p:cNvCxnSpPr>
          <p:nvPr/>
        </p:nvCxnSpPr>
        <p:spPr>
          <a:xfrm>
            <a:off x="3871440" y="3841920"/>
            <a:ext cx="459720" cy="654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endCxn id="1360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6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7" name=""/>
          <p:cNvCxnSpPr>
            <a:endCxn id="1366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8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endCxn id="1368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3542400" y="1663560"/>
            <a:ext cx="176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te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A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treba da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….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Identif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kuje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token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6036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Num(6035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X6035      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ID(“X6035”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 različitim jezicim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FORTRAN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DO I=1,10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C++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for(int i=1; i&lt;= 10; i++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R/S-plus     for (i in 1:10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gu li se ovi jezici opisati jednim jezikom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 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00:43:56Z</dcterms:created>
  <dc:creator>Martin Rinard</dc:creator>
  <dc:description/>
  <dc:language>en-US</dc:language>
  <cp:lastModifiedBy>gorans</cp:lastModifiedBy>
  <cp:lastPrinted>2007-08-30T19:57:49Z</cp:lastPrinted>
  <dcterms:modified xsi:type="dcterms:W3CDTF">2009-01-30T11:09:15Z</dcterms:modified>
  <cp:revision>1006</cp:revision>
  <dc:subject/>
  <dc:title>Design-Driven Compilation</dc:title>
</cp:coreProperties>
</file>