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B734-AAC1-41FD-A709-6B5F31D7AD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09E9-9DF4-4B8D-9FFC-36249E63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433C-2C37-480A-AF19-CFB61707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2256-F72A-4FAC-A4F9-A7F7DB3253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CD7B4-21DF-4DF5-9F7D-900C4DC5CE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73ED7-BE2E-4769-955F-2F2DB813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26212-BF32-4467-9988-B01A0C8F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761D0-70B9-4A38-84B0-4E819020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69499-9DAD-4F27-BD87-B2DCD01B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1F24F-D0D4-4CAC-833B-27240C51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87934-F70C-4D2C-8C66-1635A1D8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A843-7B15-47D2-B4A6-41E6B194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AEEB3-43AE-4C8D-883B-7AA34E20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E75A9-6699-401F-8D2E-A7E84EAD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9CF04-93FE-4943-94CA-13BE8A38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DDC1D-4382-4652-8379-0DE6F771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8D4DC-84B7-4B57-BDEE-FDAC0E076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567D-226A-4BEE-8F6A-B0CBCAFC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C7B1-3AAD-4FCC-AC88-D0F0AC7A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56F6-7735-4B25-8D32-4DDA444F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7D80-AA5A-4C1A-A32A-4DC63F21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6D5D-DCBD-4F87-A133-83BA5DFF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A737-674A-48D5-A576-3E56D41B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C54F-932D-4935-84BE-D8E1CF7A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A3CF-38A8-415C-A2E5-6E36C65B7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EA21-B563-414E-8A0D-338A1881D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Generating Cod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47488-0844-4EC4-B29D-270618C844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m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računa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om 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44625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395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657600" y="3154320"/>
            <a:ext cx="2362320" cy="2463120"/>
            <a:chOff x="3657600" y="3154320"/>
            <a:chExt cx="2362320" cy="2463120"/>
          </a:xfrm>
        </p:grpSpPr>
        <p:sp>
          <p:nvSpPr>
            <p:cNvPr id="122" name=""/>
            <p:cNvSpPr/>
            <p:nvPr/>
          </p:nvSpPr>
          <p:spPr>
            <a:xfrm>
              <a:off x="480060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0100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44719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57600" y="5157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3154320"/>
            <a:ext cx="3962520" cy="2723760"/>
            <a:chOff x="5181480" y="3154320"/>
            <a:chExt cx="3962520" cy="2723760"/>
          </a:xfrm>
        </p:grpSpPr>
        <p:sp>
          <p:nvSpPr>
            <p:cNvPr id="127" name=""/>
            <p:cNvSpPr/>
            <p:nvPr/>
          </p:nvSpPr>
          <p:spPr>
            <a:xfrm>
              <a:off x="731520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446256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0800" y="3306600"/>
              <a:ext cx="6094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9" idx="6"/>
              <a:endCxn id="127" idx="1"/>
            </p:cNvCxnSpPr>
            <p:nvPr/>
          </p:nvCxnSpPr>
          <p:spPr>
            <a:xfrm flipV="1">
              <a:off x="7009920" y="3387240"/>
              <a:ext cx="305640" cy="148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3" idx="3"/>
              <a:endCxn id="129" idx="3"/>
            </p:cNvCxnSpPr>
            <p:nvPr/>
          </p:nvCxnSpPr>
          <p:spPr>
            <a:xfrm flipV="1">
              <a:off x="6019560" y="3696840"/>
              <a:ext cx="470520" cy="546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2" idx="3"/>
              <a:endCxn id="129" idx="1"/>
            </p:cNvCxnSpPr>
            <p:nvPr/>
          </p:nvCxnSpPr>
          <p:spPr>
            <a:xfrm flipV="1">
              <a:off x="6019560" y="3372840"/>
              <a:ext cx="47052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" name=""/>
            <p:cNvSpPr/>
            <p:nvPr/>
          </p:nvSpPr>
          <p:spPr>
            <a:xfrm>
              <a:off x="5181480" y="5081760"/>
              <a:ext cx="396252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acc + top_of_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905120" y="3154320"/>
            <a:ext cx="2209680" cy="2799720"/>
            <a:chOff x="1905120" y="3154320"/>
            <a:chExt cx="2209680" cy="2799720"/>
          </a:xfrm>
        </p:grpSpPr>
        <p:sp>
          <p:nvSpPr>
            <p:cNvPr id="135" name=""/>
            <p:cNvSpPr/>
            <p:nvPr/>
          </p:nvSpPr>
          <p:spPr>
            <a:xfrm>
              <a:off x="2895480" y="44798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9548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5120" y="5157720"/>
              <a:ext cx="160020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ush 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95480" y="40147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CB2F7-AF5F-40C5-ACD6-4C43881661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Veći primj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3 + (7 + 5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Acc        Sta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133720"/>
            <a:ext cx="739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3                                  3              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                                 3 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7                                  7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                                 7 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5                                  5 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     12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                                       12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     15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                                       15             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2E7B-F30F-4CBC-93A1-62A0A68820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 važno da se stek očuva između izračunavanja podizraz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k prije izračunavan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, &lt;init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k poslije izračunavan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, &lt;init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eran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vrhu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A973-ADCF-4E8C-A213-547FE045CE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 d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jl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e kod 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šinu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a 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Želimo da startujemo rezultujući kod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proces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ram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nstrukci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 korišćenje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53FA-B1B9-4593-9728-9A14FC62D1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ul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j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 čuva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regis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 čuva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raste ka nižim adre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v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resa sledeće lokacije na steku čuva se u registr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h steka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adres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D612-D8E2-4D5B-BB3F-B797CC0A5F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arhit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psk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uced Instruction Set Computer (RISC) 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itmet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ke 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e koriste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i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za operande i rezul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ramo korist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ore 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cije za operande 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j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 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opšte namje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32 bi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svak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Koristićem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s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a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t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temporary regist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DC68-3A84-42A2-A558-20B2BCD7EF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i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IPS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str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fset(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32-bit word from addres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offs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w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fset(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32-bit word i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addres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off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m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i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” means overflow is not check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reg im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i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68E1-DFB3-4712-90E8-CF46D63198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mašine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IP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133720"/>
            <a:ext cx="4038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2133720"/>
            <a:ext cx="274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$a0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$a0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$t1 4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$a0 $a0 $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486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aliz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 na prosti jezi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D0B9-75CA-4487-BBA2-6EFCBAC551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eki korisni makroi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saćemo sledeće skraćen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 $t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p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  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p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 4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101B-65E4-4163-8756-7322EB61B2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osti jezi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zik sa cijelim brojevima i cjelobrojnim operatori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D; P | 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def id(ARGS) = 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RG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d, ARGS |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nt | id | if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else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|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|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–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| id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8742-ABC0-4585-B010-6EB53F297D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gled lekcij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a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b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rski jez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s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vor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z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plementacija pomoću 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-m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prostog jezi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39C2F-5EEB-4066-8FD6-A7EFA26FA3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osti jezi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va definicija funkci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main” rut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vršavan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 za ula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nači izračunav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bon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ijeve broje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ib(x) = if x = 1 then 0 el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x = 2 then 1 else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b(x - 1) + fib(x – 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2F51-FA0E-4ABB-B3DB-ADE8C541EB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rateg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ja generisanja ko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svaki izra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en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em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koj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zračunava vrijednos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sadržaj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imo funkciju za generisanje kod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)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iji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kod generisan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8689-0F61-4C2B-8AAE-8E4547B5C5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za izračunavanje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 samo je kopira u akumula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i) = li $a0 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mjetite da se čuva sadržaj steka, kao što je i zahtijev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ED8C-479A-4901-B734-B5628A8BF6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guć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imiz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avit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izra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tno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1FE1-A41B-441E-A11E-672AADD9B9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– pogrešan pristu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miz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tno 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ve $t1 $a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$a0 $t1 $a0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bajte da generišete kod z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 + (7 + 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29A1-056D-4FEA-B04D-635B2D82A8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- n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za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lat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sa prostorom za kod za izračunav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ek mašine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iv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staje spajanjem koda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biti implementirano kao rekurzivni spust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ursive-desc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na AST-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akar za izra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FD6B-0AAB-4D38-8E31-93BE8C997A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ub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ij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b 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r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b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7B61-FBD0-48FC-98D1-9E7FB87619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uslovne naredb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e su nam instrukcije kontrole tok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flow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ction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 instruk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q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(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ch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 instruk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ezuslovni skok na labelu (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onditional jump to labe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45D6-0F3B-4076-A397-B8141782FC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f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if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se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q $a0 $t1 true_bran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2286000"/>
            <a:ext cx="274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_bran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 end_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_bran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d_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A9A1-66CE-4550-ADCD-36D992C5FD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o drvo – primjer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oid main() { g();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184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>
              <a:stCxn id="182" idx="2"/>
              <a:endCxn id="184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187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endCxn id="187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9" name=""/>
          <p:cNvGrpSpPr/>
          <p:nvPr/>
        </p:nvGrpSpPr>
        <p:grpSpPr>
          <a:xfrm>
            <a:off x="4800600" y="5257800"/>
            <a:ext cx="609480" cy="840600"/>
            <a:chOff x="4800600" y="5257800"/>
            <a:chExt cx="609480" cy="840600"/>
          </a:xfrm>
        </p:grpSpPr>
        <p:sp>
          <p:nvSpPr>
            <p:cNvPr id="190" name=""/>
            <p:cNvSpPr/>
            <p:nvPr/>
          </p:nvSpPr>
          <p:spPr>
            <a:xfrm>
              <a:off x="480060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4" idx="2"/>
              <a:endCxn id="190" idx="0"/>
            </p:cNvCxnSpPr>
            <p:nvPr/>
          </p:nvCxnSpPr>
          <p:spPr>
            <a:xfrm>
              <a:off x="5105160" y="5257800"/>
              <a:ext cx="1080" cy="381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3FBA-58FC-403F-9F27-3B526DF141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k 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š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dnostavan model izračunavan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romjenljivih ili regista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vrijednosti za međurezul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intermediate resul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F482-CA2B-4C38-8D92-448EF85E4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o drvo – primjer 2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f(int x) {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(x == 0) { return g(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se { return f(x - 1); 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main() { f(3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crtati aktivaciono drvo za ovaj primj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F720-DC3D-47C6-9F45-25E907D718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 drvo zavisi od ponašanja u vrijeme izvršavanj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-time behavi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 drvo može biti različito za različite ulazne podat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su aktivacije pravilno ugnježdene, stek se može koristiti za tekuću aktivnu procedur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440C-2792-4D39-A4F0-EF96B88E5B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1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();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03848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DCA7-2013-46CC-8531-7BCCFE1F83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2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03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1" idx="2"/>
              <a:endCxn id="203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05" name=""/>
          <p:cNvSpPr/>
          <p:nvPr/>
        </p:nvSpPr>
        <p:spPr>
          <a:xfrm>
            <a:off x="6095880" y="4038480"/>
            <a:ext cx="198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g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C17B-6287-4676-9E7C-B2F30E2953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3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10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08" idx="2"/>
              <a:endCxn id="210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213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8" idx="2"/>
              <a:endCxn id="213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15" name=""/>
          <p:cNvSpPr/>
          <p:nvPr/>
        </p:nvSpPr>
        <p:spPr>
          <a:xfrm>
            <a:off x="6095880" y="4038480"/>
            <a:ext cx="198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f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 f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7C14-CA59-404C-BD4A-1C03C7F3A8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4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220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8" idx="2"/>
              <a:endCxn id="220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2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23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endCxn id="223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4800600" y="5257800"/>
            <a:ext cx="609480" cy="840600"/>
            <a:chOff x="4800600" y="5257800"/>
            <a:chExt cx="609480" cy="840600"/>
          </a:xfrm>
        </p:grpSpPr>
        <p:sp>
          <p:nvSpPr>
            <p:cNvPr id="226" name=""/>
            <p:cNvSpPr/>
            <p:nvPr/>
          </p:nvSpPr>
          <p:spPr>
            <a:xfrm>
              <a:off x="480060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>
              <a:stCxn id="220" idx="2"/>
              <a:endCxn id="226" idx="0"/>
            </p:cNvCxnSpPr>
            <p:nvPr/>
          </p:nvCxnSpPr>
          <p:spPr>
            <a:xfrm>
              <a:off x="5105160" y="5257800"/>
              <a:ext cx="1080" cy="381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28" name=""/>
          <p:cNvSpPr/>
          <p:nvPr/>
        </p:nvSpPr>
        <p:spPr>
          <a:xfrm>
            <a:off x="6095880" y="4038480"/>
            <a:ext cx="198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g() { return 1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f() { return g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 f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093C-168A-48F0-A23A-B89573C21A4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icksort – aktivaciono drv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a[10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partition(int m, int n) { //Choose a pivot value "v",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reorder sub-array a[m..n] such that a[m..p-1] are all &lt; v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a[p] = v, and a[p+1...n] are all &gt;= v; return 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id quicksort(int m, int n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n &gt; m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= partition(m, 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sort(m, i-1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sort(i+1, 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5AEB-BC2F-4490-8016-E430DBEAC2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icksort – aktivaciono drv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7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F773-BE24-4DFC-B940-01754F7E34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zap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U jezicima koji imaju rekurziju, moramo razlikovati defin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u i poziv funkc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oziv f-ije kreira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"instanc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"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"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tiv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u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; može postojati više aktivacija istovreme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Svaka aktivacija ima memorijske zahtjeve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arametr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i f-ije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, lo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al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ne promjenljive i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dodatni prostor koji kompajler odredi da bi implementirao tijelo f-ij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Povratnu (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return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 informa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ciju: gdje i kako će se nastaviti izvršavanje kada se poziv f-ije završi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Aktivacioni zapis (a</a:t>
            </a:r>
            <a:r>
              <a:rPr b="1" lang="en-US" sz="2400" spc="-1" strike="noStrike">
                <a:solidFill>
                  <a:srgbClr val="000000"/>
                </a:solidFill>
                <a:latin typeface="Palatino-Bold"/>
              </a:rPr>
              <a:t>ctivation record</a:t>
            </a: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, AR)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 – blok memorije rezervisan za aktivaciju f-ije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emo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ja u AR je validna samo dok se f-ija izvršava; po završetku f-ije ona se oslobađ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5C78-15FE-4474-ABF9-AE779AEBFA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R se može alocirati statički (na primjer, Fortran), na steku (C, C++, Java) ili heapu (Lisp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Scheme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Oblik AR može se zaključiti u vrijeme prevođenja iz d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larac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void Simple(int a, int b) // two value pa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nt temp1, temp2; // temporary local 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 primjeru, poteban nam je prostor za 4 int-a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temp1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temp2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ko je sizeof(int)=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R će imati bar 16 bajto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28A4-CECF-4E95-A909-056C3414EE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programa za stek mašinu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te su dvi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-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tavi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o broj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 vr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-  pop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emen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abiramo ih i postavljamo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rezultat na ste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gram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izračunavanje izra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+ 5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2A0C-ED92-48A9-9E5D-4B5300C703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protoko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Na stek se smještaju aktivacioni zapisi f-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ktivacioni protokol – način na koji se vrši predaja kontrole i funkcija iz pozivačke funkcije u pozvanu funkciju i obrat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Različiti jezici ili implementacije istog jezika imaju različite protoko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rotokol treba da zada i opšti raspored memorijskog prostora unutar samog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ktivacionog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zapisa. Na primjer, parametri f-ije se dodaju right-to-left, pa povratna adresa, pa lokalne promjenljive top-to-bott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F846-D9FC-4015-A505-4354BC5E55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protokol – jezik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 (pozivačka f-ija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na stek stavlja </a:t>
            </a:r>
            <a:r>
              <a:rPr b="1" lang="en-US" sz="2400" spc="-1" strike="noStrike">
                <a:solidFill>
                  <a:srgbClr val="000000"/>
                </a:solidFill>
                <a:latin typeface="Palatino-Bold"/>
              </a:rPr>
              <a:t>paramet</a:t>
            </a: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in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alizuje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paramet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e u novom AR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op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ra vrijednosti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sačuva stanje i povratnu informaciju (dodaju se 4 bajta iznad parametara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suspend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je svoj rad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 pozvana f-ija (callee) na stek postavlja prostor za lokalne promjenljive i počinje izvršavanje od početka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ozvana f-ija se izvršava pristupajući promjenljivim i parametrima iz AR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ada pozvana f-ija završi rad, dio AR se izbaci sa ste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ontrol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 se predaje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s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čuvanoj povratnoj adresi u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calle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-u, koji uklanja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arametre sa stek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E6A2-33CB-4D3E-926A-677C31CEDAE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t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ostoje specijalizovane instrukcije za rad sa stekom, da bi se radnje pri pozivu f-ije 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bile efikasn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Neki kompajleri čuvaju pojedine parametre f-ije u specijalnim registrima (pogledati MI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ostoje i registri koji čuvaju pokazivač na vrh steka (registar SP), programskog brojača (registar PC) i povratne vrijednosti (registar RV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Ostali registri su opšte namje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17F6-824B-4C0E-A541-4013D3FDDC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f-ije Simp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40520" cy="3032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4876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-Roman"/>
              </a:rPr>
              <a:t>AR možemo posmatrati kao dvije strukture u 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116A-4AAC-4750-87E5-637D4B1B1D5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R kao C struktur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SimpleActivationLocal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2; // offset 0 (from S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1; // offset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SimpleActivationParameters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; // offset 12 (from S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b; // offset 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A5A0-A418-4A00-AC63-5DE051E4669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roto</a:t>
            </a: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ol </a:t>
            </a: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dozvoljava generisanje koda bez stvarno poznate adrese aktivacionog zapi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Kod radi isto za aktivaciju svake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U kodu nema traga o stvarnim identifikatorima koji su bili u source kodu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999B1-0C81-4554-8167-49720BE2E8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m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 prikaz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1523880"/>
            <a:ext cx="2727360" cy="4648320"/>
          </a:xfrm>
          <a:custGeom>
            <a:avLst/>
            <a:gdLst/>
            <a:ahLst/>
            <a:rect l="l" t="t" r="r" b="b"/>
            <a:pathLst>
              <a:path w="720" h="384">
                <a:moveTo>
                  <a:pt x="0" y="384"/>
                </a:moveTo>
                <a:lnTo>
                  <a:pt x="0" y="0"/>
                </a:lnTo>
                <a:lnTo>
                  <a:pt x="720" y="0"/>
                </a:lnTo>
                <a:lnTo>
                  <a:pt x="720" y="384"/>
                </a:lnTo>
              </a:path>
            </a:pathLst>
          </a:custGeom>
          <a:solidFill>
            <a:srgbClr val="cc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0040" y="312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7960" y="3352680"/>
            <a:ext cx="5331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588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960" y="5638680"/>
            <a:ext cx="5331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11120" y="2209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11120" y="3352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11120" y="4495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eđurezulat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4495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733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05320" y="3276720"/>
            <a:ext cx="21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vrat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4114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4800600"/>
            <a:ext cx="4191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i poda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st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a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 u toku izvršava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3352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08440" y="3352680"/>
            <a:ext cx="4054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nk ka AR-u pozivačke f-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07720" y="25909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7200" y="2209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13120" y="2438280"/>
            <a:ext cx="4050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 teku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eni od pozivač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038120" y="3428640"/>
            <a:ext cx="685800" cy="152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038120" y="3962520"/>
            <a:ext cx="76212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3886200"/>
            <a:ext cx="4191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ink ka nelokalnim podacima (access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FE11-4248-4E26-AEF3-D5BB78371BD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ck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me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86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305920" cy="4419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973160" y="1581120"/>
            <a:ext cx="5200920" cy="46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1856-2BA9-43CB-8C50-A59805920F8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ess (static)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5867280" cy="33163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5720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jezicima kao PASCAL ili SML, definicije funkcija (procedura) mogu biti ugn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C19A-5468-487F-894A-F79AD74AEF6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209760" cy="3598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200" y="15238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tatička veza funkcije f pokazuje na posljednji AR funkcije koja statički sadrži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f ne pripada statički nijednoj funkciji, tada je njegov statička vez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47F8-25AB-4E1D-B87E-1EE7086FC1E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zima svoje operande sa vrha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klanja operande sa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mjenjuje operaciju nad operand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aća (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h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5812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00600" y="1600200"/>
            <a:ext cx="1219320" cy="1396440"/>
            <a:chOff x="4800600" y="1600200"/>
            <a:chExt cx="1219320" cy="1396440"/>
          </a:xfrm>
        </p:grpSpPr>
        <p:sp>
          <p:nvSpPr>
            <p:cNvPr id="94" name=""/>
            <p:cNvSpPr/>
            <p:nvPr/>
          </p:nvSpPr>
          <p:spPr>
            <a:xfrm>
              <a:off x="4800600" y="160020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00600" y="20750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25369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657600" y="322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2057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25146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82880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5"/>
            <a:endCxn id="98" idx="1"/>
          </p:cNvCxnSpPr>
          <p:nvPr/>
        </p:nvCxnSpPr>
        <p:spPr>
          <a:xfrm>
            <a:off x="6997680" y="2219400"/>
            <a:ext cx="317880" cy="7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100" idx="3"/>
          </p:cNvCxnSpPr>
          <p:nvPr/>
        </p:nvCxnSpPr>
        <p:spPr>
          <a:xfrm flipV="1">
            <a:off x="6019560" y="2218680"/>
            <a:ext cx="546480" cy="8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100" idx="2"/>
          </p:cNvCxnSpPr>
          <p:nvPr/>
        </p:nvCxnSpPr>
        <p:spPr>
          <a:xfrm>
            <a:off x="6019920" y="1833480"/>
            <a:ext cx="457920" cy="224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895480" y="25750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252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1099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6081-A38B-4C4F-A4B6-FC2981D31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ziv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 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a veza 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kazuje na posljednji AR za P na ste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ome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ože postojati više AR za funkciju P na steku; Q će pokazivati na posljednji od nj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nema AR za P na steku, nije moguće pozvati Q, jer je Q sakriven izvan P u program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4789-C428-44B5-9D61-C21B9D007A9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zgled steka za f-ije P i Q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069480" cy="60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AC61-D6EE-43B8-A74D-14866E4FAD2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laženje statičke vez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 postavlj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poziva f-ij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ivač zna i sebe i pozvanu f-ij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vana f-ija ne zna pozivač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ka s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2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ubine ugnježdavanja pozivačke i pozvane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Kada je pozvana f-ija leksički unutar tij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 pozivača tj. kada j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2=L1+1,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važi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c_link = $f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Inače, slijedim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c link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ivač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1-L2+1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u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=L2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mo da 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_link =Mem[$fp-8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pr. z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=L2+2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m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_link =Mem[Mem[Mem[$fp-8]-8]-8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4623-7C02-4A6E-9D64-383A4049611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laženje statičke vez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082080" cy="479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16F8-F1E7-4CBA-9772-D1846B73014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AR za Java progra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 f(int x)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f (x == 0) { return g();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lse { return f(x - 1);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(**)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oid main() { f(3);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(*)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0" y="4273560"/>
          <a:ext cx="2590560" cy="18223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ol l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 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D558-9D8E-4E7B-A25C-6C3FFF2ECF4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k poslije 2 poziva f-ij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4382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33526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2670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8098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9" idx="2"/>
            <a:endCxn id="300" idx="3"/>
          </p:cNvCxnSpPr>
          <p:nvPr/>
        </p:nvCxnSpPr>
        <p:spPr>
          <a:xfrm flipH="1" flipV="1" rot="5400000">
            <a:off x="3294720" y="2685240"/>
            <a:ext cx="1600920" cy="648360"/>
          </a:xfrm>
          <a:prstGeom prst="curvedConnector5">
            <a:avLst>
              <a:gd name="adj1" fmla="val -14282"/>
              <a:gd name="adj2" fmla="val 67611"/>
              <a:gd name="adj3" fmla="val -14282"/>
            </a:avLst>
          </a:prstGeom>
          <a:ln w="0">
            <a:noFill/>
          </a:ln>
        </p:spPr>
      </p:cxnSp>
      <p:sp>
        <p:nvSpPr>
          <p:cNvPr id="301" name=""/>
          <p:cNvSpPr/>
          <p:nvPr/>
        </p:nvSpPr>
        <p:spPr>
          <a:xfrm>
            <a:off x="3124080" y="42670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51814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0958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42670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42670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56386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09680" y="1981080"/>
            <a:ext cx="2210040" cy="459720"/>
            <a:chOff x="2209680" y="1981080"/>
            <a:chExt cx="2210040" cy="459720"/>
          </a:xfrm>
        </p:grpSpPr>
        <p:sp>
          <p:nvSpPr>
            <p:cNvPr id="300" name=""/>
            <p:cNvSpPr/>
            <p:nvPr/>
          </p:nvSpPr>
          <p:spPr>
            <a:xfrm>
              <a:off x="3124080" y="19810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24080" y="19810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24382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97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0968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2590920" y="2198520"/>
            <a:ext cx="3123000" cy="3897360"/>
            <a:chOff x="2590920" y="2198520"/>
            <a:chExt cx="3123000" cy="3897360"/>
          </a:xfrm>
        </p:grpSpPr>
        <p:sp>
          <p:nvSpPr>
            <p:cNvPr id="314" name=""/>
            <p:cNvSpPr/>
            <p:nvPr/>
          </p:nvSpPr>
          <p:spPr>
            <a:xfrm>
              <a:off x="3124080" y="56386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**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51814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4080" y="47242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24080" y="42670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resul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24080" y="47242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5" idx="3"/>
              <a:endCxn id="311" idx="0"/>
            </p:cNvCxnSpPr>
            <p:nvPr/>
          </p:nvCxnSpPr>
          <p:spPr>
            <a:xfrm flipV="1">
              <a:off x="4419720" y="2457000"/>
              <a:ext cx="2160" cy="2953440"/>
            </a:xfrm>
            <a:prstGeom prst="curvedConnector5">
              <a:avLst>
                <a:gd name="adj1" fmla="val 71900000"/>
                <a:gd name="adj2" fmla="val 54370"/>
                <a:gd name="adj3" fmla="val 719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0" name=""/>
            <p:cNvSpPr/>
            <p:nvPr/>
          </p:nvSpPr>
          <p:spPr>
            <a:xfrm>
              <a:off x="25909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666880" y="1730160"/>
            <a:ext cx="2753640" cy="2536920"/>
            <a:chOff x="2666880" y="1730160"/>
            <a:chExt cx="2753640" cy="2536920"/>
          </a:xfrm>
        </p:grpSpPr>
        <p:sp>
          <p:nvSpPr>
            <p:cNvPr id="322" name=""/>
            <p:cNvSpPr/>
            <p:nvPr/>
          </p:nvSpPr>
          <p:spPr>
            <a:xfrm>
              <a:off x="3124080" y="38098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24080" y="33526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4080" y="28954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24382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resul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28954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24080" y="2438280"/>
              <a:ext cx="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2438280"/>
              <a:ext cx="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8" name=""/>
            <p:cNvCxnSpPr/>
            <p:nvPr/>
          </p:nvCxnSpPr>
          <p:spPr>
            <a:xfrm flipV="1">
              <a:off x="4419720" y="1980720"/>
              <a:ext cx="2160" cy="1620000"/>
            </a:xfrm>
            <a:prstGeom prst="curvedConnector5">
              <a:avLst>
                <a:gd name="adj1" fmla="val 55600000"/>
                <a:gd name="adj2" fmla="val 57723"/>
                <a:gd name="adj3" fmla="val 556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266688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7130-0BBF-4D8A-82BA-758F8904253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š prosti jezi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za poziv funkcija i definiciju funkcija zavisi od aktivacionog zapi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dnostav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dovol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 za ovaj jezi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 je uvijek u a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ma potrebe za čuvanjem rezultata u 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stvar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ame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(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n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Ovo su jedine promjenljive u jez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C9DF-6E90-457D-B998-478F4C798CB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nastavak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iplinovan pristup steku garantuje da po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unkci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s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isti kao i pri ulasku u funkcij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ma potrebe za čuvanjem sadrža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$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a nam je povratna adres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addres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godno je da imamo pokazivač na početak trenutne aktivacije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vaj pokazivač čuvamo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$fp (frame poin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zlog uvođenja fp biće jasan usko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2D0E-87B8-49A5-ADC7-4DBD0E97A15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r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ovaj prosti jezik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a pozivački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varni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i povratn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 je dovolj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li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ziv f-i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x,y)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će bi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43210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4781520"/>
            <a:ext cx="121932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00400" y="38448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5257800"/>
            <a:ext cx="1219320" cy="65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13680" y="3581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,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286000" y="38862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98800" y="434340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467480" y="38858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77000" y="510552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029200"/>
            <a:ext cx="555840" cy="888840"/>
          </a:xfrm>
          <a:custGeom>
            <a:avLst/>
            <a:gdLst/>
            <a:ahLst/>
            <a:rect l="l" t="t" r="r" b="b"/>
            <a:pathLst>
              <a:path w="350" h="560">
                <a:moveTo>
                  <a:pt x="0" y="0"/>
                </a:moveTo>
                <a:cubicBezTo>
                  <a:pt x="49" y="14"/>
                  <a:pt x="242" y="24"/>
                  <a:pt x="295" y="87"/>
                </a:cubicBezTo>
                <a:cubicBezTo>
                  <a:pt x="348" y="150"/>
                  <a:pt x="350" y="300"/>
                  <a:pt x="318" y="379"/>
                </a:cubicBezTo>
                <a:cubicBezTo>
                  <a:pt x="286" y="458"/>
                  <a:pt x="149" y="522"/>
                  <a:pt x="105" y="5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55480" y="477036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8B5B-33B8-45AC-88B3-F236A9C474E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oziv f-ije (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ction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ing sequence”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iz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pozivačake i pozvane f-i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ih za poziv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al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na labelu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se adresa sledeće instrukcij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to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u kojim se povratna adresa čuva na steku poseb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call” 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27EE-C2BE-4BFF-9D86-35CB442FA8D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što koristit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uzima operande sa istog mjesta i vraća rezul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na isto mje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o znači da imamo unofromnu šemu kompajliran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tuda, imamo i prostiji kompaj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7514-7EFC-4CD4-9183-4567BA39C1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oziv f-ij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f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f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jal f_en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1676520"/>
            <a:ext cx="4191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ka f-ija sačuva vrijedn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ame point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tim sačuva stvarne paramet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obrnutom redosl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ka f-ija sačuva povratnu adres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 dužin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4*n+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jt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3115-2862-4F30-89C6-1FCB54217B9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definisanje funkcij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r re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na adres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2666880"/>
            <a:ext cx="403884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def f(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e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ve $fp $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ra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$fp 0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jr 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2666880"/>
            <a:ext cx="4419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me pointer p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zuje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ne na dno frame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vana f-i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skida povratnu adresu (po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tvarne argumente i sačuvanu vrijednost frame poin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z = 4*n + 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1C6C-7575-4425-81C5-275A21352CA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lling Sequenc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– primjer z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(x,y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pozi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 ulaz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U tijel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Poslije poz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9040" y="4419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0760" y="5562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39625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87684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340668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8120" y="434340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464832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4800600"/>
            <a:ext cx="121896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72760" y="312408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64480" y="56386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6748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3880" y="4419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15960" y="5562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03880" y="38768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03880" y="34066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03880" y="4343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70560" y="464832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0388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28520" y="2133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20240" y="30988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16480" y="29210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16480" y="24638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BEC7-1CC8-4526-AAFA-BBE64841A64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eferenciranje promjenljivih je poslednja konstrukci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mjenljive f-ije su samo njeni paramet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ne su sv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Guraju se na stek od pozivačke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ek raste kada se čuvaju međurezultati, pa promjenljive nisu na fiksnom rastojanju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6B68-AD00-433A-A212-D6715D545DD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ješe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ristim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vijek pokazuje na povratnu adresu na stek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ko se ne pomjera, može se koristiti za pronalaženje promjenljiv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ka 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i = 1,…,n) forma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am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funkcije za koju generišemo k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FAB3-AFCF-4BB8-8E2C-9F8BE4EBD2D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funkcij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u sledeć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3048120"/>
            <a:ext cx="5029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p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p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tud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lw $a0 z($f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z = 4*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43000" y="4613400"/>
            <a:ext cx="12193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4143240"/>
            <a:ext cx="12193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50799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538488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3000" y="5537160"/>
            <a:ext cx="1219320" cy="110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7640" y="289548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9360" y="38098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55600" y="36576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55600" y="3200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011A-BD6C-4C4D-B08B-E45917BA088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tivacioni zapis mora biti dizajniran zajedno sa generatorom k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se odraditi kao rekurzivni obilazak AST-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ije obavezno koristiti stek mašinu, ali je jednostavn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ealni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jl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glasak na čuvanju vrijednos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ebno tekuće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ek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registr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eđurezultati se čuvaju A R, a ne na stek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FE07-C405-49F3-8C99-8F35CA4AA48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oc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ranje privremenih promjenljivih u AR-u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2499A-520C-4856-882A-9F969629E43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zapis i međurezultate (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termediat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sprepletene na ste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505320" y="3124080"/>
            <a:ext cx="2513880" cy="1829520"/>
            <a:chOff x="3505320" y="3124080"/>
            <a:chExt cx="2513880" cy="1829520"/>
          </a:xfrm>
        </p:grpSpPr>
        <p:sp>
          <p:nvSpPr>
            <p:cNvPr id="404" name=""/>
            <p:cNvSpPr/>
            <p:nvPr/>
          </p:nvSpPr>
          <p:spPr>
            <a:xfrm>
              <a:off x="3505320" y="312408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05320" y="357696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ermedi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05320" y="403632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449388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ermedi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E398-3F08-457A-82A7-E3B2B0045FF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edno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dnostavno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isanje k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a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V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a spor k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ing/loading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jivih zahtijev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/loa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podešav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F4F8-59E7-4F06-8587-BE7EA93AFED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što koristit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cija operanada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ci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vijek na vrhu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otrebe za eksplicitnim zadavanjem operan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otrebe za zadavanjem 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cije rezult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mjes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raće kodiran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c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mpaktnij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a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vo je jedan razlog zaš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Byteco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koristi model stek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ck evaluation mode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768F-E054-4E88-B510-0D65D631FC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Bolji nači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uvamo privremene promjenljiv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orari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u aktivacionom zapis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Generator koda mora dodijeliti lokaciju u AR-u za svaku privremenu promjenljiv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B1CC-7CA9-49F1-8647-A2314AD7EDB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ib(x) = if x = 1 then 0 el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x = 2 then 1 else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b(x - 1) + fib(x – 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je međurezulat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mediate valu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treba postaviti na ste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liko prostora u AR-u je potrebno za čuvanje tih vrijednos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13D6-8C17-4277-B792-582B33AE278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oliko privremenih promjenljivih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broj privremenih promj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nljivi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trebnih za iz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avanje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ra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trebno najm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ljiv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trebno najm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+ 1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stor upotre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n za privremene promjenljive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se ponovo iskoristiti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6740-DA51-4B8F-8DD0-281391B8359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ednači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-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f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else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d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…,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nt) =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d) =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 li je ov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ttom-u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p-dow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ta 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…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fib…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9F2D-618E-4C7E-A5E4-478E4B2424E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nov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definicij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 + n + NT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me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vratna adresa (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urn addres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gum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a za međurezultate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mediate result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C522-E18D-4E78-B831-EA0EF1C2810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lik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3429000" y="289404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335124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3809880"/>
            <a:ext cx="2133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2670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4724280"/>
            <a:ext cx="2133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51814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19717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 NT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24382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53640" y="160020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50400" y="34290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DEA3-7C89-42CC-9199-1032171ACF2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v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isanje ko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ra znati koliko je privremenih promjenljivih u upotrebi u svakom trenu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dajemo novi argument za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isanje koda: p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icija sledeće dostupne privremene promjenljiv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available temporary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C0C2-C51E-478E-9334-DD30980D0C9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 (origina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1 4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3F00-40D5-4B9C-B4C6-8ABD72EC042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boljša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-nt($f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 + 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1 -nt($f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6BD7-F66C-4DC3-8F82-8EF1B21B842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ručje za privremene promjenljive se koristi kao mali stek fiksne veličin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, fixed-size stack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ježba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isa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osta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AA21-884D-4E8B-B5A8-3E837691009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timiz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ij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cija obavl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mem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ske 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itanja i jedno upisivanje na ste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hu steka se često pristu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uvati vrh steka u posebno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zv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stup registrima je brž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a post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amo jedna memorijsk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2F08-D01A-4A4E-944E-5C45330FC0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j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sane jezik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D513C-E9D1-480B-882B-B5750CF60B1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kaz objekata (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ject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you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O implement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što što smo već učil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što no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O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an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klasa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, 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a s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koristiti uvijek gdje se očekuje objekat klase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vo znači da kod za klas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adi bez modifikacija za objekte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11E3-9D9E-4015-B1D8-046D8742060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vije tem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se objekti predstavljaju u memorij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je implementir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spatc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C865-CD35-47B3-AC3C-72733FBCC54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2209680"/>
            <a:ext cx="4077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a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d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= a + d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B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b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}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over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g() { return a = a - b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15080" y="4191120"/>
            <a:ext cx="4076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C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c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h() { return a = a * c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E23F-4DF7-45B4-9C00-74298E9BDBC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u naslijeđeni u klasam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i metodi u svim klasama referencira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b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to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radili ispravno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ra biti na istom “mjestu” za svaki objek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6455-49E0-4FED-8FAC-E6B53204FA6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t je ka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stupanje polj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o.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indeks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ri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 koji odgovara pol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se čuvaju u uzastopnim memorijskim lokacija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vaki atribut se čuva na fiks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da se poziva metod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l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ili this) i polja su atributi objek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8B9A-4005-4FB8-B470-9E74F74544B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iječi objekta sadrže zaglavl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der informat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40273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 P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29000" y="44845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49435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54007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310500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29000" y="35719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15000" y="2529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1992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1992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992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2454-597D-4459-A7E1-084224BD344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 tag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cio bro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uje klasu objek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 size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cio bro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eličina objekta u riječ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pt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pokazivač na tabelu met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alo kasnije biće više detal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su u susjednim lokacij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e je u uzastopnim memorijskim lokacij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08AC-1067-41E4-9457-B9353ABC24C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dkl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ome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 je dat prikaz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kaz pod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biti definisan proširivanjem prikaza 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datnim lokacijama za dodatne atribute i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stavljamo prikaz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izmjenjeni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prošire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329E-9989-4672-8380-235AD8C0B8E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lika prikaz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38080" y="1752480"/>
          <a:ext cx="6553440" cy="4380120"/>
        </p:xfrm>
        <a:graphic>
          <a:graphicData uri="http://schemas.openxmlformats.org/drawingml/2006/table">
            <a:tbl>
              <a:tblPr/>
              <a:tblGrid>
                <a:gridCol w="13287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914400" y="1828800"/>
            <a:ext cx="12193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E9AB2-8A26-4643-97A6-FE00094A5B5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a 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ar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izračunavanja izraza je uvijek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ush 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 stek poslije izračunavanja svakog 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u a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li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e, urad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 n-1 v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ijednos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slije izračunavanja izraza, stek je kao i pr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47BF-27B9-4D7B-AFAE-DA48F0DB6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dkl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fset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je isti u klasi i svim njenim podkla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vaki metod iz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ože se koristiti u podklas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smatrajmo prikaz 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486576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19320" y="533412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5791320"/>
            <a:ext cx="213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19320" y="3943440"/>
            <a:ext cx="213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441000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396252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33920" y="39625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3962520"/>
            <a:ext cx="0" cy="1371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38480" y="396252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1120" y="44956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9900cc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504360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ff0000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72200" y="3962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Šta ako imamo višestruko nasleđivanj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ultiple inheritance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A552-9825-449B-B296-BFC5BBE9008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azmotrimo opet naš primj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838080" y="2209680"/>
            <a:ext cx="4077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a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d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= a + d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B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b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g() { return a = a - b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15080" y="4191120"/>
            <a:ext cx="4076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C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c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h() { return a = a * c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CB8A4-2942-4595-9AFB-DD94ABB1C31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g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jekat kl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f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jekat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slijeđen u slučaju klas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 objekte 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lement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metoda 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o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sjeća na implementaciju atribu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6CA4-7010-4395-B95B-2EF5614AA5B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 klasa ima fiksiran skup metod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ključujući i naslijeđene meto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spatch tab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sira ove met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iz ulaznih tačaka metoda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y point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et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sira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se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 klasu i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sve njene podkl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34E9-9301-4071-94C7-075BC88C970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6480" y="1599840"/>
            <a:ext cx="4076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patch ta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za klas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 samo jedan met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abele z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širuju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n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abelu z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ko se može dati nova definicja metoda u podklasi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ridd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meto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ije isti u svakoj klasi ali je uvijek na istom offset-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838080" y="1752480"/>
          <a:ext cx="3070440" cy="4380120"/>
        </p:xfrm>
        <a:graphic>
          <a:graphicData uri="http://schemas.openxmlformats.org/drawingml/2006/table">
            <a:tbl>
              <a:tblPr/>
              <a:tblGrid>
                <a:gridCol w="1328760"/>
                <a:gridCol w="870120"/>
                <a:gridCol w="8715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40D49-840A-4970-B91F-142F2D038DD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treba 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patch pointe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objektu 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zuje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za klas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om metod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dodijelj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u trenutku prevođenja (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ile tim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81A8-66B0-4579-8266-35C3BE6B53F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treba 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 (nastavak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i metod mora znati šta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self”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ili “thi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f”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e predaje kao prvi argument u svim metod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cij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og 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f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zračunat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a bi dobili objek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ć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ispatch-tabel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itanje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-table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lja objekt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va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[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]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 z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ri poziv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l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e vezuje z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AFF9-FB84-48B6-92A1-821BDCC622D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7:54:11Z</dcterms:created>
  <dc:creator>Goran Sukovic &amp; Alex Aiken &amp; George Necula</dc:creator>
  <dc:description/>
  <dc:language>en-US</dc:language>
  <cp:lastModifiedBy>gorans</cp:lastModifiedBy>
  <dcterms:modified xsi:type="dcterms:W3CDTF">2009-04-30T10:19:36Z</dcterms:modified>
  <cp:revision>290</cp:revision>
  <dc:subject/>
  <dc:title>Introduction to Programming Languages and Compilers</dc:title>
</cp:coreProperties>
</file>