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094-8511-4B8A-BA79-41D09425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AAE-41D2-448D-B261-6BA11461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274-C607-4AEE-AC59-10C8615A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257-28DF-4D89-8066-2DF01726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F2A-A388-4888-81FF-7989DB16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B36-A1CA-48E7-B417-C7CA82A7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4A6-D9BC-44A9-9406-20849E7D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1D1-EEAB-4D00-BA89-56A839B1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9B3-7A11-464A-91BA-B5C55FD3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9CD-BF12-4982-9FF9-4CA9811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C6C-189B-4CC7-91FF-6CA62B30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BE6-C94D-4A79-A2D0-1B32651C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30DE-367C-4F0E-A935-CB0BC9156EF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Run-time okolin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889-E59B-4E5D-9287-4FF027727B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29CA6-27F2-48E2-A717-33CF270B7C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inamički podaci (heap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7721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aci kreirani sa malloc ili New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Decaf-u, svi objekti su na heap-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aci na heap-u žive dok ih ne dealociramo ili do završetka programa.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arbage collection / reference counting su načini automatske dealokacije “mrtve memorije” (kojoj ne pristupamo) na heap-u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991640" y="949320"/>
            <a:ext cx="901440" cy="5103720"/>
            <a:chOff x="7991640" y="949320"/>
            <a:chExt cx="901440" cy="5103720"/>
          </a:xfrm>
        </p:grpSpPr>
        <p:sp>
          <p:nvSpPr>
            <p:cNvPr id="144" name=""/>
            <p:cNvSpPr/>
            <p:nvPr/>
          </p:nvSpPr>
          <p:spPr>
            <a:xfrm>
              <a:off x="7994520" y="24004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432640" y="17524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91640" y="5251320"/>
              <a:ext cx="90144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91640" y="4464000"/>
              <a:ext cx="90144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91640" y="3740040"/>
              <a:ext cx="90144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91640" y="949320"/>
              <a:ext cx="90144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91640" y="2990880"/>
              <a:ext cx="901440" cy="749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656-99F9-4570-8DD7-E965AB45C9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21F59-A859-43F6-BE19-638D0FAFF1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inamički podaci (heap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ap alokacija počinje na dnu heap-a (niže adrese)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alocira ka višim adresama. Zahtjevi za poravnavanjem (alignment), specifičn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pojedine algoritme alokacije mogu dovesti da memorije bude alocirana van adresnog redosled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1 = new Big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2 = new Medium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3 = new Big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4 = new Tiny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 je  (int)p2 &gt; (int)p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li (int)p4 &lt; (int)p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ređenje pointera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 jednakost, a ne  &lt;  ili  &gt;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191120" y="3336840"/>
            <a:ext cx="4800600" cy="2624400"/>
            <a:chOff x="4191120" y="3336840"/>
            <a:chExt cx="4800600" cy="2624400"/>
          </a:xfrm>
        </p:grpSpPr>
        <p:sp>
          <p:nvSpPr>
            <p:cNvPr id="154" name=""/>
            <p:cNvSpPr/>
            <p:nvPr/>
          </p:nvSpPr>
          <p:spPr>
            <a:xfrm>
              <a:off x="6781680" y="5501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x10000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191120" y="3336840"/>
              <a:ext cx="2741400" cy="2462760"/>
              <a:chOff x="4191120" y="3336840"/>
              <a:chExt cx="2741400" cy="2462760"/>
            </a:xfrm>
          </p:grpSpPr>
          <p:sp>
            <p:nvSpPr>
              <p:cNvPr id="156" name=""/>
              <p:cNvSpPr/>
              <p:nvPr/>
            </p:nvSpPr>
            <p:spPr>
              <a:xfrm>
                <a:off x="4191120" y="3336840"/>
                <a:ext cx="2741400" cy="820800"/>
              </a:xfrm>
              <a:prstGeom prst="rect">
                <a:avLst/>
              </a:prstGeom>
              <a:solidFill>
                <a:srgbClr val="febfb4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3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91120" y="4978800"/>
                <a:ext cx="2741400" cy="820800"/>
              </a:xfrm>
              <a:prstGeom prst="rect">
                <a:avLst/>
              </a:prstGeom>
              <a:solidFill>
                <a:srgbClr val="febfb4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1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00840" y="4157640"/>
                <a:ext cx="698400" cy="82080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4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91120" y="4157640"/>
                <a:ext cx="1600200" cy="820800"/>
              </a:xfrm>
              <a:prstGeom prst="rect">
                <a:avLst/>
              </a:prstGeom>
              <a:solidFill>
                <a:srgbClr val="b2b2b2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2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D73-D1DF-484C-91B8-FB063FD411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D64CE-1B2A-49A7-8B85-B2BC399604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untime ste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7480" y="711360"/>
            <a:ext cx="7823160" cy="59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aci potrebni za pozivanje f-ij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deklarisane lokalno u f-iji (uključujući main) tzv. “automatski” podaci. Izuzetak su static promjenlji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deklarisane u anonimnom bloku unutar f-ij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rgumenti f-ije (predaje ih pozivač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vremene promjenljive koje koristi generisani kod (nisu imena u source kodu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guće vrijednost koju vraća pozvana funkcij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63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C02-3784-4BAB-A2E1-8998FAE5C5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5F0CD-DA70-4E78-93D1-CEC72531DE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untime ste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7480" y="622080"/>
            <a:ext cx="7566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ipovi podataka koji mogu biti alocirani na runtime steku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-u, svi tipovi: prosti tipovi, struct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, arrays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++: objekti deklarisani kao class tip, kao i pokaziv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i (po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i)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800c8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c800c8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c800c8"/>
                </a:solidFill>
                <a:latin typeface="Tahoma"/>
              </a:rPr>
              <a:t>Drone dilbert(17);</a:t>
            </a:r>
            <a:endParaRPr b="0" lang="en-US" sz="3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: objekti su uvijek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locirani  na heap-u. Lokalni pokazivač (pointer) na objekat čuva se na stek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ki programski jezici ne dozvoljavaju nizove na stek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73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9C3-3C2B-45DD-9A1C-78A62E8055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BF478-65C8-46B8-A704-BB304DB7A9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ek terminolog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87375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ek je apstraktni tip podatak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ush postavlja novu vrijednost na vrh(Top); Pop uzima vrijednost sa pozicije Top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2680" y="1413000"/>
            <a:ext cx="7251120" cy="3288240"/>
            <a:chOff x="382680" y="1413000"/>
            <a:chExt cx="7251120" cy="3288240"/>
          </a:xfrm>
        </p:grpSpPr>
        <p:grpSp>
          <p:nvGrpSpPr>
            <p:cNvPr id="183" name=""/>
            <p:cNvGrpSpPr/>
            <p:nvPr/>
          </p:nvGrpSpPr>
          <p:grpSpPr>
            <a:xfrm>
              <a:off x="382680" y="1543320"/>
              <a:ext cx="4079160" cy="3054240"/>
              <a:chOff x="382680" y="1543320"/>
              <a:chExt cx="4079160" cy="3054240"/>
            </a:xfrm>
          </p:grpSpPr>
          <p:sp>
            <p:nvSpPr>
              <p:cNvPr id="184" name=""/>
              <p:cNvSpPr/>
              <p:nvPr/>
            </p:nvSpPr>
            <p:spPr>
              <a:xfrm>
                <a:off x="383760" y="3553200"/>
                <a:ext cx="4078080" cy="104436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3760" y="3051360"/>
                <a:ext cx="4078080" cy="10447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2680" y="2548080"/>
                <a:ext cx="4078080" cy="10447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2680" y="2046600"/>
                <a:ext cx="4078080" cy="104436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680" y="1543320"/>
                <a:ext cx="4078080" cy="10447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884480" y="1413000"/>
              <a:ext cx="266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64040" y="4119840"/>
              <a:ext cx="266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s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925-5873-4DF3-8825-F51650398E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99BEE-CCAA-4D8B-95DD-94CF4C6775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ek terminolog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7840" y="723600"/>
            <a:ext cx="783576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Stek </a:t>
            </a:r>
            <a:r>
              <a:rPr b="0" i="1" lang="en-US" sz="3100" spc="-1" strike="noStrike">
                <a:solidFill>
                  <a:srgbClr val="000099"/>
                </a:solidFill>
                <a:latin typeface="Tahoma"/>
              </a:rPr>
              <a:t>implementacija </a:t>
            </a: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može rasti u oba pravca.  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MIPS stek raste naniže (od viših memorijskih adresa ka nižim).  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Mogući problemi sa terminologjom, jer se u  literaturi govori o kretanju gore i dolje u steku (up i down).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Koristi se i apstrakcija gdje gore znači “noviji objekat”, ka Top-u.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Drugi govore (uključujući gdb) “gore” sa značenjem  “ka starijim objektima na steku”, ka Base.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991640" y="949320"/>
            <a:ext cx="901440" cy="5103720"/>
            <a:chOff x="7991640" y="949320"/>
            <a:chExt cx="901440" cy="5103720"/>
          </a:xfrm>
        </p:grpSpPr>
        <p:sp>
          <p:nvSpPr>
            <p:cNvPr id="194" name=""/>
            <p:cNvSpPr/>
            <p:nvPr/>
          </p:nvSpPr>
          <p:spPr>
            <a:xfrm>
              <a:off x="7994520" y="24004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432640" y="17524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91640" y="5251320"/>
              <a:ext cx="90144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91640" y="4464000"/>
              <a:ext cx="90144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91640" y="3740040"/>
              <a:ext cx="90144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91640" y="949320"/>
              <a:ext cx="901440" cy="803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91640" y="2990880"/>
              <a:ext cx="90144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25C-068E-4937-97A4-F858D92308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D8458-0F52-4C9B-BBBB-B0B28CA40D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048120" y="585720"/>
            <a:ext cx="6095880" cy="6119640"/>
            <a:chOff x="3048120" y="585720"/>
            <a:chExt cx="6095880" cy="6119640"/>
          </a:xfrm>
        </p:grpSpPr>
        <p:graphicFrame>
          <p:nvGraphicFramePr>
            <p:cNvPr id="202" name=""/>
            <p:cNvGraphicFramePr/>
            <p:nvPr/>
          </p:nvGraphicFramePr>
          <p:xfrm>
            <a:off x="3048120" y="830160"/>
            <a:ext cx="4475160" cy="587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830160"/>
                      <a:ext cx="4475160" cy="587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7464600" y="4870080"/>
              <a:ext cx="167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18520" y="585720"/>
              <a:ext cx="167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s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0" y="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izuelni prikaz steka koji raste naniž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452600"/>
            <a:ext cx="5105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stead of stacking the next plate, how about “hanging” the new fra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898-EEAF-4284-BFC9-C57403C1C1E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C0144-339C-4C82-86FE-F6ABE7FB32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rugi resursi u runtime okružen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6312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eš (Cache) - veoma brz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guće na više nivo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zička memorija (brz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irtuelna memorija (swapping je sporij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ključuje glavnu memoriju i swap prostor na disk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gistri (najbrž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Često su samo vidljivi registri i memorijske adres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ve ostalo se krije iza adresiranja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ve operacije se izvode u registrima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5EE-EEDE-4F06-8024-5F753BE491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CE421-BF2C-4F18-99E9-2E703F8A5A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izovi: Decaf i ostali jezic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87375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bično se nizovi smještaju u jedan veliki prostor za sve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emente. Ako je niz deklarisan sa “int a [n] [k] ”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koristi row-major redosle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itav prvi red, pa drugi red, it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rtran koristi column-major redosle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itava prva kolona, pa druga kolona, it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risti se i dalje veliki blok memorije, ali su kolone uzastopne a ne redovi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905-8BEE-44B7-91B3-DAF392D719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30F2D-BC7D-488B-ACE8-936AE42E07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08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99"/>
                </a:solidFill>
                <a:uFillTx/>
                <a:latin typeface="Tahoma"/>
              </a:rPr>
              <a:t>C  nizovi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71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Posle startovanj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main, niz a je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inicijalizovan.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rint 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{ 0, 1, 2, 3, 4 }, { 10, 11, 12, 13, 14 }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 &amp;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1 = (int (*)[2][5]) 0x208a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 &amp;a[0]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2 = (int (*)[5]) 0x208a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 &amp;a[1]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3 = (int (*)[5]) 0x208b4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4889520" y="0"/>
            <a:ext cx="4254480" cy="2928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a [2][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oid main(void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i, j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(i=0; i&lt;2; i+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(j=0; j&lt;5; j+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[i] [j] = 10*i+j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67E-F112-495C-A33C-55C096FE14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21CFC-3B0C-4917-93C7-9DF56978E1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mpilacija od početka do kra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1333440"/>
            <a:ext cx="182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ntaksna analiz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33344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ksička analiz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1333440"/>
            <a:ext cx="1904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mantička analiz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191040"/>
            <a:ext cx="914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PR g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19104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oboljšanje MPR-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" name=""/>
          <p:cNvCxnSpPr>
            <a:stCxn id="46" idx="3"/>
            <a:endCxn id="47" idx="1"/>
          </p:cNvCxnSpPr>
          <p:nvPr/>
        </p:nvCxnSpPr>
        <p:spPr>
          <a:xfrm flipH="1">
            <a:off x="380160" y="1776240"/>
            <a:ext cx="8458920" cy="1858320"/>
          </a:xfrm>
          <a:prstGeom prst="curvedConnector5">
            <a:avLst>
              <a:gd name="adj1" fmla="val -2702"/>
              <a:gd name="adj2" fmla="val 24995"/>
              <a:gd name="adj3" fmla="val -2702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477120" y="3191040"/>
            <a:ext cx="2133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enerisanje ko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51055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ing &amp;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5319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zvršavan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" name=""/>
          <p:cNvCxnSpPr>
            <a:stCxn id="50" idx="3"/>
            <a:endCxn id="54" idx="1"/>
          </p:cNvCxnSpPr>
          <p:nvPr/>
        </p:nvCxnSpPr>
        <p:spPr>
          <a:xfrm flipH="1">
            <a:off x="380520" y="3633840"/>
            <a:ext cx="8230320" cy="1946880"/>
          </a:xfrm>
          <a:prstGeom prst="curvedConnector5">
            <a:avLst>
              <a:gd name="adj1" fmla="val -2777"/>
              <a:gd name="adj2" fmla="val 27316"/>
              <a:gd name="adj3" fmla="val -2777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3"/>
            <a:endCxn id="52" idx="1"/>
          </p:cNvCxnSpPr>
          <p:nvPr/>
        </p:nvCxnSpPr>
        <p:spPr>
          <a:xfrm>
            <a:off x="5715000" y="5578560"/>
            <a:ext cx="129600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3"/>
            <a:endCxn id="50" idx="1"/>
          </p:cNvCxnSpPr>
          <p:nvPr/>
        </p:nvCxnSpPr>
        <p:spPr>
          <a:xfrm>
            <a:off x="4952880" y="3633480"/>
            <a:ext cx="15249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" name=""/>
          <p:cNvGrpSpPr/>
          <p:nvPr/>
        </p:nvGrpSpPr>
        <p:grpSpPr>
          <a:xfrm>
            <a:off x="152280" y="1295280"/>
            <a:ext cx="1143000" cy="947160"/>
            <a:chOff x="152280" y="1295280"/>
            <a:chExt cx="1143000" cy="947160"/>
          </a:xfrm>
        </p:grpSpPr>
        <p:sp>
          <p:nvSpPr>
            <p:cNvPr id="58" name=""/>
            <p:cNvSpPr/>
            <p:nvPr/>
          </p:nvSpPr>
          <p:spPr>
            <a:xfrm>
              <a:off x="190440" y="1768320"/>
              <a:ext cx="1067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129528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ko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743200" y="1295280"/>
            <a:ext cx="1143000" cy="520560"/>
            <a:chOff x="2743200" y="1295280"/>
            <a:chExt cx="1143000" cy="520560"/>
          </a:xfrm>
        </p:grpSpPr>
        <p:cxnSp>
          <p:nvCxnSpPr>
            <p:cNvPr id="61" name=""/>
            <p:cNvCxnSpPr>
              <a:stCxn id="45" idx="3"/>
              <a:endCxn id="44" idx="1"/>
            </p:cNvCxnSpPr>
            <p:nvPr/>
          </p:nvCxnSpPr>
          <p:spPr>
            <a:xfrm>
              <a:off x="2819160" y="1806120"/>
              <a:ext cx="106740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" name=""/>
            <p:cNvSpPr/>
            <p:nvPr/>
          </p:nvSpPr>
          <p:spPr>
            <a:xfrm>
              <a:off x="2743200" y="1295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tokeni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257440" y="1295280"/>
            <a:ext cx="1752480" cy="947160"/>
            <a:chOff x="5257440" y="1295280"/>
            <a:chExt cx="1752480" cy="947160"/>
          </a:xfrm>
        </p:grpSpPr>
        <p:cxnSp>
          <p:nvCxnSpPr>
            <p:cNvPr id="64" name=""/>
            <p:cNvCxnSpPr>
              <a:stCxn id="44" idx="3"/>
              <a:endCxn id="46" idx="1"/>
            </p:cNvCxnSpPr>
            <p:nvPr/>
          </p:nvCxnSpPr>
          <p:spPr>
            <a:xfrm>
              <a:off x="5257440" y="1806120"/>
              <a:ext cx="175284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257800" y="1295280"/>
              <a:ext cx="164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Drvo  parsiranj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294920" y="3200400"/>
            <a:ext cx="1447920" cy="520560"/>
            <a:chOff x="1294920" y="3200400"/>
            <a:chExt cx="1447920" cy="520560"/>
          </a:xfrm>
        </p:grpSpPr>
        <p:cxnSp>
          <p:nvCxnSpPr>
            <p:cNvPr id="67" name=""/>
            <p:cNvCxnSpPr>
              <a:stCxn id="47" idx="3"/>
              <a:endCxn id="48" idx="1"/>
            </p:cNvCxnSpPr>
            <p:nvPr/>
          </p:nvCxnSpPr>
          <p:spPr>
            <a:xfrm>
              <a:off x="1294920" y="3663720"/>
              <a:ext cx="14482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>
              <a:off x="1488600" y="3200400"/>
              <a:ext cx="8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MP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209680" y="510552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ocatable k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510552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šinski k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267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emblerski k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3200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P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319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emb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2286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pravno 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4" name=""/>
          <p:cNvCxnSpPr>
            <a:stCxn id="54" idx="3"/>
            <a:endCxn id="51" idx="1"/>
          </p:cNvCxnSpPr>
          <p:nvPr/>
        </p:nvCxnSpPr>
        <p:spPr>
          <a:xfrm flipV="1">
            <a:off x="2361960" y="5578200"/>
            <a:ext cx="144828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53F-DB2E-447E-8349-680D7AFEEF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77683-48E5-4A4F-B27B-326FC54AFC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izovi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n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ovi nisu u jednom velikom blok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aki red predstavlja jednu blok memorij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2][5] ima po jedan pokazivač za svaki od 2 red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41320" y="3132000"/>
          <a:ext cx="587232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3132000"/>
                    <a:ext cx="587232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298600" y="3162240"/>
            <a:ext cx="11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[0]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C9B-732C-4F6D-9E2B-1B2601F7AA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15B8E-E892-4187-88A3-6116ED9038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1- i 2-dimenzionalni niz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3]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je jedan neprekidan blok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3][4] ima 3 pokazivača na po 4 element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305080" y="1473120"/>
            <a:ext cx="3587400" cy="762120"/>
            <a:chOff x="2305080" y="1473120"/>
            <a:chExt cx="3587400" cy="762120"/>
          </a:xfrm>
        </p:grpSpPr>
        <p:sp>
          <p:nvSpPr>
            <p:cNvPr id="223" name=""/>
            <p:cNvSpPr/>
            <p:nvPr/>
          </p:nvSpPr>
          <p:spPr>
            <a:xfrm>
              <a:off x="2305080" y="1473120"/>
              <a:ext cx="11908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10000" y="1473120"/>
              <a:ext cx="119124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1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01600" y="1473120"/>
              <a:ext cx="11908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2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09520" y="3111480"/>
            <a:ext cx="8934120" cy="3110760"/>
            <a:chOff x="209520" y="3111480"/>
            <a:chExt cx="8934120" cy="3110760"/>
          </a:xfrm>
        </p:grpSpPr>
        <p:grpSp>
          <p:nvGrpSpPr>
            <p:cNvPr id="227" name=""/>
            <p:cNvGrpSpPr/>
            <p:nvPr/>
          </p:nvGrpSpPr>
          <p:grpSpPr>
            <a:xfrm>
              <a:off x="209520" y="3111480"/>
              <a:ext cx="3213000" cy="762120"/>
              <a:chOff x="209520" y="3111480"/>
              <a:chExt cx="3213000" cy="762120"/>
            </a:xfrm>
          </p:grpSpPr>
          <p:sp>
            <p:nvSpPr>
              <p:cNvPr id="228" name=""/>
              <p:cNvSpPr/>
              <p:nvPr/>
            </p:nvSpPr>
            <p:spPr>
              <a:xfrm>
                <a:off x="209520" y="3111480"/>
                <a:ext cx="106668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[0]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88800" y="3111480"/>
                <a:ext cx="106704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[1]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55840" y="3111480"/>
                <a:ext cx="106668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[2]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47320" y="5520960"/>
              <a:ext cx="5410440" cy="701280"/>
              <a:chOff x="247320" y="5520960"/>
              <a:chExt cx="5410440" cy="701280"/>
            </a:xfrm>
          </p:grpSpPr>
          <p:sp>
            <p:nvSpPr>
              <p:cNvPr id="232" name=""/>
              <p:cNvSpPr/>
              <p:nvPr/>
            </p:nvSpPr>
            <p:spPr>
              <a:xfrm>
                <a:off x="247320" y="5520960"/>
                <a:ext cx="13716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0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618920" y="55209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 1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977920" y="5520960"/>
                <a:ext cx="132084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2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98760" y="55209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3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618920" y="4568760"/>
              <a:ext cx="5410440" cy="701280"/>
              <a:chOff x="1618920" y="4568760"/>
              <a:chExt cx="5410440" cy="701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618920" y="4568760"/>
                <a:ext cx="13716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0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990520" y="45687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 1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349520" y="4568760"/>
                <a:ext cx="132084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2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70360" y="45687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3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241" name=""/>
            <p:cNvCxnSpPr>
              <a:stCxn id="228" idx="2"/>
              <a:endCxn id="232" idx="0"/>
            </p:cNvCxnSpPr>
            <p:nvPr/>
          </p:nvCxnSpPr>
          <p:spPr>
            <a:xfrm>
              <a:off x="742320" y="3914640"/>
              <a:ext cx="191160" cy="1592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29" idx="2"/>
              <a:endCxn id="237" idx="0"/>
            </p:cNvCxnSpPr>
            <p:nvPr/>
          </p:nvCxnSpPr>
          <p:spPr>
            <a:xfrm>
              <a:off x="1822320" y="3914640"/>
              <a:ext cx="483120" cy="640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"/>
            <p:cNvSpPr/>
            <p:nvPr/>
          </p:nvSpPr>
          <p:spPr>
            <a:xfrm>
              <a:off x="3422520" y="3674880"/>
              <a:ext cx="336600" cy="37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59120" y="3687480"/>
              <a:ext cx="137160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0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30720" y="3687480"/>
              <a:ext cx="135864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 1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02320" y="3687480"/>
              <a:ext cx="132084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2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23160" y="3687480"/>
              <a:ext cx="132048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3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C45-1C36-4990-BE67-691E3C9A9A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3AC85-5E45-4820-A029-A38F2684BD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išedimenzionalni niz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748800"/>
            <a:ext cx="914400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[3][4][5] ima 3 pokazivača, svaki pokazuje na 4 pokazivača, od kojih svaki pokazuje na red od 5 cijelih brojev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46160" y="2057400"/>
            <a:ext cx="3213000" cy="762120"/>
            <a:chOff x="146160" y="2057400"/>
            <a:chExt cx="3213000" cy="762120"/>
          </a:xfrm>
        </p:grpSpPr>
        <p:sp>
          <p:nvSpPr>
            <p:cNvPr id="251" name=""/>
            <p:cNvSpPr/>
            <p:nvPr/>
          </p:nvSpPr>
          <p:spPr>
            <a:xfrm>
              <a:off x="146160" y="2057400"/>
              <a:ext cx="10666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2057400"/>
              <a:ext cx="106704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1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2480" y="2057400"/>
              <a:ext cx="10666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2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254" name=""/>
          <p:cNvCxnSpPr>
            <a:stCxn id="255" idx="2"/>
            <a:endCxn id="256" idx="0"/>
          </p:cNvCxnSpPr>
          <p:nvPr/>
        </p:nvCxnSpPr>
        <p:spPr>
          <a:xfrm flipH="1">
            <a:off x="1251000" y="4594320"/>
            <a:ext cx="2032200" cy="117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"/>
          <p:cNvGrpSpPr/>
          <p:nvPr/>
        </p:nvGrpSpPr>
        <p:grpSpPr>
          <a:xfrm>
            <a:off x="949320" y="3790800"/>
            <a:ext cx="6273720" cy="763560"/>
            <a:chOff x="949320" y="3790800"/>
            <a:chExt cx="6273720" cy="763560"/>
          </a:xfrm>
        </p:grpSpPr>
        <p:sp>
          <p:nvSpPr>
            <p:cNvPr id="258" name=""/>
            <p:cNvSpPr/>
            <p:nvPr/>
          </p:nvSpPr>
          <p:spPr>
            <a:xfrm>
              <a:off x="949320" y="3790800"/>
              <a:ext cx="160632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0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55640" y="3790800"/>
              <a:ext cx="145440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1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10040" y="3790800"/>
              <a:ext cx="157464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2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84680" y="3792240"/>
              <a:ext cx="163836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3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261" name=""/>
          <p:cNvCxnSpPr>
            <a:stCxn id="251" idx="2"/>
            <a:endCxn id="258" idx="0"/>
          </p:cNvCxnSpPr>
          <p:nvPr/>
        </p:nvCxnSpPr>
        <p:spPr>
          <a:xfrm>
            <a:off x="678960" y="2860200"/>
            <a:ext cx="1073520" cy="91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2" name=""/>
          <p:cNvGrpSpPr/>
          <p:nvPr/>
        </p:nvGrpSpPr>
        <p:grpSpPr>
          <a:xfrm>
            <a:off x="380880" y="5778360"/>
            <a:ext cx="8242560" cy="703080"/>
            <a:chOff x="380880" y="5778360"/>
            <a:chExt cx="8242560" cy="703080"/>
          </a:xfrm>
        </p:grpSpPr>
        <p:sp>
          <p:nvSpPr>
            <p:cNvPr id="256" name=""/>
            <p:cNvSpPr/>
            <p:nvPr/>
          </p:nvSpPr>
          <p:spPr>
            <a:xfrm>
              <a:off x="380880" y="5780160"/>
              <a:ext cx="173988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0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0760" y="5780160"/>
              <a:ext cx="162576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1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46520" y="5780160"/>
              <a:ext cx="162576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2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72280" y="5778360"/>
              <a:ext cx="162540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3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97680" y="5778360"/>
              <a:ext cx="162576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4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FA1-E339-4EED-B6E4-E74136B167C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4B978-25D8-4CFF-B33A-36FE0EB772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enerisanje koda za referenciranje ni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-u, koristi se veličina elementa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interval indeksa svake dimenzije da bi odredili offset za pojedinačni element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A ima m redova i n kolona elemenata veličine 4 bajta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&amp;A[i] [j]  je &amp;A + 4 * (n * i + 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Decaf-u, moramo uraditi jedno dereferenciranje i jedan offset za svaku dimenziju, nema jedinstvene formul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2CA-34A4-41B7-AC34-C94AB51A17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F2091-DA84-458F-A0F3-65E71248AA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 strukture i Decaf objekt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65240" y="762120"/>
            <a:ext cx="8673840" cy="24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rukture u C-u se čuvaju u susjednim memorijskim riječima, dovoljno za sva polja, da budu poravnat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62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struct cow {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62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char milk;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 // 3 prazna bajta posle ovog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62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char* name;   /* poravnat na jednu riječ*/ } Cow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152800" y="3618000"/>
            <a:ext cx="5371920" cy="963360"/>
            <a:chOff x="2152800" y="3618000"/>
            <a:chExt cx="5371920" cy="963360"/>
          </a:xfrm>
        </p:grpSpPr>
        <p:sp>
          <p:nvSpPr>
            <p:cNvPr id="272" name=""/>
            <p:cNvSpPr/>
            <p:nvPr/>
          </p:nvSpPr>
          <p:spPr>
            <a:xfrm>
              <a:off x="2152800" y="3618000"/>
              <a:ext cx="224784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‘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52800" y="4060800"/>
              <a:ext cx="2247840" cy="463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0x20000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00640" y="40608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“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ossy”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0" y="4665600"/>
            <a:ext cx="86742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af objekti se čuvaju slično strukturama u C-u, sa svim poljima i naslijeđenim članovima, i sa vptr (pokazivač na tabelu funkcija članov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71F-6921-4A8A-97F1-ADB2969D86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C7354-DBDA-4A92-BAFE-79DD0066D0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99"/>
                </a:solidFill>
                <a:uFillTx/>
                <a:latin typeface="Tahoma"/>
              </a:rPr>
              <a:t>Decaf objekti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7480" y="152280"/>
            <a:ext cx="8458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ass Mamma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r* nam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oid noise() { print “Grr” }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ass Cow extends Mamma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r milk; // production grad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oid noise() { print “Moo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 weight() { return 1000; }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w elsie = new Cow(‘A’, “Elsie”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851040" y="5502240"/>
            <a:ext cx="2184120" cy="463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40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851040" y="5925960"/>
            <a:ext cx="2184120" cy="426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827520" y="5905440"/>
            <a:ext cx="2019240" cy="520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i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851040" y="5059440"/>
            <a:ext cx="2184120" cy="426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t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851040" y="3505320"/>
            <a:ext cx="2209680" cy="1373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a heap-u, pronalazimo  objekat elsi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3819600" y="3505320"/>
            <a:ext cx="2027160" cy="1373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 segmentu statičkih podatak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4" name=""/>
          <p:cNvCxnSpPr>
            <a:stCxn id="278" idx="3"/>
            <a:endCxn id="280" idx="1"/>
          </p:cNvCxnSpPr>
          <p:nvPr/>
        </p:nvCxnSpPr>
        <p:spPr>
          <a:xfrm>
            <a:off x="3042720" y="5741640"/>
            <a:ext cx="777240" cy="432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3835440" y="5245200"/>
            <a:ext cx="2019240" cy="463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w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6" name=""/>
          <p:cNvCxnSpPr>
            <a:stCxn id="281" idx="3"/>
            <a:endCxn id="287" idx="1"/>
          </p:cNvCxnSpPr>
          <p:nvPr/>
        </p:nvCxnSpPr>
        <p:spPr>
          <a:xfrm flipV="1">
            <a:off x="3042720" y="5004720"/>
            <a:ext cx="785160" cy="276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835440" y="4765680"/>
            <a:ext cx="2019240" cy="463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8" name=""/>
          <p:cNvCxnSpPr>
            <a:stCxn id="287" idx="3"/>
            <a:endCxn id="289" idx="1"/>
          </p:cNvCxnSpPr>
          <p:nvPr/>
        </p:nvCxnSpPr>
        <p:spPr>
          <a:xfrm flipV="1">
            <a:off x="5862240" y="3312360"/>
            <a:ext cx="754920" cy="1693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3"/>
            <a:endCxn id="291" idx="1"/>
          </p:cNvCxnSpPr>
          <p:nvPr/>
        </p:nvCxnSpPr>
        <p:spPr>
          <a:xfrm flipV="1">
            <a:off x="5862240" y="5059080"/>
            <a:ext cx="76284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5862600" y="1689120"/>
            <a:ext cx="3041640" cy="542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 tekst segment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6624720" y="2832120"/>
            <a:ext cx="2287440" cy="961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d za Cow::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6632640" y="4578480"/>
            <a:ext cx="2287440" cy="961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d za Cow::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F8C-8CC3-45A4-B937-A61BDA3691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6B158-8C02-4FD3-A798-27236CA6A1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OO m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thod dispatch jo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š jedno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98560" y="914400"/>
            <a:ext cx="7637400" cy="522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620-1D87-48F3-A7B4-0A53797DC8C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86F35-B604-4C1B-994B-CF2EAAD1B4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Metod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214280" y="914400"/>
            <a:ext cx="5815080" cy="2579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46000" y="3753000"/>
            <a:ext cx="7718400" cy="220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D6F-E913-4FA6-A3AB-1FFE9B0FF80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950C8-B095-4BBF-8DB4-B3CD7561A9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asl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eđivan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0880" y="952560"/>
            <a:ext cx="8458200" cy="49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C67-A8CD-43B7-9454-83633A82665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40492-BC3F-4189-9D57-6FFF4BB4E5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ispatch vektor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760840" y="1020600"/>
            <a:ext cx="3686040" cy="54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675-BE78-47D3-9821-929BAC4309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A329A-29B7-4ABE-8D33-9DF83CB66B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untime environmen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ako se program smješta u memoriju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Kod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Podaci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Stek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Heap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ahoma"/>
              </a:rPr>
              <a:t>Kako se predaje i</a:t>
            </a:r>
            <a:r>
              <a:rPr b="0" lang="sr-Latn-CS" sz="34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400" spc="-1" strike="noStrike">
                <a:solidFill>
                  <a:srgbClr val="000099"/>
                </a:solidFill>
                <a:latin typeface="Tahoma"/>
              </a:rPr>
              <a:t>formacija između pozivačke i pozvane funkcije</a:t>
            </a:r>
            <a:endParaRPr b="0" lang="en-US" sz="3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D42-5489-4CDF-AE6B-FF83559095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1FF19-3277-46FF-95F7-2A347819DE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Predstavljanje objeka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143000" y="1127160"/>
            <a:ext cx="6797520" cy="35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B45-500A-48F9-836C-E4E6350BFB6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BBD20-56BD-4D36-8F0B-BBD935C058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lokacija objeka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80880" y="1336680"/>
            <a:ext cx="8534520" cy="426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FBB-0DC8-4066-9F77-B5DE4406A82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83F37-4CFF-4AB5-B653-D34B0D0231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80880" y="1008000"/>
            <a:ext cx="8534520" cy="493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E5E-BBA5-4EE7-8A12-BA8B0727843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10324-491C-4353-81C0-DF029DBF7E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80880" y="1355760"/>
            <a:ext cx="8534520" cy="42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6DB-BBAD-40A9-BFB4-8AFDB076F72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5D58B-52E8-40C7-B2AF-000E66B3A6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Pozivi f-ija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5240" y="901800"/>
            <a:ext cx="8826480" cy="56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 je potrebno za generisanje poziv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ushParam, PopPara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Call, ACal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eginFunc, EndFunc, Retur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 šta radi pozivačka (caller) ili pozvana (callee) funkcij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ako međusobno komuniciraju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IPS, u opštem slučaju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af, kao poseban slučaj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1CD-1B80-4336-8310-82AFC8E69A9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BF7A2-227C-4844-87CF-A334119795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Ko šta radi? (I)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2280" y="876240"/>
            <a:ext cx="851544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je poziva f-ije, pozivačka f-ij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ačuva sve neophodne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i argumente na stek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lja statičku vezu (ako je potrebno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Šta je to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ačuva povratnu adresu u  $r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uje skok ili grananje (jump ili branch) na pozvanu f-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F04-2BCF-43B5-AC69-47A4144D99B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F5B21-640A-4974-AD88-6A652CB2A8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Ko šta radi?</a:t>
            </a:r>
            <a:r>
              <a:rPr b="0" lang="sr-Latn-C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(II)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876240"/>
            <a:ext cx="86868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toku poziva f-ije, pozvana f-ij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ačuva sve neophodne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lja novi frame pokazivač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prema prostor za lokalne promjenljive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omo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 promjenlji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drađuje svoj posao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lja povratnu vrijednost u $v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riše frame pokazivač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t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čku vez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raća vrijednosti u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kok na povratnu adresu (sačuvanu na steku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EFB-DEBF-465B-8188-98D86F02073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47B53-48CC-4B0E-8732-94B4F54004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Ko šta radi? (III)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280" y="875880"/>
            <a:ext cx="868680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lije poziva f-ije pozivačka f-ij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klanja povratnu adresu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arametre s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te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zima povratnu vrijednost sa $v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raća vrijednosti u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stavlja sa izvršavanjem svog kod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azličite arhitekture / kompajleri biraju različite načine čuvanja i povraćaja vrijednost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gledati SPIM_Manual.pdf  za opšti slučaj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104-4D9D-42E3-B8F8-DC6CD13249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1AED3-3D00-4D2A-BCC9-883DB4B8DF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edaja parameta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 vrijednosti (Call by value): argument se izračunava i kopiju vrijednosti šalje na stek pozivač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Obično se prvih nekoliko parametara mogu predati preko registara (opšte namjene ili FP), radi  bržeg pristupa. 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U Decaf-u :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Tahoma"/>
              </a:rPr>
              <a:t>Emitujemo pozivački kod za push argumenata na stek.</a:t>
            </a:r>
            <a:endParaRPr b="0" lang="en-US" sz="30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Tahoma"/>
              </a:rPr>
              <a:t>Emitujemo kod za pozvanu f-iju da pročita parametre sa steka.</a:t>
            </a:r>
            <a:endParaRPr b="0" lang="en-US" sz="30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51E-1213-4590-A458-87BC725C0D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ABC9C-E69C-427D-A767-C52F904EE0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485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zivač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5056200" cy="58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ush parm3, parm2, parm 1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čitava return addr u $r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Jumps to calle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Za pozivača, emitujem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ushParam (s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LCall ili Acall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($ra će biti učitan u asm kod koji se generiše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330800" y="320760"/>
            <a:ext cx="4976640" cy="5752800"/>
            <a:chOff x="4330800" y="320760"/>
            <a:chExt cx="4976640" cy="5752800"/>
          </a:xfrm>
        </p:grpSpPr>
        <p:sp>
          <p:nvSpPr>
            <p:cNvPr id="323" name=""/>
            <p:cNvSpPr/>
            <p:nvPr/>
          </p:nvSpPr>
          <p:spPr>
            <a:xfrm>
              <a:off x="5600880" y="320760"/>
              <a:ext cx="2311200" cy="853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revious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’s fram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00880" y="12034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00880" y="16462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00880" y="20890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00880" y="25318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f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00880" y="29750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r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00880" y="34178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00880" y="38606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00880" y="43038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00880" y="47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00880" y="51894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10160" y="2509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f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30800" y="472428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s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00880" y="56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12080" y="1195560"/>
              <a:ext cx="353880" cy="131436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34200 h 1314360"/>
                <a:gd name="textAreaBottom" fmla="*/ 128016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12080" y="2523960"/>
              <a:ext cx="353880" cy="220032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57240 h 2200320"/>
                <a:gd name="textAreaBottom" fmla="*/ 2143080 h 22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5960" y="1562040"/>
              <a:ext cx="103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65960" y="333360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1E9-5724-409E-9FC7-237E965C98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F73A8-1F5A-4479-9A17-28C138F4E8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gled memorije pri izvršavan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27000"/>
            <a:ext cx="9144000" cy="54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PIM_Manual.pd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652840"/>
            <a:ext cx="6807240" cy="3906720"/>
            <a:chOff x="838080" y="2652840"/>
            <a:chExt cx="6807240" cy="3906720"/>
          </a:xfrm>
        </p:grpSpPr>
        <p:grpSp>
          <p:nvGrpSpPr>
            <p:cNvPr id="80" name=""/>
            <p:cNvGrpSpPr/>
            <p:nvPr/>
          </p:nvGrpSpPr>
          <p:grpSpPr>
            <a:xfrm>
              <a:off x="838080" y="2890080"/>
              <a:ext cx="2971800" cy="3460680"/>
              <a:chOff x="838080" y="2890080"/>
              <a:chExt cx="2971800" cy="3460680"/>
            </a:xfrm>
          </p:grpSpPr>
          <p:sp>
            <p:nvSpPr>
              <p:cNvPr id="81" name=""/>
              <p:cNvSpPr/>
              <p:nvPr/>
            </p:nvSpPr>
            <p:spPr>
              <a:xfrm>
                <a:off x="838080" y="5830200"/>
                <a:ext cx="297180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38080" y="5295240"/>
                <a:ext cx="297180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Static dat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38080" y="4760280"/>
                <a:ext cx="297180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Global dat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62040" y="3746520"/>
                <a:ext cx="457200" cy="492120"/>
              </a:xfrm>
              <a:prstGeom prst="upArrow">
                <a:avLst>
                  <a:gd name="adj1" fmla="val 38889"/>
                  <a:gd name="adj2" fmla="val 5624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2247840" y="3385440"/>
                <a:ext cx="457200" cy="493560"/>
              </a:xfrm>
              <a:prstGeom prst="upArrow">
                <a:avLst>
                  <a:gd name="adj1" fmla="val 38889"/>
                  <a:gd name="adj2" fmla="val 5641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38080" y="2890080"/>
                <a:ext cx="2971800" cy="5205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Runtime stack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38080" y="4245840"/>
                <a:ext cx="2971800" cy="5205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 Narrow"/>
                  </a:rPr>
                  <a:t>Dynamic data (heap)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4178160" y="2652840"/>
              <a:ext cx="303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High memor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30800" y="6039000"/>
              <a:ext cx="288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ow memor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92640" y="42292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(not to scale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547-F7C3-4081-BAC7-6EBCF08A26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77241-9C03-411A-9868-1B3A7A8724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48531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zvana f-ija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-360" y="583920"/>
            <a:ext cx="5397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sta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v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lja $fp i $sp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$sp markira slobodan prostor na steku (za temps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zvršava kod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Vraća vrijednost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Za pozvanu f-iju, emitujem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BeginFunc n;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Regs get set in asm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TAC for callee’s code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ndFunc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Restores regs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eturn ili Return t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loads $v0, jumps to old $ra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330800" y="320760"/>
            <a:ext cx="4976640" cy="5752800"/>
            <a:chOff x="4330800" y="320760"/>
            <a:chExt cx="4976640" cy="5752800"/>
          </a:xfrm>
        </p:grpSpPr>
        <p:sp>
          <p:nvSpPr>
            <p:cNvPr id="344" name=""/>
            <p:cNvSpPr/>
            <p:nvPr/>
          </p:nvSpPr>
          <p:spPr>
            <a:xfrm>
              <a:off x="5600880" y="320760"/>
              <a:ext cx="2311200" cy="853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revious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’s fram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00880" y="12034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00880" y="16462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00880" y="20890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00880" y="25318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f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00880" y="29750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r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0880" y="34178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00880" y="38606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00880" y="43038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00880" y="47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00880" y="51894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10160" y="2509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f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30800" y="472428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s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00880" y="56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12080" y="1195560"/>
              <a:ext cx="353880" cy="131436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34200 h 1314360"/>
                <a:gd name="textAreaBottom" fmla="*/ 128016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12080" y="2523960"/>
              <a:ext cx="353880" cy="220032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57240 h 2200320"/>
                <a:gd name="textAreaBottom" fmla="*/ 2143080 h 22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65960" y="1562040"/>
              <a:ext cx="103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5960" y="333360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6C7-371A-4507-9700-ADAAF5C5F6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50598-82BE-408A-94D8-9A706704A1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485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slije poziva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02680" y="752400"/>
            <a:ext cx="4853160" cy="58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Za pozivača, emitujem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pParams (n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enerisani Asm će očistiti registr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330800" y="320760"/>
            <a:ext cx="4976640" cy="5752800"/>
            <a:chOff x="4330800" y="320760"/>
            <a:chExt cx="4976640" cy="5752800"/>
          </a:xfrm>
        </p:grpSpPr>
        <p:sp>
          <p:nvSpPr>
            <p:cNvPr id="365" name=""/>
            <p:cNvSpPr/>
            <p:nvPr/>
          </p:nvSpPr>
          <p:spPr>
            <a:xfrm>
              <a:off x="5600880" y="320760"/>
              <a:ext cx="2311200" cy="853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revious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’s fram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00880" y="12034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00880" y="16462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00880" y="20890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00880" y="25318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f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29750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r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00880" y="34178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00880" y="38606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00880" y="43038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00880" y="47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00880" y="51894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10160" y="2509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f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30800" y="472428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s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00880" y="56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12080" y="1195560"/>
              <a:ext cx="353880" cy="131436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34200 h 1314360"/>
                <a:gd name="textAreaBottom" fmla="*/ 128016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12080" y="2523960"/>
              <a:ext cx="353880" cy="220032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57240 h 2200320"/>
                <a:gd name="textAreaBottom" fmla="*/ 2143080 h 22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65960" y="1562040"/>
              <a:ext cx="103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65960" y="333360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89E-61ED-4574-ACB1-8E1444307A1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239BB-BD89-46E6-840C-8719A58B02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mještanje programa u memori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d nižih adresa ka višim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d (tekst segment, instrukcij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atički (konstantni) podac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i podac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namički podaci (heap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untime stek (pozivi procedur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gled svake sekcij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9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98D6-B7FB-4D52-A266-4F538B42AE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B070E-BA65-472E-864E-3D659DAF66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ekst segment (executable code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8231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varne m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e instrukc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 MIPS/u, sve su 32 bit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ritmeti</a:t>
            </a:r>
            <a:r>
              <a:rPr b="0" lang="hr-HR" sz="3200" spc="-1" strike="noStrike">
                <a:solidFill>
                  <a:srgbClr val="3333cc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o / logičk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oređenje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Grananje (Branch - short distances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kokovi (Jump - long distances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ad / stor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omjeranje podatak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nipulisanje konstantam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0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BF2-FCB2-468C-819A-0B8201BF78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31EC2-5AD0-47E7-8248-C5FA2FF383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ekst segment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8231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d segment je write-protected, pa se startovanjem koda ne može obrisati segment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Debuger može obrisati.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1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FF8-0388-4338-984D-95FD548512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8935D-8124-4A0E-BEF2-72D14FB166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gment podataka (data segment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8231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dac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ja je veličina po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ta u vrijeme kompajlira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iji je životni ciklus cijelo izvršavanje programa a ne samo vrijeme izvršavanja f-ije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ahoma"/>
              </a:rPr>
              <a:t>Statički podaci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ključuju  stvari koje se mijenjaju (mogu biti write-protected)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bele za virtu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e f-i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ring literali korišćeni u instrukcijam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rithmetički literali bi mogli biti, ali se češće uključuju u instrukcij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2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F44-C5C5-4DF2-B61D-B170723D59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6C62B-506B-4CB6-B0B0-3801C736E0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gment podataka (data segment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56612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i podaci (ne samo statičk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o deklarisane promjenlji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e static promjenljive (u C-u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okalne za f-iju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uva se njihova vrijednost između 2 izvršavanja f-ij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mantička analiza obezbjeđuje da statičke lokalne promjenljive nisu referencirane van njihovog opseg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3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218-5018-41B6-81BC-03772B1FAD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14420-2A99-4809-8461-4C77830908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s</cp:lastModifiedBy>
  <dcterms:modified xsi:type="dcterms:W3CDTF">2009-04-16T07:38:23Z</dcterms:modified>
  <cp:revision>5441</cp:revision>
  <dc:subject/>
  <dc:title>Welcome to CS143</dc:title>
</cp:coreProperties>
</file>