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2CF8D-520C-45F4-B7FC-84EBA0FCF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7AA02-9D7B-433C-9EC1-DA90CC487B65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B15A1-02E2-41E1-A2CD-1823A52104E8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31CAD-A39B-446D-81DD-33FF3250F430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7382E-4222-4215-B7A9-C3B4410522A0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A9A79-D6E3-4FA3-A7F5-2A9E9DE43862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58FE1-2D86-4570-85B6-40DB8397E0F1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5DE27-462E-4B30-AAA0-43F4B091688D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5B798-BA48-4AB5-A682-42AF4EC49A83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6A0B6-EEFE-4EF9-8443-BAAE3689F028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27FC1-6A18-4E53-8DD3-257CD13C2DE6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56A5C-3AAC-41D4-94A9-75346E222D4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7B9E8-EB7B-42ED-B066-8825FD73291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C8ED2-7E98-407D-9A08-1EDB2CB33E8D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00A97-F414-4A5E-9DFC-512591403EC2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4A130-397E-4FBE-A755-FA6EEC3DD085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89FEA-5B35-4CF9-A98C-5345EA0FFEB4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4BA8B-47CF-4434-929D-1889DE7A43BA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D7D52-DC88-4877-ADA0-485EFF3BEA49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FEA9F-0679-4C0B-9DE7-5AA250E1B117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11BB7-E162-4F54-BAEC-459E5D154B65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42FB1-3017-452D-911B-3C1247F5F48D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0C96F-CC96-440B-96A2-52586C842747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F7CF5-613E-411D-85FB-CCDAD9A15B35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62B49-D279-486D-996B-8E3E87F892C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EA8A0-0A02-4F71-BDCE-752BF7E91180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20957-3D1E-4477-98E6-409563F66D95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3365A-C85D-4E36-94FE-96055BF8CDB2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B1740-9EBA-4889-BE69-B0E1B23941BA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AEA6E-BF40-46E4-A3B4-5746F117CF69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B4450-96D6-4C67-BDCC-D6F98CE9C5AA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96484-3C3F-477D-ACD2-CE31F716A6F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6472C-19FB-43AB-A712-A2126E45E8CA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C6AEC-05A7-47D7-8EFD-7BE5CD6F8810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091B3-60BA-4B7F-A19E-BF6E97E41866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5A630-10A8-4652-8436-2EE0EA4F2CA7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D12EA-ED6F-4137-844A-BC69D2697DDE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8FE18-B59C-4801-9F55-4387B298441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4AF38-6B8B-4DD3-A94A-0E9642FE12B1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B49AA-8886-46A6-A35F-498D4E96FD8B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99D29-DD59-4347-871C-EC175F7493E6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5DDA3-FBCE-48D2-815A-AF296886775D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83E0A-364D-4C48-AEF3-8341E81AB3C8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7F519-01F7-44DD-978F-E97226BBC750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1367B-03DA-4896-A6E7-35ACFAE6108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B98D7-6D6A-4E0E-8568-1DF650511A1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056DF-02CB-456A-8AE9-D78363249E5F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D1280-8041-45A0-9552-1A4B72BB175F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F9ECF-6CAB-447E-AD71-9FEE2D70C059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E44B6-A0F3-4C4B-98F7-3BE79BA7A82B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931E2-73C4-44FD-B142-229D1EB8B791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F8E25-36AD-4D6D-BA58-1447929A0B7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AB067-C800-482D-9F5C-98723302853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BD5B8-5F12-4F27-984A-2E18A6028A8E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990E2-EA41-4EF0-8929-5410AF2FD8FA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B1547-C767-4A83-BCA1-9E1AC4B9A145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5B862-5D30-4026-BEE6-338E0C69E526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c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552720"/>
            <a:ext cx="8382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237683C1-6B01-494D-9D1A-4154702FB50B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Uvod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Pokretanje prevedenog programa 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47" name="Diagram 33" descr=""/>
          <p:cNvPicPr/>
          <p:nvPr/>
        </p:nvPicPr>
        <p:blipFill>
          <a:blip r:embed="rId1"/>
          <a:stretch/>
        </p:blipFill>
        <p:spPr>
          <a:xfrm>
            <a:off x="2309760" y="225360"/>
            <a:ext cx="451800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DF478762-CA85-4511-87D7-D24C99D4CF5E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ako zadati instrukcije računaru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Ulaz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: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rogramski jezik visokog nivo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zlaz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: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embl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erske instrukcije niskog nivo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ompajler vrši prevođenje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(translaciju)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Čita i razumije program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ec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zno određuje koje su tražene akc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Shvata kako da doslovno izvrši te akc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aje instrukcije računaru za izvođenje akcij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69600182-14BF-4224-8740-FA051E49B8CF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Ulaz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tandard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n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imperativ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ni jezic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Java, C, C++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t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Promjenljive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tru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ture, 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Nizovi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zračunavanj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zraz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 (aritmeti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čk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, logi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čk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td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.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Assignment statements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Control flow (conditionals, loops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Procedures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B3BED2EA-869B-4259-87BE-BFFA126646F6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zlaz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t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nj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Registr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Memor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ja sa “ravnim”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dresnim prostorom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M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š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ski 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od – load/store arhite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tur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Load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store instru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c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je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ritmet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čke i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log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čke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oper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cije nad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registr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m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nstrukcije grananja (b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ranch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6EAF28FF-6333-4DD6-8F2D-9BF4A5C78377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Primjer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(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source code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sumcalc(int a, int b, int N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b*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E5D3C8D3-3122-4967-9E31-C9490530FC2F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Primjer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(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zlaz –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sembl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erski k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od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8960" y="1143000"/>
            <a:ext cx="3352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sumcalc: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pushq   %rbp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q    %rsp, %rbp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di, -4(%rbp)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si, -8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dx, -12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$0, -20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$0, -24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$0, -16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2:    movl    -16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cmpl    -12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jg      .L3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-4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l    0(,%rax,4)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q    -8(%rbp), %r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q    %rax, -40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dx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q    -40(%rbp), %rc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cltd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divl   (%rcx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ax, -28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-28(%rbp)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mull   -16(%rbp)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-16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ncl   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mull   %eax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addl    %eax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-8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ax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mull   -24(%rbp)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q    -16(%rbp), %r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ncl    (%rax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jmp     .L2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3:    movl    -20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ve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ret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952880" y="1143000"/>
            <a:ext cx="33530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size   sumcalc, .-sumcalc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section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frame1: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ECIE1-.LSCIE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SCIE1: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0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string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""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s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-8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10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c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7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8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90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0x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align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8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ECIE1: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EFDE1-.LASFDE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ASFDE1-.Lframe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quad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FB2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quad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FE2-.LFB2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4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CFI0-.LFB2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e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10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86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2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4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CFI1-.LCFI0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d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6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align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8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Mapping Time Continuum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mpilation to Interpret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ompile tim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Ex: C compiler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Link tim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Ex: Binary layout optimizer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Load tim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Ex: JIT compiler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Run tim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Ex: Java Interpreter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485B1A9A-54DD-4736-89EB-E7227AA58F44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nterpret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cij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cheme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nterpret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ste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rogram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oji čita program napisan u jeziku S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heme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 izvršava funkcije tog program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cxnSp>
        <p:nvCxnSpPr>
          <p:cNvPr id="169" name="AutoShape 5"/>
          <p:cNvCxnSpPr/>
          <p:nvPr/>
        </p:nvCxnSpPr>
        <p:spPr>
          <a:xfrm flipH="1">
            <a:off x="4571640" y="2057400"/>
            <a:ext cx="2160" cy="144864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pic>
        <p:nvPicPr>
          <p:cNvPr id="170" name="Diagram 14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108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Prevođenje (t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ransl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cija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cheme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omp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j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l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revodi program napisan u jeziku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Scheme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u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m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šinski jezik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roceso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hard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verski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nterpet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za mašinski jezi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3" name="Diagram 15" descr=""/>
          <p:cNvPicPr/>
          <p:nvPr/>
        </p:nvPicPr>
        <p:blipFill>
          <a:blip r:embed="rId1"/>
          <a:stretch/>
        </p:blipFill>
        <p:spPr>
          <a:xfrm>
            <a:off x="2084400" y="3121200"/>
            <a:ext cx="49687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ahoma"/>
              </a:rPr>
              <a:t>Program u originalnom obliku – izvorni program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ccffff"/>
                </a:solidFill>
                <a:latin typeface="Tahoma"/>
              </a:rPr>
              <a:t>("source program", "source code"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</a:t>
            </a:r>
            <a:r>
              <a:rPr b="0" lang="sl-SI" sz="2800" spc="-1" strike="noStrike">
                <a:solidFill>
                  <a:srgbClr val="ccffff"/>
                </a:solidFill>
                <a:latin typeface="Tahoma"/>
              </a:rPr>
              <a:t>revedena verzija – objektni kod ("object code"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ahoma"/>
              </a:rPr>
              <a:t>Kompajler (engl. compiler) – termin koji je uvela Grace Hoper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Terminologi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fld id="{940F2FDC-8487-4279-9475-7081D3A0559F}" type="slidenum"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egled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757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575"/>
                </a:solidFill>
                <a:latin typeface="Tahoma"/>
              </a:rPr>
              <a:t>Administrativne informacij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Uvod u programske prevodioc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Š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ta 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su kompajleri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?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Zašto ih izučavamo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Anatom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ija k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omp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aj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ler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19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nterpretation vs. Translation?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Lakše je napisat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interpreter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nterpret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 bliži PJ, pa daje bolji opis grešak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nterpret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 sporij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10x?),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li je kod manji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(2X?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nterpret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daje mogućnost nezavisnosti skupa instrukcij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: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zvršava se na svakoj mašini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nterpretation vs. Translation?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Translated/compiled 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kod je skoro uvijek efikasniji i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ima bolje preformanse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39800" indent="-285840">
              <a:spcBef>
                <a:spcPts val="64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Važno za mnoge aplikacije, posebno OS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Translation/compilation 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pomaže sakrivanju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 “source” 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od korisnika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39800" indent="-285840">
              <a:spcBef>
                <a:spcPts val="64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M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odel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za zarađivanje 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npr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. Microsoft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čuva svoj source  kod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39800" indent="-285840">
              <a:spcBef>
                <a:spcPts val="64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Alternati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vni 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model, “open source”,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re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ira vrijednost objavljivanjem source koda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27CD22EC-D5DE-459C-8D1B-618B22B374F2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762120" y="3809880"/>
            <a:ext cx="7619760" cy="2286000"/>
            <a:chOff x="762120" y="3809880"/>
            <a:chExt cx="7619760" cy="2286000"/>
          </a:xfrm>
        </p:grpSpPr>
        <p:sp>
          <p:nvSpPr>
            <p:cNvPr id="183" name="Oval 4"/>
            <p:cNvSpPr/>
            <p:nvPr/>
          </p:nvSpPr>
          <p:spPr>
            <a:xfrm>
              <a:off x="762120" y="3809880"/>
              <a:ext cx="2286000" cy="2286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ogram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napi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an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rogram</a:t>
              </a: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skom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jeziku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84" name="Oval 5"/>
            <p:cNvSpPr/>
            <p:nvPr/>
          </p:nvSpPr>
          <p:spPr>
            <a:xfrm>
              <a:off x="6095880" y="3809880"/>
              <a:ext cx="2286000" cy="22860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Asemb</a:t>
              </a:r>
              <a:r>
                <a:rPr b="0" lang="sr-Latn-CS" sz="2400" spc="-1" strike="noStrike">
                  <a:solidFill>
                    <a:srgbClr val="00ffff"/>
                  </a:solidFill>
                  <a:latin typeface="Times New Roman"/>
                </a:rPr>
                <a:t>erski</a:t>
              </a: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ffff"/>
                  </a:solidFill>
                  <a:latin typeface="Times New Roman"/>
                </a:rPr>
                <a:t>jezik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>
              <a:off x="3200400" y="4191120"/>
              <a:ext cx="2819520" cy="1403280"/>
            </a:xfrm>
            <a:prstGeom prst="rightArrow">
              <a:avLst>
                <a:gd name="adj1" fmla="val 50000"/>
                <a:gd name="adj2" fmla="val 50231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150090"/>
                  </a:solidFill>
                  <a:latin typeface="Times New Roman"/>
                </a:rPr>
                <a:t>K</a:t>
              </a:r>
              <a:r>
                <a:rPr b="1" lang="en-US" sz="4000" spc="-1" strike="noStrike">
                  <a:solidFill>
                    <a:srgbClr val="150090"/>
                  </a:solidFill>
                  <a:latin typeface="Times New Roman"/>
                </a:rPr>
                <a:t>omp</a:t>
              </a:r>
              <a:r>
                <a:rPr b="1" lang="sr-Latn-CS" sz="4000" spc="-1" strike="noStrike">
                  <a:solidFill>
                    <a:srgbClr val="150090"/>
                  </a:solidFill>
                  <a:latin typeface="Times New Roman"/>
                </a:rPr>
                <a:t>ajler</a:t>
              </a:r>
              <a:endParaRPr b="0" lang="en-US" sz="4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186" name="WordArt 7"/>
          <p:cNvSpPr txBox="1"/>
          <p:nvPr/>
        </p:nvSpPr>
        <p:spPr>
          <a:xfrm>
            <a:off x="3276720" y="2666880"/>
            <a:ext cx="2209680" cy="169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???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87511D8D-2F63-42D0-8FB9-3C926218298C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xical Analyzer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933640" y="191304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2933640" y="108252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809880" y="10666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</a:t>
            </a:r>
            <a:r>
              <a:rPr b="0" lang="sr-Latn-CS" sz="2400" spc="-1" strike="noStrike">
                <a:solidFill>
                  <a:srgbClr val="150090"/>
                </a:solidFill>
                <a:latin typeface="Times New Roman"/>
              </a:rPr>
              <a:t>ksička</a:t>
            </a: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15009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nal</a:t>
            </a:r>
            <a:r>
              <a:rPr b="0" lang="sr-Latn-CS" sz="2400" spc="-1" strike="noStrike">
                <a:solidFill>
                  <a:srgbClr val="150090"/>
                </a:solidFill>
                <a:latin typeface="Times New Roman"/>
              </a:rPr>
              <a:t>iza</a:t>
            </a: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94" name="Group 9"/>
          <p:cNvGrpSpPr/>
          <p:nvPr/>
        </p:nvGrpSpPr>
        <p:grpSpPr>
          <a:xfrm>
            <a:off x="2933640" y="1913040"/>
            <a:ext cx="2852640" cy="515160"/>
            <a:chOff x="2933640" y="1913040"/>
            <a:chExt cx="2852640" cy="515160"/>
          </a:xfrm>
        </p:grpSpPr>
        <p:sp>
          <p:nvSpPr>
            <p:cNvPr id="195" name="AutoShape 10"/>
            <p:cNvSpPr/>
            <p:nvPr/>
          </p:nvSpPr>
          <p:spPr>
            <a:xfrm>
              <a:off x="2933640" y="1913040"/>
              <a:ext cx="762120" cy="499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96" name="Text Box 11"/>
            <p:cNvSpPr/>
            <p:nvPr/>
          </p:nvSpPr>
          <p:spPr>
            <a:xfrm>
              <a:off x="3886200" y="1968480"/>
              <a:ext cx="19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Niz tokena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197" name="Group 12"/>
          <p:cNvGrpSpPr/>
          <p:nvPr/>
        </p:nvGrpSpPr>
        <p:grpSpPr>
          <a:xfrm>
            <a:off x="2895480" y="1066680"/>
            <a:ext cx="5143680" cy="569880"/>
            <a:chOff x="2895480" y="1066680"/>
            <a:chExt cx="5143680" cy="569880"/>
          </a:xfrm>
        </p:grpSpPr>
        <p:sp>
          <p:nvSpPr>
            <p:cNvPr id="198" name="AutoShape 13"/>
            <p:cNvSpPr/>
            <p:nvPr/>
          </p:nvSpPr>
          <p:spPr>
            <a:xfrm>
              <a:off x="2895480" y="1066680"/>
              <a:ext cx="762120" cy="49896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99" name="Text Box 14"/>
            <p:cNvSpPr/>
            <p:nvPr/>
          </p:nvSpPr>
          <p:spPr>
            <a:xfrm>
              <a:off x="3848040" y="117684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rogram (</a:t>
              </a: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niz karaketera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8E0E9CA4-0370-47AD-96DB-2714F0B8A297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e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s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čk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analiz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(Scanner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29680" y="26668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234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616400" y="2666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mul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806920" y="2666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lpar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874680" y="26668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11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094000" y="2666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add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7484400" y="2666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rpar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304920" y="1752480"/>
            <a:ext cx="380880" cy="3812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685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1447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1828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2209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2590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2971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3352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3733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4114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Rectangle 21"/>
          <p:cNvSpPr/>
          <p:nvPr/>
        </p:nvSpPr>
        <p:spPr>
          <a:xfrm>
            <a:off x="4495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Rectangle 22"/>
          <p:cNvSpPr/>
          <p:nvPr/>
        </p:nvSpPr>
        <p:spPr>
          <a:xfrm>
            <a:off x="4876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Rectangle 23"/>
          <p:cNvSpPr/>
          <p:nvPr/>
        </p:nvSpPr>
        <p:spPr>
          <a:xfrm>
            <a:off x="5257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Rectangle 24"/>
          <p:cNvSpPr/>
          <p:nvPr/>
        </p:nvSpPr>
        <p:spPr>
          <a:xfrm>
            <a:off x="5638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Rectangle 25"/>
          <p:cNvSpPr/>
          <p:nvPr/>
        </p:nvSpPr>
        <p:spPr>
          <a:xfrm>
            <a:off x="6019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Rectangle 26"/>
          <p:cNvSpPr/>
          <p:nvPr/>
        </p:nvSpPr>
        <p:spPr>
          <a:xfrm>
            <a:off x="6400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Rectangle 27"/>
          <p:cNvSpPr/>
          <p:nvPr/>
        </p:nvSpPr>
        <p:spPr>
          <a:xfrm>
            <a:off x="6781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6" name="Rectangle 28"/>
          <p:cNvSpPr/>
          <p:nvPr/>
        </p:nvSpPr>
        <p:spPr>
          <a:xfrm>
            <a:off x="7162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Rectangle 29"/>
          <p:cNvSpPr/>
          <p:nvPr/>
        </p:nvSpPr>
        <p:spPr>
          <a:xfrm>
            <a:off x="7543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Rectangle 30"/>
          <p:cNvSpPr/>
          <p:nvPr/>
        </p:nvSpPr>
        <p:spPr>
          <a:xfrm>
            <a:off x="8305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7924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Text Box 32"/>
          <p:cNvSpPr/>
          <p:nvPr/>
        </p:nvSpPr>
        <p:spPr>
          <a:xfrm>
            <a:off x="6188760" y="2666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-22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BC84F31E-FCC2-4DF0-BC8A-2761C81C1B48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e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s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čk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analiz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(Scanner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8382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18..23 + val#ue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29680" y="26668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234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616400" y="2666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mul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2806920" y="2666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lpar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3874680" y="26668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11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5094000" y="2666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add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7484400" y="2666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rpar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304920" y="1752480"/>
            <a:ext cx="380880" cy="3812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685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1447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1828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2209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2590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Rectangle 17"/>
          <p:cNvSpPr/>
          <p:nvPr/>
        </p:nvSpPr>
        <p:spPr>
          <a:xfrm>
            <a:off x="2971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3352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3733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4114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4495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Rectangle 22"/>
          <p:cNvSpPr/>
          <p:nvPr/>
        </p:nvSpPr>
        <p:spPr>
          <a:xfrm>
            <a:off x="4876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5257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4" name="Rectangle 24"/>
          <p:cNvSpPr/>
          <p:nvPr/>
        </p:nvSpPr>
        <p:spPr>
          <a:xfrm>
            <a:off x="5638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6019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6400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Rectangle 27"/>
          <p:cNvSpPr/>
          <p:nvPr/>
        </p:nvSpPr>
        <p:spPr>
          <a:xfrm>
            <a:off x="6781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Rectangle 28"/>
          <p:cNvSpPr/>
          <p:nvPr/>
        </p:nvSpPr>
        <p:spPr>
          <a:xfrm>
            <a:off x="7162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Rectangle 29"/>
          <p:cNvSpPr/>
          <p:nvPr/>
        </p:nvSpPr>
        <p:spPr>
          <a:xfrm>
            <a:off x="7543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0" name="Rectangle 30"/>
          <p:cNvSpPr/>
          <p:nvPr/>
        </p:nvSpPr>
        <p:spPr>
          <a:xfrm>
            <a:off x="8305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Rectangle 31"/>
          <p:cNvSpPr/>
          <p:nvPr/>
        </p:nvSpPr>
        <p:spPr>
          <a:xfrm>
            <a:off x="7924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Text Box 32"/>
          <p:cNvSpPr/>
          <p:nvPr/>
        </p:nvSpPr>
        <p:spPr>
          <a:xfrm>
            <a:off x="6188760" y="2666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-22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63" name="Group 33"/>
          <p:cNvGrpSpPr/>
          <p:nvPr/>
        </p:nvGrpSpPr>
        <p:grpSpPr>
          <a:xfrm>
            <a:off x="990720" y="4724280"/>
            <a:ext cx="2833200" cy="1110600"/>
            <a:chOff x="990720" y="4724280"/>
            <a:chExt cx="2833200" cy="1110600"/>
          </a:xfrm>
        </p:grpSpPr>
        <p:sp>
          <p:nvSpPr>
            <p:cNvPr id="264" name="Line 34"/>
            <p:cNvSpPr/>
            <p:nvPr/>
          </p:nvSpPr>
          <p:spPr>
            <a:xfrm>
              <a:off x="990720" y="4724280"/>
              <a:ext cx="91404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65" name="Text Box 35"/>
            <p:cNvSpPr/>
            <p:nvPr/>
          </p:nvSpPr>
          <p:spPr>
            <a:xfrm>
              <a:off x="1888920" y="5375160"/>
              <a:ext cx="193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Not a number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266" name="Group 36"/>
          <p:cNvGrpSpPr/>
          <p:nvPr/>
        </p:nvGrpSpPr>
        <p:grpSpPr>
          <a:xfrm>
            <a:off x="2514600" y="4724280"/>
            <a:ext cx="6435720" cy="707400"/>
            <a:chOff x="2514600" y="4724280"/>
            <a:chExt cx="6435720" cy="707400"/>
          </a:xfrm>
        </p:grpSpPr>
        <p:sp>
          <p:nvSpPr>
            <p:cNvPr id="267" name="Line 37"/>
            <p:cNvSpPr/>
            <p:nvPr/>
          </p:nvSpPr>
          <p:spPr>
            <a:xfrm>
              <a:off x="2514600" y="4724280"/>
              <a:ext cx="1204920" cy="37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68" name="Text Box 38"/>
            <p:cNvSpPr/>
            <p:nvPr/>
          </p:nvSpPr>
          <p:spPr>
            <a:xfrm>
              <a:off x="3690000" y="4971960"/>
              <a:ext cx="52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riable names cannot have ‘#’ characte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Primjer leksičke analiz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1981080" cy="2057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SansMS"/>
              </a:rPr>
              <a:t>if (i == j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SansMS"/>
              </a:rPr>
              <a:t>z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SansMS"/>
              </a:rPr>
              <a:t>els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SansMS"/>
              </a:rPr>
              <a:t>z = 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514600" y="1980720"/>
            <a:ext cx="6400800" cy="685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SansMS"/>
              </a:rPr>
              <a:t>\tif (i == j)\n\t\tz = 0;\n\telse\n\t\tz = 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2895480"/>
            <a:ext cx="2895480" cy="3796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Whitespace, “\t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Keyword, “if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OpenPar, “(“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Identifier, “i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Relation, “==“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Identifier, “j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…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457200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\t o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v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  ta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\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o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v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  novi red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1078ED10-AE8A-4591-8F29-2D9D7AB723FD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xical Analyzer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219320" y="2411280"/>
            <a:ext cx="4114800" cy="331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yntax Analyzer (Pars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2933640" y="191304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AutoShape 7"/>
          <p:cNvSpPr/>
          <p:nvPr/>
        </p:nvSpPr>
        <p:spPr>
          <a:xfrm>
            <a:off x="2933640" y="274320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933640" y="108252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886200" y="1192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Program (</a:t>
            </a: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karaktera</a:t>
            </a: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1219320" y="2411280"/>
            <a:ext cx="4114800" cy="331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yntax Analyzer (Pars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3" name="Group 12"/>
          <p:cNvGrpSpPr/>
          <p:nvPr/>
        </p:nvGrpSpPr>
        <p:grpSpPr>
          <a:xfrm>
            <a:off x="2933640" y="1913040"/>
            <a:ext cx="2852640" cy="515160"/>
            <a:chOff x="2933640" y="1913040"/>
            <a:chExt cx="2852640" cy="515160"/>
          </a:xfrm>
        </p:grpSpPr>
        <p:sp>
          <p:nvSpPr>
            <p:cNvPr id="284" name="AutoShape 13"/>
            <p:cNvSpPr/>
            <p:nvPr/>
          </p:nvSpPr>
          <p:spPr>
            <a:xfrm>
              <a:off x="2933640" y="1913040"/>
              <a:ext cx="762120" cy="499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85" name="Text Box 14"/>
            <p:cNvSpPr/>
            <p:nvPr/>
          </p:nvSpPr>
          <p:spPr>
            <a:xfrm>
              <a:off x="3886200" y="1968480"/>
              <a:ext cx="19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Niz t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oken</a:t>
              </a: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286" name="Group 15"/>
          <p:cNvGrpSpPr/>
          <p:nvPr/>
        </p:nvGrpSpPr>
        <p:grpSpPr>
          <a:xfrm>
            <a:off x="2895480" y="2743200"/>
            <a:ext cx="2857680" cy="880920"/>
            <a:chOff x="2895480" y="2743200"/>
            <a:chExt cx="2857680" cy="880920"/>
          </a:xfrm>
        </p:grpSpPr>
        <p:sp>
          <p:nvSpPr>
            <p:cNvPr id="287" name="AutoShape 16"/>
            <p:cNvSpPr/>
            <p:nvPr/>
          </p:nvSpPr>
          <p:spPr>
            <a:xfrm>
              <a:off x="2895480" y="2743200"/>
              <a:ext cx="762120" cy="499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88" name="Text Box 17"/>
            <p:cNvSpPr/>
            <p:nvPr/>
          </p:nvSpPr>
          <p:spPr>
            <a:xfrm>
              <a:off x="3848040" y="279864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Drvo parsiranja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FE8D5D3C-616D-4A2D-9547-0140EDCD70DD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nt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sn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nal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za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(Parser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cxnSp>
        <p:nvCxnSpPr>
          <p:cNvPr id="292" name="AutoShape 4"/>
          <p:cNvCxnSpPr/>
          <p:nvPr/>
        </p:nvCxnSpPr>
        <p:spPr>
          <a:xfrm flipH="1">
            <a:off x="1752120" y="2514600"/>
            <a:ext cx="1139040" cy="6433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293" name="AutoShape 5"/>
          <p:cNvCxnSpPr/>
          <p:nvPr/>
        </p:nvCxnSpPr>
        <p:spPr>
          <a:xfrm>
            <a:off x="3052440" y="2514600"/>
            <a:ext cx="2205720" cy="6433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294" name="AutoShape 6"/>
          <p:cNvCxnSpPr/>
          <p:nvPr/>
        </p:nvCxnSpPr>
        <p:spPr>
          <a:xfrm flipH="1">
            <a:off x="3657240" y="3352320"/>
            <a:ext cx="1519920" cy="5677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295" name="AutoShape 7"/>
          <p:cNvCxnSpPr/>
          <p:nvPr/>
        </p:nvCxnSpPr>
        <p:spPr>
          <a:xfrm>
            <a:off x="5338440" y="3352320"/>
            <a:ext cx="1367640" cy="5677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296" name="AutoShape 8"/>
          <p:cNvCxnSpPr/>
          <p:nvPr/>
        </p:nvCxnSpPr>
        <p:spPr>
          <a:xfrm>
            <a:off x="5257800" y="3385800"/>
            <a:ext cx="38880" cy="6102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297" name="AutoShape 9"/>
          <p:cNvCxnSpPr/>
          <p:nvPr/>
        </p:nvCxnSpPr>
        <p:spPr>
          <a:xfrm flipH="1">
            <a:off x="4342680" y="4114800"/>
            <a:ext cx="834120" cy="7200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298" name="Text Box 10"/>
          <p:cNvSpPr/>
          <p:nvPr/>
        </p:nvSpPr>
        <p:spPr>
          <a:xfrm>
            <a:off x="3961800" y="56721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um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299" name="AutoShape 11"/>
          <p:cNvCxnSpPr/>
          <p:nvPr/>
        </p:nvCxnSpPr>
        <p:spPr>
          <a:xfrm>
            <a:off x="5338440" y="4114800"/>
            <a:ext cx="834120" cy="7200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300" name="Text Box 12"/>
          <p:cNvSpPr/>
          <p:nvPr/>
        </p:nvSpPr>
        <p:spPr>
          <a:xfrm>
            <a:off x="5830560" y="56721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um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01" name="AutoShape 13"/>
          <p:cNvCxnSpPr/>
          <p:nvPr/>
        </p:nvCxnSpPr>
        <p:spPr>
          <a:xfrm>
            <a:off x="5257440" y="4147920"/>
            <a:ext cx="1080" cy="6865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302" name="Text Box 14"/>
          <p:cNvSpPr/>
          <p:nvPr/>
        </p:nvSpPr>
        <p:spPr>
          <a:xfrm>
            <a:off x="5069160" y="57484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03" name="AutoShape 15"/>
          <p:cNvCxnSpPr/>
          <p:nvPr/>
        </p:nvCxnSpPr>
        <p:spPr>
          <a:xfrm>
            <a:off x="2971440" y="2547720"/>
            <a:ext cx="1080" cy="6102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304" name="AutoShape 16"/>
          <p:cNvCxnSpPr>
            <a:endCxn id="300" idx="0"/>
          </p:cNvCxnSpPr>
          <p:nvPr/>
        </p:nvCxnSpPr>
        <p:spPr>
          <a:xfrm>
            <a:off x="6171840" y="5062320"/>
            <a:ext cx="20880" cy="6102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305" name="AutoShape 17"/>
          <p:cNvCxnSpPr>
            <a:endCxn id="302" idx="0"/>
          </p:cNvCxnSpPr>
          <p:nvPr/>
        </p:nvCxnSpPr>
        <p:spPr>
          <a:xfrm>
            <a:off x="5257800" y="5062320"/>
            <a:ext cx="2160" cy="6865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306" name="AutoShape 18"/>
          <p:cNvCxnSpPr>
            <a:endCxn id="298" idx="0"/>
          </p:cNvCxnSpPr>
          <p:nvPr/>
        </p:nvCxnSpPr>
        <p:spPr>
          <a:xfrm flipH="1">
            <a:off x="4323600" y="5062320"/>
            <a:ext cx="19800" cy="6102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307" name="Text Box 19"/>
          <p:cNvSpPr/>
          <p:nvPr/>
        </p:nvSpPr>
        <p:spPr>
          <a:xfrm>
            <a:off x="3468960" y="39196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(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Text Box 20"/>
          <p:cNvSpPr/>
          <p:nvPr/>
        </p:nvSpPr>
        <p:spPr>
          <a:xfrm>
            <a:off x="6593040" y="39196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9" name="Text Box 21"/>
          <p:cNvSpPr/>
          <p:nvPr/>
        </p:nvSpPr>
        <p:spPr>
          <a:xfrm>
            <a:off x="2782800" y="391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10" name="AutoShape 22"/>
          <p:cNvCxnSpPr>
            <a:endCxn id="309" idx="0"/>
          </p:cNvCxnSpPr>
          <p:nvPr/>
        </p:nvCxnSpPr>
        <p:spPr>
          <a:xfrm flipH="1">
            <a:off x="2962080" y="3386160"/>
            <a:ext cx="10080" cy="53424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311" name="Text Box 23"/>
          <p:cNvSpPr/>
          <p:nvPr/>
        </p:nvSpPr>
        <p:spPr>
          <a:xfrm>
            <a:off x="1334520" y="3919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um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12" name="AutoShape 24"/>
          <p:cNvCxnSpPr>
            <a:endCxn id="311" idx="0"/>
          </p:cNvCxnSpPr>
          <p:nvPr/>
        </p:nvCxnSpPr>
        <p:spPr>
          <a:xfrm flipH="1">
            <a:off x="1696680" y="3386160"/>
            <a:ext cx="56160" cy="53424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313" name="Text Box 25"/>
          <p:cNvSpPr/>
          <p:nvPr/>
        </p:nvSpPr>
        <p:spPr>
          <a:xfrm>
            <a:off x="2514600" y="213372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4" name="Text Box 26"/>
          <p:cNvSpPr/>
          <p:nvPr/>
        </p:nvSpPr>
        <p:spPr>
          <a:xfrm>
            <a:off x="4838400" y="300528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5" name="Text Box 27"/>
          <p:cNvSpPr/>
          <p:nvPr/>
        </p:nvSpPr>
        <p:spPr>
          <a:xfrm>
            <a:off x="1333440" y="300528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Text Box 28"/>
          <p:cNvSpPr/>
          <p:nvPr/>
        </p:nvSpPr>
        <p:spPr>
          <a:xfrm>
            <a:off x="3924000" y="468144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7" name="Text Box 29"/>
          <p:cNvSpPr/>
          <p:nvPr/>
        </p:nvSpPr>
        <p:spPr>
          <a:xfrm>
            <a:off x="4832280" y="382752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Text Box 30"/>
          <p:cNvSpPr/>
          <p:nvPr/>
        </p:nvSpPr>
        <p:spPr>
          <a:xfrm>
            <a:off x="5746680" y="468144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9" name="Text Box 31"/>
          <p:cNvSpPr/>
          <p:nvPr/>
        </p:nvSpPr>
        <p:spPr>
          <a:xfrm>
            <a:off x="2629080" y="3005280"/>
            <a:ext cx="7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op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Text Box 32"/>
          <p:cNvSpPr/>
          <p:nvPr/>
        </p:nvSpPr>
        <p:spPr>
          <a:xfrm>
            <a:off x="4915080" y="4681440"/>
            <a:ext cx="7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op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1" name="Rectangle 33"/>
          <p:cNvSpPr/>
          <p:nvPr/>
        </p:nvSpPr>
        <p:spPr>
          <a:xfrm>
            <a:off x="905400" y="1523880"/>
            <a:ext cx="476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um ‘*’ ‘(‘ num ‘+’ num ‘)’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DA019A63-4798-431E-968D-C7A179C74D72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nt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sn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nal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za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(Parser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* foo(i, j, k)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i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j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for(i=0; i j) {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fi(i&gt;j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return j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  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4343400" y="2286000"/>
            <a:ext cx="3316680" cy="1110600"/>
            <a:chOff x="4343400" y="2286000"/>
            <a:chExt cx="3316680" cy="1110600"/>
          </a:xfrm>
        </p:grpSpPr>
        <p:sp>
          <p:nvSpPr>
            <p:cNvPr id="326" name="Line 5"/>
            <p:cNvSpPr/>
            <p:nvPr/>
          </p:nvSpPr>
          <p:spPr>
            <a:xfrm>
              <a:off x="4343400" y="2286000"/>
              <a:ext cx="9144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27" name="Text Box 6"/>
            <p:cNvSpPr/>
            <p:nvPr/>
          </p:nvSpPr>
          <p:spPr>
            <a:xfrm>
              <a:off x="5240520" y="2936880"/>
              <a:ext cx="24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xtra parentheses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28" name="Group 7"/>
          <p:cNvGrpSpPr/>
          <p:nvPr/>
        </p:nvGrpSpPr>
        <p:grpSpPr>
          <a:xfrm>
            <a:off x="3657600" y="4191120"/>
            <a:ext cx="4767840" cy="554400"/>
            <a:chOff x="3657600" y="4191120"/>
            <a:chExt cx="4767840" cy="554400"/>
          </a:xfrm>
        </p:grpSpPr>
        <p:sp>
          <p:nvSpPr>
            <p:cNvPr id="329" name="Text Box 8"/>
            <p:cNvSpPr/>
            <p:nvPr/>
          </p:nvSpPr>
          <p:spPr>
            <a:xfrm>
              <a:off x="5961600" y="4285800"/>
              <a:ext cx="24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Missing increment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3657600" y="4191120"/>
              <a:ext cx="23684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3352680" y="4191120"/>
            <a:ext cx="3282840" cy="1110600"/>
            <a:chOff x="3352680" y="4191120"/>
            <a:chExt cx="3282840" cy="1110600"/>
          </a:xfrm>
        </p:grpSpPr>
        <p:sp>
          <p:nvSpPr>
            <p:cNvPr id="332" name="Line 11"/>
            <p:cNvSpPr/>
            <p:nvPr/>
          </p:nvSpPr>
          <p:spPr>
            <a:xfrm>
              <a:off x="3352680" y="4191120"/>
              <a:ext cx="9144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33" name="Text Box 12"/>
            <p:cNvSpPr/>
            <p:nvPr/>
          </p:nvSpPr>
          <p:spPr>
            <a:xfrm>
              <a:off x="4251240" y="4842000"/>
              <a:ext cx="23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Not an expression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34" name="Group 13"/>
          <p:cNvGrpSpPr/>
          <p:nvPr/>
        </p:nvGrpSpPr>
        <p:grpSpPr>
          <a:xfrm>
            <a:off x="1295280" y="4724280"/>
            <a:ext cx="2892600" cy="1110600"/>
            <a:chOff x="1295280" y="4724280"/>
            <a:chExt cx="2892600" cy="1110600"/>
          </a:xfrm>
        </p:grpSpPr>
        <p:sp>
          <p:nvSpPr>
            <p:cNvPr id="335" name="Line 14"/>
            <p:cNvSpPr/>
            <p:nvPr/>
          </p:nvSpPr>
          <p:spPr>
            <a:xfrm>
              <a:off x="1295280" y="4724280"/>
              <a:ext cx="9144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36" name="Text Box 15"/>
            <p:cNvSpPr/>
            <p:nvPr/>
          </p:nvSpPr>
          <p:spPr>
            <a:xfrm>
              <a:off x="2195280" y="5375160"/>
              <a:ext cx="199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Not a keyword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34CF8287-BC5B-43D9-ABEC-9B11146723C6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Zašto izučav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mo kompajlere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?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Daju nam mogućnost programiranja primjenom programskih jezika visokog nivoa a ne primjenom mašinskog jezik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Malleability, Portability, Modularity, Simplicity, Programmer Productivity 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lso Efficiency and Performanc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BF85D6AF-A7CB-4924-A5B0-56D3FC215A38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933640" y="358128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219320" y="3233880"/>
            <a:ext cx="4114800" cy="331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xical Analyzer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1219320" y="2411280"/>
            <a:ext cx="4114800" cy="331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yntax Analyzer (Pars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3" name="AutoShape 8"/>
          <p:cNvSpPr/>
          <p:nvPr/>
        </p:nvSpPr>
        <p:spPr>
          <a:xfrm>
            <a:off x="2933640" y="191304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3886200" y="1968480"/>
            <a:ext cx="19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token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AutoShape 10"/>
          <p:cNvSpPr/>
          <p:nvPr/>
        </p:nvSpPr>
        <p:spPr>
          <a:xfrm>
            <a:off x="2933640" y="274320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6" name="AutoShape 12"/>
          <p:cNvSpPr/>
          <p:nvPr/>
        </p:nvSpPr>
        <p:spPr>
          <a:xfrm>
            <a:off x="2933640" y="108252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3886200" y="1192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Program (</a:t>
            </a: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karaktera</a:t>
            </a: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348" name="Group 14"/>
          <p:cNvGrpSpPr/>
          <p:nvPr/>
        </p:nvGrpSpPr>
        <p:grpSpPr>
          <a:xfrm>
            <a:off x="2895480" y="3581280"/>
            <a:ext cx="6058080" cy="881280"/>
            <a:chOff x="2895480" y="3581280"/>
            <a:chExt cx="6058080" cy="881280"/>
          </a:xfrm>
        </p:grpSpPr>
        <p:sp>
          <p:nvSpPr>
            <p:cNvPr id="349" name="AutoShape 15"/>
            <p:cNvSpPr/>
            <p:nvPr/>
          </p:nvSpPr>
          <p:spPr>
            <a:xfrm>
              <a:off x="2895480" y="3581280"/>
              <a:ext cx="762120" cy="4978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50" name="Text Box 16"/>
            <p:cNvSpPr/>
            <p:nvPr/>
          </p:nvSpPr>
          <p:spPr>
            <a:xfrm>
              <a:off x="3848040" y="3637080"/>
              <a:ext cx="510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Međuprogramska reprezentacija (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PR, engl..Intermediate Representation, IR</a:t>
              </a: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351" name="Rectangle 17"/>
          <p:cNvSpPr/>
          <p:nvPr/>
        </p:nvSpPr>
        <p:spPr>
          <a:xfrm>
            <a:off x="1219320" y="3233880"/>
            <a:ext cx="4114800" cy="331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352" name="Group 18"/>
          <p:cNvGrpSpPr/>
          <p:nvPr/>
        </p:nvGrpSpPr>
        <p:grpSpPr>
          <a:xfrm>
            <a:off x="2819520" y="2743200"/>
            <a:ext cx="3657240" cy="515160"/>
            <a:chOff x="2819520" y="2743200"/>
            <a:chExt cx="3657240" cy="515160"/>
          </a:xfrm>
        </p:grpSpPr>
        <p:sp>
          <p:nvSpPr>
            <p:cNvPr id="353" name="AutoShape 19"/>
            <p:cNvSpPr/>
            <p:nvPr/>
          </p:nvSpPr>
          <p:spPr>
            <a:xfrm>
              <a:off x="2819520" y="2743200"/>
              <a:ext cx="975240" cy="499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54" name="Text Box 20"/>
            <p:cNvSpPr/>
            <p:nvPr/>
          </p:nvSpPr>
          <p:spPr>
            <a:xfrm>
              <a:off x="4038480" y="27986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Drvo parsiranja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1410D626-34CD-437E-BD14-325F2F35C7CA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emanti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čka analaz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* foo(i, j, k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i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j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x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x = x + j + N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return j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  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4038480" y="2286000"/>
            <a:ext cx="3357720" cy="1110600"/>
            <a:chOff x="4038480" y="2286000"/>
            <a:chExt cx="3357720" cy="1110600"/>
          </a:xfrm>
        </p:grpSpPr>
        <p:sp>
          <p:nvSpPr>
            <p:cNvPr id="359" name="Line 5"/>
            <p:cNvSpPr/>
            <p:nvPr/>
          </p:nvSpPr>
          <p:spPr>
            <a:xfrm>
              <a:off x="4038480" y="2286000"/>
              <a:ext cx="9144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60" name="Text Box 6"/>
            <p:cNvSpPr/>
            <p:nvPr/>
          </p:nvSpPr>
          <p:spPr>
            <a:xfrm>
              <a:off x="4935600" y="2936880"/>
              <a:ext cx="24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Type not declared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447920" y="2438280"/>
            <a:ext cx="6819840" cy="2666880"/>
            <a:chOff x="1447920" y="2438280"/>
            <a:chExt cx="6819840" cy="2666880"/>
          </a:xfrm>
        </p:grpSpPr>
        <p:sp>
          <p:nvSpPr>
            <p:cNvPr id="362" name="Line 8"/>
            <p:cNvSpPr/>
            <p:nvPr/>
          </p:nvSpPr>
          <p:spPr>
            <a:xfrm>
              <a:off x="1447920" y="2438280"/>
              <a:ext cx="3643560" cy="18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63" name="Line 9"/>
            <p:cNvSpPr/>
            <p:nvPr/>
          </p:nvSpPr>
          <p:spPr>
            <a:xfrm flipV="1">
              <a:off x="2985840" y="4267080"/>
              <a:ext cx="210528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64" name="Text Box 10"/>
            <p:cNvSpPr/>
            <p:nvPr/>
          </p:nvSpPr>
          <p:spPr>
            <a:xfrm>
              <a:off x="5168520" y="4038480"/>
              <a:ext cx="30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Mismatched return type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65" name="Group 11"/>
          <p:cNvGrpSpPr/>
          <p:nvPr/>
        </p:nvGrpSpPr>
        <p:grpSpPr>
          <a:xfrm>
            <a:off x="2209680" y="4648320"/>
            <a:ext cx="6287040" cy="535680"/>
            <a:chOff x="2209680" y="4648320"/>
            <a:chExt cx="6287040" cy="535680"/>
          </a:xfrm>
        </p:grpSpPr>
        <p:sp>
          <p:nvSpPr>
            <p:cNvPr id="366" name="Text Box 12"/>
            <p:cNvSpPr/>
            <p:nvPr/>
          </p:nvSpPr>
          <p:spPr>
            <a:xfrm>
              <a:off x="5024160" y="4724280"/>
              <a:ext cx="34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Uninitialized variable used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67" name="Line 13"/>
            <p:cNvSpPr/>
            <p:nvPr/>
          </p:nvSpPr>
          <p:spPr>
            <a:xfrm>
              <a:off x="2209680" y="4648320"/>
              <a:ext cx="28958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68" name="Group 14"/>
          <p:cNvGrpSpPr/>
          <p:nvPr/>
        </p:nvGrpSpPr>
        <p:grpSpPr>
          <a:xfrm>
            <a:off x="3886200" y="4495680"/>
            <a:ext cx="3620520" cy="1265400"/>
            <a:chOff x="3886200" y="4495680"/>
            <a:chExt cx="3620520" cy="1265400"/>
          </a:xfrm>
        </p:grpSpPr>
        <p:sp>
          <p:nvSpPr>
            <p:cNvPr id="369" name="Line 15"/>
            <p:cNvSpPr/>
            <p:nvPr/>
          </p:nvSpPr>
          <p:spPr>
            <a:xfrm>
              <a:off x="3886200" y="4495680"/>
              <a:ext cx="914400" cy="122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70" name="Text Box 16"/>
            <p:cNvSpPr/>
            <p:nvPr/>
          </p:nvSpPr>
          <p:spPr>
            <a:xfrm>
              <a:off x="4782600" y="530136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Undeclared variable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BE94FF18-0BE3-4D82-B3A3-7C94093DD178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219320" y="4079880"/>
            <a:ext cx="4114800" cy="33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Code Optimi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2933640" y="4411800"/>
            <a:ext cx="762120" cy="498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2933640" y="358128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1219320" y="3233880"/>
            <a:ext cx="4114800" cy="331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xical Analyzer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1219320" y="2411280"/>
            <a:ext cx="4114800" cy="331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yntax Analyzer (Pars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9" name="AutoShape 11"/>
          <p:cNvSpPr/>
          <p:nvPr/>
        </p:nvSpPr>
        <p:spPr>
          <a:xfrm>
            <a:off x="2933640" y="191304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3886200" y="1968480"/>
            <a:ext cx="19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token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1" name="AutoShape 13"/>
          <p:cNvSpPr/>
          <p:nvPr/>
        </p:nvSpPr>
        <p:spPr>
          <a:xfrm>
            <a:off x="2933640" y="274320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3886200" y="27986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Drvo parsira</a:t>
            </a: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nj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3" name="AutoShape 15"/>
          <p:cNvSpPr/>
          <p:nvPr/>
        </p:nvSpPr>
        <p:spPr>
          <a:xfrm>
            <a:off x="2933640" y="108252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3886200" y="1192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Program (n</a:t>
            </a: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iz karaktera</a:t>
            </a: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5" name="Rectangle 17"/>
          <p:cNvSpPr/>
          <p:nvPr/>
        </p:nvSpPr>
        <p:spPr>
          <a:xfrm>
            <a:off x="1219320" y="4079880"/>
            <a:ext cx="4114800" cy="331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Code Optimi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386" name="Group 18"/>
          <p:cNvGrpSpPr/>
          <p:nvPr/>
        </p:nvGrpSpPr>
        <p:grpSpPr>
          <a:xfrm>
            <a:off x="2933640" y="4411800"/>
            <a:ext cx="5981760" cy="515160"/>
            <a:chOff x="2933640" y="4411800"/>
            <a:chExt cx="5981760" cy="515160"/>
          </a:xfrm>
        </p:grpSpPr>
        <p:sp>
          <p:nvSpPr>
            <p:cNvPr id="387" name="AutoShape 19"/>
            <p:cNvSpPr/>
            <p:nvPr/>
          </p:nvSpPr>
          <p:spPr>
            <a:xfrm>
              <a:off x="2933640" y="4411800"/>
              <a:ext cx="762120" cy="4982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88" name="Text Box 20"/>
            <p:cNvSpPr/>
            <p:nvPr/>
          </p:nvSpPr>
          <p:spPr>
            <a:xfrm>
              <a:off x="3886200" y="446724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Optimiz</a:t>
              </a: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ovana MP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403D635F-34D7-433C-A8A6-34EC8CA0FCD7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Optimiz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acij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47960" y="2133360"/>
            <a:ext cx="426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int sumcalc(int a, int b, int N)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int i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int x, t, u, v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x = 0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u = ((a&lt;&lt;2)/b)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v = 0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for(i = 0; i &lt;= N; i++) {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t = i+1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x = x + v + t*t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v = v + u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return x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2133720"/>
            <a:ext cx="457200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sumcalc(int a, int b, int N)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x, y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x = 0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y = 0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for(i = 0; i &lt;= N; i++) {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x = x+4*a/b*i+(i+1)*(i+1)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x = x + b*y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return x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4038480" y="3657600"/>
            <a:ext cx="609840" cy="533520"/>
          </a:xfrm>
          <a:prstGeom prst="rightArrow">
            <a:avLst>
              <a:gd name="adj1" fmla="val 50000"/>
              <a:gd name="adj2" fmla="val 28576"/>
            </a:avLst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C24EBFC3-19C5-4ABA-91BA-FD8B715186E2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219320" y="4079880"/>
            <a:ext cx="4114800" cy="33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Code Optimi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219320" y="4910040"/>
            <a:ext cx="4114800" cy="331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AutoShape 5"/>
          <p:cNvSpPr/>
          <p:nvPr/>
        </p:nvSpPr>
        <p:spPr>
          <a:xfrm>
            <a:off x="2933640" y="4411800"/>
            <a:ext cx="762120" cy="498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2933640" y="524196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886200" y="529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1" name="AutoShape 9"/>
          <p:cNvSpPr/>
          <p:nvPr/>
        </p:nvSpPr>
        <p:spPr>
          <a:xfrm>
            <a:off x="2933640" y="358128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3886200" y="363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M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1219320" y="3233880"/>
            <a:ext cx="4114800" cy="331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xical Analyzer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1219320" y="2411280"/>
            <a:ext cx="4114800" cy="331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yntax Analyzer (Pars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6" name="AutoShape 14"/>
          <p:cNvSpPr/>
          <p:nvPr/>
        </p:nvSpPr>
        <p:spPr>
          <a:xfrm>
            <a:off x="2933640" y="191304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3886200" y="1968480"/>
            <a:ext cx="19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token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8" name="AutoShape 16"/>
          <p:cNvSpPr/>
          <p:nvPr/>
        </p:nvSpPr>
        <p:spPr>
          <a:xfrm>
            <a:off x="2933640" y="274320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3886200" y="27986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Drvo parsiranj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0" name="AutoShape 18"/>
          <p:cNvSpPr/>
          <p:nvPr/>
        </p:nvSpPr>
        <p:spPr>
          <a:xfrm>
            <a:off x="2933640" y="108252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3886200" y="1192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Program (</a:t>
            </a: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karaktera</a:t>
            </a: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2" name="Rectangle 20"/>
          <p:cNvSpPr/>
          <p:nvPr/>
        </p:nvSpPr>
        <p:spPr>
          <a:xfrm>
            <a:off x="1219320" y="4910040"/>
            <a:ext cx="4114800" cy="331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413" name="Group 21"/>
          <p:cNvGrpSpPr/>
          <p:nvPr/>
        </p:nvGrpSpPr>
        <p:grpSpPr>
          <a:xfrm>
            <a:off x="2933640" y="4411800"/>
            <a:ext cx="5981760" cy="515160"/>
            <a:chOff x="2933640" y="4411800"/>
            <a:chExt cx="5981760" cy="515160"/>
          </a:xfrm>
        </p:grpSpPr>
        <p:sp>
          <p:nvSpPr>
            <p:cNvPr id="414" name="AutoShape 22"/>
            <p:cNvSpPr/>
            <p:nvPr/>
          </p:nvSpPr>
          <p:spPr>
            <a:xfrm>
              <a:off x="2933640" y="4411800"/>
              <a:ext cx="762120" cy="4982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15" name="Text Box 23"/>
            <p:cNvSpPr/>
            <p:nvPr/>
          </p:nvSpPr>
          <p:spPr>
            <a:xfrm>
              <a:off x="3886200" y="446724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Optimizovani MP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416" name="Group 24"/>
          <p:cNvGrpSpPr/>
          <p:nvPr/>
        </p:nvGrpSpPr>
        <p:grpSpPr>
          <a:xfrm>
            <a:off x="2895480" y="5257800"/>
            <a:ext cx="5333760" cy="515160"/>
            <a:chOff x="2895480" y="5257800"/>
            <a:chExt cx="5333760" cy="515160"/>
          </a:xfrm>
        </p:grpSpPr>
        <p:sp>
          <p:nvSpPr>
            <p:cNvPr id="417" name="AutoShape 25"/>
            <p:cNvSpPr/>
            <p:nvPr/>
          </p:nvSpPr>
          <p:spPr>
            <a:xfrm>
              <a:off x="2895480" y="5257800"/>
              <a:ext cx="790200" cy="4978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3882960" y="5313240"/>
              <a:ext cx="434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s</a:t>
              </a: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emblerski kod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2D622F80-FD18-4BFE-BE63-337268233974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Generisanje kod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4120" y="2133360"/>
            <a:ext cx="3581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sumcalc: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xorl    %r8d, %r8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xorl    %ecx, %ec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x, %r9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cmpl    %edx, %r8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jg      .L7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sall    $2, %edi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.L5:    movl    %edi, %ea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clt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divl   %esi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l    1(%rcx), %ed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ax, %r10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mull   %ecx, %r10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x, %ec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mull   %edx, %ec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l    (%r10,%rcx), %ea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x, %ec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addl    %eax, %r8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cmpl    %r9d, %ed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jle     .L5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.L7:    movl    %r8d, %ea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ret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4267080" y="3657600"/>
            <a:ext cx="609840" cy="533520"/>
          </a:xfrm>
          <a:prstGeom prst="rightArrow">
            <a:avLst>
              <a:gd name="adj1" fmla="val 50000"/>
              <a:gd name="adj2" fmla="val 28576"/>
            </a:avLst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152280" y="2133720"/>
            <a:ext cx="4267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sumcalc(int a, int b, int N)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x, t, u, v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x = 0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u = ((a&lt;&lt;2)/b)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v = 0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for(i = 0; i &lt;= N; i++) {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t = i+1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x = x + v + t*t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v = v + u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return x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CE9CBA09-CC3B-48EC-B84D-2E9F04F02631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evođenje progra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orektnost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kcije koje se zahtijevaju u programu moraju biti doslovno izvršen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Efi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asnost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Inteligent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a i efiksana upotreba dostupnih resurs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Riječ optimizacija koristi se u “širokom”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značenju u kompajlerima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– Optimiz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rajući k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mp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jleri nikada nisu optimalni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B4914031-97F4-4555-A567-EE2A4C32449E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f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kasno izvršavan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grpSp>
        <p:nvGrpSpPr>
          <p:cNvPr id="429" name="Group 3"/>
          <p:cNvGrpSpPr/>
          <p:nvPr/>
        </p:nvGrpSpPr>
        <p:grpSpPr>
          <a:xfrm>
            <a:off x="828720" y="5372280"/>
            <a:ext cx="4429080" cy="1180800"/>
            <a:chOff x="828720" y="5372280"/>
            <a:chExt cx="4429080" cy="1180800"/>
          </a:xfrm>
        </p:grpSpPr>
        <p:pic>
          <p:nvPicPr>
            <p:cNvPr id="430" name="Picture 4" descr="z-private"/>
            <p:cNvPicPr/>
            <p:nvPr/>
          </p:nvPicPr>
          <p:blipFill>
            <a:blip r:embed="rId1"/>
            <a:stretch/>
          </p:blipFill>
          <p:spPr>
            <a:xfrm>
              <a:off x="828720" y="5600520"/>
              <a:ext cx="685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5" descr="x-S116tn"/>
            <p:cNvPicPr/>
            <p:nvPr/>
          </p:nvPicPr>
          <p:blipFill>
            <a:blip r:embed="rId2"/>
            <a:stretch/>
          </p:blipFill>
          <p:spPr>
            <a:xfrm>
              <a:off x="3429000" y="5372280"/>
              <a:ext cx="182880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6"/>
            <p:cNvSpPr/>
            <p:nvPr/>
          </p:nvSpPr>
          <p:spPr>
            <a:xfrm>
              <a:off x="1660680" y="5565600"/>
              <a:ext cx="169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Foot Soldie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433" name="Group 7"/>
          <p:cNvGrpSpPr/>
          <p:nvPr/>
        </p:nvGrpSpPr>
        <p:grpSpPr>
          <a:xfrm>
            <a:off x="3200400" y="2244600"/>
            <a:ext cx="655200" cy="819000"/>
            <a:chOff x="3200400" y="2244600"/>
            <a:chExt cx="655200" cy="819000"/>
          </a:xfrm>
        </p:grpSpPr>
        <p:sp>
          <p:nvSpPr>
            <p:cNvPr id="434" name="Freeform 8"/>
            <p:cNvSpPr/>
            <p:nvPr/>
          </p:nvSpPr>
          <p:spPr>
            <a:xfrm flipH="1">
              <a:off x="3200400" y="2244600"/>
              <a:ext cx="655200" cy="81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35" name="Freeform 9"/>
            <p:cNvSpPr/>
            <p:nvPr/>
          </p:nvSpPr>
          <p:spPr>
            <a:xfrm flipH="1">
              <a:off x="3743640" y="2634480"/>
              <a:ext cx="3960" cy="17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36" name="Freeform 10"/>
            <p:cNvSpPr/>
            <p:nvPr/>
          </p:nvSpPr>
          <p:spPr>
            <a:xfrm flipH="1">
              <a:off x="3651480" y="2620800"/>
              <a:ext cx="85680" cy="35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37" name="Freeform 11"/>
            <p:cNvSpPr/>
            <p:nvPr/>
          </p:nvSpPr>
          <p:spPr>
            <a:xfrm flipH="1">
              <a:off x="3532320" y="2660760"/>
              <a:ext cx="322920" cy="2728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38" name="Freeform 12"/>
            <p:cNvSpPr/>
            <p:nvPr/>
          </p:nvSpPr>
          <p:spPr>
            <a:xfrm flipH="1">
              <a:off x="3503880" y="2823480"/>
              <a:ext cx="114120" cy="900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39" name="Freeform 13"/>
            <p:cNvSpPr/>
            <p:nvPr/>
          </p:nvSpPr>
          <p:spPr>
            <a:xfrm flipH="1">
              <a:off x="3556800" y="2912040"/>
              <a:ext cx="127080" cy="7416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0" name="Freeform 14"/>
            <p:cNvSpPr/>
            <p:nvPr/>
          </p:nvSpPr>
          <p:spPr>
            <a:xfrm flipH="1">
              <a:off x="3438360" y="2847960"/>
              <a:ext cx="129600" cy="702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1" name="Freeform 15"/>
            <p:cNvSpPr/>
            <p:nvPr/>
          </p:nvSpPr>
          <p:spPr>
            <a:xfrm flipH="1">
              <a:off x="3240000" y="2389680"/>
              <a:ext cx="366840" cy="40068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2" name="Freeform 16"/>
            <p:cNvSpPr/>
            <p:nvPr/>
          </p:nvSpPr>
          <p:spPr>
            <a:xfrm flipH="1">
              <a:off x="3464640" y="2709360"/>
              <a:ext cx="250200" cy="2311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3" name="Freeform 17"/>
            <p:cNvSpPr/>
            <p:nvPr/>
          </p:nvSpPr>
          <p:spPr>
            <a:xfrm flipH="1">
              <a:off x="3479760" y="2526480"/>
              <a:ext cx="308160" cy="173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4" name="Freeform 18"/>
            <p:cNvSpPr/>
            <p:nvPr/>
          </p:nvSpPr>
          <p:spPr>
            <a:xfrm flipH="1">
              <a:off x="3528000" y="2964240"/>
              <a:ext cx="198000" cy="6624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5" name="Freeform 19"/>
            <p:cNvSpPr/>
            <p:nvPr/>
          </p:nvSpPr>
          <p:spPr>
            <a:xfrm flipH="1">
              <a:off x="3441960" y="2491200"/>
              <a:ext cx="207000" cy="20916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6" name="Freeform 20"/>
            <p:cNvSpPr/>
            <p:nvPr/>
          </p:nvSpPr>
          <p:spPr>
            <a:xfrm flipH="1">
              <a:off x="3301200" y="2248920"/>
              <a:ext cx="305640" cy="20700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7" name="Freeform 21"/>
            <p:cNvSpPr/>
            <p:nvPr/>
          </p:nvSpPr>
          <p:spPr>
            <a:xfrm flipH="1">
              <a:off x="3327840" y="2392200"/>
              <a:ext cx="24120" cy="3492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8" name="Freeform 22"/>
            <p:cNvSpPr/>
            <p:nvPr/>
          </p:nvSpPr>
          <p:spPr>
            <a:xfrm flipH="1">
              <a:off x="3449520" y="2759760"/>
              <a:ext cx="21600" cy="5256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9" name="Freeform 23"/>
            <p:cNvSpPr/>
            <p:nvPr/>
          </p:nvSpPr>
          <p:spPr>
            <a:xfrm flipH="1">
              <a:off x="3481920" y="2799720"/>
              <a:ext cx="32760" cy="1728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50" name="Freeform 24"/>
            <p:cNvSpPr/>
            <p:nvPr/>
          </p:nvSpPr>
          <p:spPr>
            <a:xfrm flipH="1">
              <a:off x="3504600" y="2713680"/>
              <a:ext cx="28080" cy="4824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451" name="Group 25"/>
          <p:cNvGrpSpPr/>
          <p:nvPr/>
        </p:nvGrpSpPr>
        <p:grpSpPr>
          <a:xfrm>
            <a:off x="457200" y="1447920"/>
            <a:ext cx="7848720" cy="1104120"/>
            <a:chOff x="457200" y="1447920"/>
            <a:chExt cx="7848720" cy="1104120"/>
          </a:xfrm>
        </p:grpSpPr>
        <p:pic>
          <p:nvPicPr>
            <p:cNvPr id="452" name="Picture 26" descr="z-general"/>
            <p:cNvPicPr/>
            <p:nvPr/>
          </p:nvPicPr>
          <p:blipFill>
            <a:blip r:embed="rId3"/>
            <a:stretch/>
          </p:blipFill>
          <p:spPr>
            <a:xfrm>
              <a:off x="457200" y="2168640"/>
              <a:ext cx="142884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Text Box 27"/>
            <p:cNvSpPr/>
            <p:nvPr/>
          </p:nvSpPr>
          <p:spPr>
            <a:xfrm>
              <a:off x="1935360" y="209232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General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54" name="AutoShape 28"/>
            <p:cNvSpPr/>
            <p:nvPr/>
          </p:nvSpPr>
          <p:spPr>
            <a:xfrm>
              <a:off x="4724280" y="1482840"/>
              <a:ext cx="3581640" cy="838080"/>
            </a:xfrm>
            <a:prstGeom prst="wedgeRoundRectCallout">
              <a:avLst>
                <a:gd name="adj1" fmla="val -52481"/>
                <a:gd name="adj2" fmla="val 71592"/>
                <a:gd name="adj3" fmla="val 16667"/>
              </a:avLst>
            </a:prstGeom>
            <a:solidFill>
              <a:srgbClr val="15009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55" name="Text Box 29"/>
            <p:cNvSpPr/>
            <p:nvPr/>
          </p:nvSpPr>
          <p:spPr>
            <a:xfrm>
              <a:off x="4706280" y="1447920"/>
              <a:ext cx="308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Cross the river and take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defensive positions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pic>
        <p:nvPicPr>
          <p:cNvPr id="456" name="Picture 30" descr="z-sergeant"/>
          <p:cNvPicPr/>
          <p:nvPr/>
        </p:nvPicPr>
        <p:blipFill>
          <a:blip r:embed="rId4"/>
          <a:stretch/>
        </p:blipFill>
        <p:spPr>
          <a:xfrm>
            <a:off x="861840" y="3768840"/>
            <a:ext cx="619200" cy="7905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31"/>
          <p:cNvSpPr/>
          <p:nvPr/>
        </p:nvSpPr>
        <p:spPr>
          <a:xfrm>
            <a:off x="1884240" y="39974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ergea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458" name="Group 32"/>
          <p:cNvGrpSpPr/>
          <p:nvPr/>
        </p:nvGrpSpPr>
        <p:grpSpPr>
          <a:xfrm>
            <a:off x="3192120" y="3997440"/>
            <a:ext cx="671400" cy="701640"/>
            <a:chOff x="3192120" y="3997440"/>
            <a:chExt cx="671400" cy="701640"/>
          </a:xfrm>
        </p:grpSpPr>
        <p:sp>
          <p:nvSpPr>
            <p:cNvPr id="459" name="Freeform 33"/>
            <p:cNvSpPr/>
            <p:nvPr/>
          </p:nvSpPr>
          <p:spPr>
            <a:xfrm flipH="1">
              <a:off x="3245760" y="4002120"/>
              <a:ext cx="609480" cy="398520"/>
            </a:xfrm>
            <a:prstGeom prst="pie">
              <a:avLst/>
            </a:pr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0" name="Freeform 34"/>
            <p:cNvSpPr/>
            <p:nvPr/>
          </p:nvSpPr>
          <p:spPr>
            <a:xfrm flipH="1">
              <a:off x="3525840" y="4002120"/>
              <a:ext cx="168480" cy="25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1" name="Freeform 35"/>
            <p:cNvSpPr/>
            <p:nvPr/>
          </p:nvSpPr>
          <p:spPr>
            <a:xfrm flipH="1">
              <a:off x="3273480" y="3997440"/>
              <a:ext cx="25560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2" name="Freeform 36"/>
            <p:cNvSpPr/>
            <p:nvPr/>
          </p:nvSpPr>
          <p:spPr>
            <a:xfrm flipH="1">
              <a:off x="3237840" y="4159080"/>
              <a:ext cx="4932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3" name="Freeform 37"/>
            <p:cNvSpPr/>
            <p:nvPr/>
          </p:nvSpPr>
          <p:spPr>
            <a:xfrm flipH="1">
              <a:off x="3243240" y="4254480"/>
              <a:ext cx="604800" cy="15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4" name="Freeform 38"/>
            <p:cNvSpPr/>
            <p:nvPr/>
          </p:nvSpPr>
          <p:spPr>
            <a:xfrm flipH="1">
              <a:off x="3833280" y="4335480"/>
              <a:ext cx="2988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5" name="Freeform 39"/>
            <p:cNvSpPr/>
            <p:nvPr/>
          </p:nvSpPr>
          <p:spPr>
            <a:xfrm flipH="1">
              <a:off x="3675240" y="4251240"/>
              <a:ext cx="18576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6" name="Freeform 40"/>
            <p:cNvSpPr/>
            <p:nvPr/>
          </p:nvSpPr>
          <p:spPr>
            <a:xfrm flipH="1">
              <a:off x="3196440" y="4262400"/>
              <a:ext cx="452520" cy="433440"/>
            </a:xfrm>
            <a:prstGeom prst="pie">
              <a:avLst/>
            </a:prstGeom>
            <a:solidFill>
              <a:srgbClr val="c67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7" name="Freeform 41"/>
            <p:cNvSpPr/>
            <p:nvPr/>
          </p:nvSpPr>
          <p:spPr>
            <a:xfrm flipH="1">
              <a:off x="3243240" y="4254480"/>
              <a:ext cx="20952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8" name="Freeform 42"/>
            <p:cNvSpPr/>
            <p:nvPr/>
          </p:nvSpPr>
          <p:spPr>
            <a:xfrm flipH="1">
              <a:off x="3196440" y="4260960"/>
              <a:ext cx="5724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9" name="Freeform 43"/>
            <p:cNvSpPr/>
            <p:nvPr/>
          </p:nvSpPr>
          <p:spPr>
            <a:xfrm flipH="1">
              <a:off x="3191760" y="4441680"/>
              <a:ext cx="96840" cy="22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70" name="Freeform 44"/>
            <p:cNvSpPr/>
            <p:nvPr/>
          </p:nvSpPr>
          <p:spPr>
            <a:xfrm flipH="1">
              <a:off x="3440880" y="4530600"/>
              <a:ext cx="173160" cy="16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71" name="Freeform 45"/>
            <p:cNvSpPr/>
            <p:nvPr/>
          </p:nvSpPr>
          <p:spPr>
            <a:xfrm flipH="1">
              <a:off x="3602160" y="4349880"/>
              <a:ext cx="5400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72" name="Freeform 46"/>
            <p:cNvSpPr/>
            <p:nvPr/>
          </p:nvSpPr>
          <p:spPr>
            <a:xfrm flipH="1">
              <a:off x="3444120" y="4303800"/>
              <a:ext cx="20484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44C45F2F-2000-4084-945D-5F8453610E42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AutoShape 2"/>
          <p:cNvSpPr/>
          <p:nvPr/>
        </p:nvSpPr>
        <p:spPr>
          <a:xfrm>
            <a:off x="4267080" y="2438280"/>
            <a:ext cx="4876920" cy="2438640"/>
          </a:xfrm>
          <a:prstGeom prst="cloudCallout">
            <a:avLst>
              <a:gd name="adj1" fmla="val -62143"/>
              <a:gd name="adj2" fmla="val 38412"/>
            </a:avLst>
          </a:prstGeom>
          <a:solidFill>
            <a:srgbClr val="15009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f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kasno izvršavan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grpSp>
        <p:nvGrpSpPr>
          <p:cNvPr id="476" name="Group 4"/>
          <p:cNvGrpSpPr/>
          <p:nvPr/>
        </p:nvGrpSpPr>
        <p:grpSpPr>
          <a:xfrm>
            <a:off x="828720" y="5372280"/>
            <a:ext cx="4429080" cy="1180800"/>
            <a:chOff x="828720" y="5372280"/>
            <a:chExt cx="4429080" cy="1180800"/>
          </a:xfrm>
        </p:grpSpPr>
        <p:pic>
          <p:nvPicPr>
            <p:cNvPr id="477" name="Picture 5" descr="z-private"/>
            <p:cNvPicPr/>
            <p:nvPr/>
          </p:nvPicPr>
          <p:blipFill>
            <a:blip r:embed="rId1"/>
            <a:stretch/>
          </p:blipFill>
          <p:spPr>
            <a:xfrm>
              <a:off x="828720" y="5600520"/>
              <a:ext cx="685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x-S116tn"/>
            <p:cNvPicPr/>
            <p:nvPr/>
          </p:nvPicPr>
          <p:blipFill>
            <a:blip r:embed="rId2"/>
            <a:stretch/>
          </p:blipFill>
          <p:spPr>
            <a:xfrm>
              <a:off x="3429000" y="5372280"/>
              <a:ext cx="182880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 Box 7"/>
            <p:cNvSpPr/>
            <p:nvPr/>
          </p:nvSpPr>
          <p:spPr>
            <a:xfrm>
              <a:off x="1660680" y="5565600"/>
              <a:ext cx="169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Foot Soldie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480" name="Group 8"/>
          <p:cNvGrpSpPr/>
          <p:nvPr/>
        </p:nvGrpSpPr>
        <p:grpSpPr>
          <a:xfrm>
            <a:off x="3200400" y="2244600"/>
            <a:ext cx="655200" cy="819000"/>
            <a:chOff x="3200400" y="2244600"/>
            <a:chExt cx="655200" cy="819000"/>
          </a:xfrm>
        </p:grpSpPr>
        <p:sp>
          <p:nvSpPr>
            <p:cNvPr id="481" name="Freeform 9"/>
            <p:cNvSpPr/>
            <p:nvPr/>
          </p:nvSpPr>
          <p:spPr>
            <a:xfrm flipH="1">
              <a:off x="3200400" y="2244600"/>
              <a:ext cx="655200" cy="81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flipH="1">
              <a:off x="3743640" y="2634480"/>
              <a:ext cx="3960" cy="17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flipH="1">
              <a:off x="3651480" y="2620800"/>
              <a:ext cx="85680" cy="35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flipH="1">
              <a:off x="3532320" y="2660760"/>
              <a:ext cx="322920" cy="2728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 flipH="1">
              <a:off x="3503880" y="2823480"/>
              <a:ext cx="114120" cy="900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 flipH="1">
              <a:off x="3556800" y="2912040"/>
              <a:ext cx="127080" cy="7416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 flipH="1">
              <a:off x="3438360" y="2847960"/>
              <a:ext cx="129600" cy="702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 flipH="1">
              <a:off x="3240000" y="2389680"/>
              <a:ext cx="366840" cy="40068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 flipH="1">
              <a:off x="3464640" y="2709360"/>
              <a:ext cx="250200" cy="2311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 flipH="1">
              <a:off x="3479760" y="2526480"/>
              <a:ext cx="308160" cy="173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 flipH="1">
              <a:off x="3528000" y="2964240"/>
              <a:ext cx="198000" cy="6624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 flipH="1">
              <a:off x="3441960" y="2491200"/>
              <a:ext cx="207000" cy="20916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 flipH="1">
              <a:off x="3301200" y="2248920"/>
              <a:ext cx="305640" cy="20700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 flipH="1">
              <a:off x="3327840" y="2392200"/>
              <a:ext cx="24120" cy="3492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5" name="Freeform 23"/>
            <p:cNvSpPr/>
            <p:nvPr/>
          </p:nvSpPr>
          <p:spPr>
            <a:xfrm flipH="1">
              <a:off x="3449520" y="2759760"/>
              <a:ext cx="21600" cy="5256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6" name="Freeform 24"/>
            <p:cNvSpPr/>
            <p:nvPr/>
          </p:nvSpPr>
          <p:spPr>
            <a:xfrm flipH="1">
              <a:off x="3481920" y="2799720"/>
              <a:ext cx="32760" cy="1728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7" name="Freeform 25"/>
            <p:cNvSpPr/>
            <p:nvPr/>
          </p:nvSpPr>
          <p:spPr>
            <a:xfrm flipH="1">
              <a:off x="3504600" y="2713680"/>
              <a:ext cx="28080" cy="4824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498" name="Group 26"/>
          <p:cNvGrpSpPr/>
          <p:nvPr/>
        </p:nvGrpSpPr>
        <p:grpSpPr>
          <a:xfrm>
            <a:off x="457200" y="1447920"/>
            <a:ext cx="7848720" cy="1104120"/>
            <a:chOff x="457200" y="1447920"/>
            <a:chExt cx="7848720" cy="1104120"/>
          </a:xfrm>
        </p:grpSpPr>
        <p:pic>
          <p:nvPicPr>
            <p:cNvPr id="499" name="Picture 27" descr="z-general"/>
            <p:cNvPicPr/>
            <p:nvPr/>
          </p:nvPicPr>
          <p:blipFill>
            <a:blip r:embed="rId3"/>
            <a:stretch/>
          </p:blipFill>
          <p:spPr>
            <a:xfrm>
              <a:off x="457200" y="2168640"/>
              <a:ext cx="142884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28"/>
            <p:cNvSpPr/>
            <p:nvPr/>
          </p:nvSpPr>
          <p:spPr>
            <a:xfrm>
              <a:off x="1935360" y="209232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General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01" name="AutoShape 29"/>
            <p:cNvSpPr/>
            <p:nvPr/>
          </p:nvSpPr>
          <p:spPr>
            <a:xfrm>
              <a:off x="4724280" y="1482840"/>
              <a:ext cx="3581640" cy="838080"/>
            </a:xfrm>
            <a:prstGeom prst="wedgeRoundRectCallout">
              <a:avLst>
                <a:gd name="adj1" fmla="val -52481"/>
                <a:gd name="adj2" fmla="val 71592"/>
                <a:gd name="adj3" fmla="val 16667"/>
              </a:avLst>
            </a:prstGeom>
            <a:solidFill>
              <a:srgbClr val="15009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02" name="Text Box 30"/>
            <p:cNvSpPr/>
            <p:nvPr/>
          </p:nvSpPr>
          <p:spPr>
            <a:xfrm>
              <a:off x="4706280" y="1447920"/>
              <a:ext cx="308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Cross the river and take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defensive positions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pic>
        <p:nvPicPr>
          <p:cNvPr id="503" name="Picture 31" descr="z-sergeant"/>
          <p:cNvPicPr/>
          <p:nvPr/>
        </p:nvPicPr>
        <p:blipFill>
          <a:blip r:embed="rId4"/>
          <a:stretch/>
        </p:blipFill>
        <p:spPr>
          <a:xfrm>
            <a:off x="861840" y="3768840"/>
            <a:ext cx="619200" cy="79056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32"/>
          <p:cNvSpPr/>
          <p:nvPr/>
        </p:nvSpPr>
        <p:spPr>
          <a:xfrm>
            <a:off x="1884240" y="39974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ergea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505" name="Group 33"/>
          <p:cNvGrpSpPr/>
          <p:nvPr/>
        </p:nvGrpSpPr>
        <p:grpSpPr>
          <a:xfrm>
            <a:off x="3192120" y="3997440"/>
            <a:ext cx="671400" cy="701640"/>
            <a:chOff x="3192120" y="3997440"/>
            <a:chExt cx="671400" cy="701640"/>
          </a:xfrm>
        </p:grpSpPr>
        <p:sp>
          <p:nvSpPr>
            <p:cNvPr id="506" name="Freeform 34"/>
            <p:cNvSpPr/>
            <p:nvPr/>
          </p:nvSpPr>
          <p:spPr>
            <a:xfrm flipH="1">
              <a:off x="3245760" y="4002120"/>
              <a:ext cx="609480" cy="398520"/>
            </a:xfrm>
            <a:prstGeom prst="pie">
              <a:avLst/>
            </a:pr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07" name="Freeform 35"/>
            <p:cNvSpPr/>
            <p:nvPr/>
          </p:nvSpPr>
          <p:spPr>
            <a:xfrm flipH="1">
              <a:off x="3525840" y="4002120"/>
              <a:ext cx="168480" cy="25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08" name="Freeform 36"/>
            <p:cNvSpPr/>
            <p:nvPr/>
          </p:nvSpPr>
          <p:spPr>
            <a:xfrm flipH="1">
              <a:off x="3273480" y="3997440"/>
              <a:ext cx="25560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09" name="Freeform 37"/>
            <p:cNvSpPr/>
            <p:nvPr/>
          </p:nvSpPr>
          <p:spPr>
            <a:xfrm flipH="1">
              <a:off x="3237840" y="4159080"/>
              <a:ext cx="4932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0" name="Freeform 38"/>
            <p:cNvSpPr/>
            <p:nvPr/>
          </p:nvSpPr>
          <p:spPr>
            <a:xfrm flipH="1">
              <a:off x="3243240" y="4254480"/>
              <a:ext cx="604800" cy="15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1" name="Freeform 39"/>
            <p:cNvSpPr/>
            <p:nvPr/>
          </p:nvSpPr>
          <p:spPr>
            <a:xfrm flipH="1">
              <a:off x="3833280" y="4335480"/>
              <a:ext cx="2988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2" name="Freeform 40"/>
            <p:cNvSpPr/>
            <p:nvPr/>
          </p:nvSpPr>
          <p:spPr>
            <a:xfrm flipH="1">
              <a:off x="3675240" y="4251240"/>
              <a:ext cx="18576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3" name="Freeform 41"/>
            <p:cNvSpPr/>
            <p:nvPr/>
          </p:nvSpPr>
          <p:spPr>
            <a:xfrm flipH="1">
              <a:off x="3196440" y="4262400"/>
              <a:ext cx="452520" cy="433440"/>
            </a:xfrm>
            <a:prstGeom prst="pie">
              <a:avLst/>
            </a:prstGeom>
            <a:solidFill>
              <a:srgbClr val="c67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4" name="Freeform 42"/>
            <p:cNvSpPr/>
            <p:nvPr/>
          </p:nvSpPr>
          <p:spPr>
            <a:xfrm flipH="1">
              <a:off x="3243240" y="4254480"/>
              <a:ext cx="20952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5" name="Freeform 43"/>
            <p:cNvSpPr/>
            <p:nvPr/>
          </p:nvSpPr>
          <p:spPr>
            <a:xfrm flipH="1">
              <a:off x="3196440" y="4260960"/>
              <a:ext cx="5724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6" name="Freeform 44"/>
            <p:cNvSpPr/>
            <p:nvPr/>
          </p:nvSpPr>
          <p:spPr>
            <a:xfrm flipH="1">
              <a:off x="3191760" y="4441680"/>
              <a:ext cx="96840" cy="22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7" name="Freeform 45"/>
            <p:cNvSpPr/>
            <p:nvPr/>
          </p:nvSpPr>
          <p:spPr>
            <a:xfrm flipH="1">
              <a:off x="3440880" y="4530600"/>
              <a:ext cx="173160" cy="16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8" name="Freeform 46"/>
            <p:cNvSpPr/>
            <p:nvPr/>
          </p:nvSpPr>
          <p:spPr>
            <a:xfrm flipH="1">
              <a:off x="3602160" y="4349880"/>
              <a:ext cx="5400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9" name="Freeform 47"/>
            <p:cNvSpPr/>
            <p:nvPr/>
          </p:nvSpPr>
          <p:spPr>
            <a:xfrm flipH="1">
              <a:off x="3444120" y="4303800"/>
              <a:ext cx="20484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520" name="Text Box 48"/>
          <p:cNvSpPr/>
          <p:nvPr/>
        </p:nvSpPr>
        <p:spPr>
          <a:xfrm>
            <a:off x="4789440" y="2895480"/>
            <a:ext cx="416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Where to cross the river? Use the 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bridge upstream or  surprise the enemy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by crossing downstream?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How do I minimize the  casualties??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89BEEC57-E44B-4BD7-B49B-6C6F41B3A848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2" name="AutoShape 2"/>
          <p:cNvSpPr/>
          <p:nvPr/>
        </p:nvSpPr>
        <p:spPr>
          <a:xfrm>
            <a:off x="3886200" y="2438280"/>
            <a:ext cx="4800600" cy="18288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15009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f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kasno izvršavan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grpSp>
        <p:nvGrpSpPr>
          <p:cNvPr id="524" name="Group 4"/>
          <p:cNvGrpSpPr/>
          <p:nvPr/>
        </p:nvGrpSpPr>
        <p:grpSpPr>
          <a:xfrm>
            <a:off x="3371760" y="1890720"/>
            <a:ext cx="769680" cy="1157400"/>
            <a:chOff x="3371760" y="1890720"/>
            <a:chExt cx="769680" cy="1157400"/>
          </a:xfrm>
        </p:grpSpPr>
        <p:sp>
          <p:nvSpPr>
            <p:cNvPr id="525" name="Freeform 5"/>
            <p:cNvSpPr/>
            <p:nvPr/>
          </p:nvSpPr>
          <p:spPr>
            <a:xfrm>
              <a:off x="3430440" y="1890720"/>
              <a:ext cx="711000" cy="115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26" name="Freeform 6"/>
            <p:cNvSpPr/>
            <p:nvPr/>
          </p:nvSpPr>
          <p:spPr>
            <a:xfrm>
              <a:off x="3371760" y="2373480"/>
              <a:ext cx="504720" cy="67464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27" name="Freeform 7"/>
            <p:cNvSpPr/>
            <p:nvPr/>
          </p:nvSpPr>
          <p:spPr>
            <a:xfrm>
              <a:off x="3885840" y="2606760"/>
              <a:ext cx="192240" cy="376200"/>
            </a:xfrm>
            <a:prstGeom prst="pie">
              <a:avLst/>
            </a:prstGeom>
            <a:solidFill>
              <a:srgbClr val="ade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28" name="Freeform 8"/>
            <p:cNvSpPr/>
            <p:nvPr/>
          </p:nvSpPr>
          <p:spPr>
            <a:xfrm>
              <a:off x="3468600" y="2500200"/>
              <a:ext cx="96480" cy="1126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3463560" y="2459160"/>
              <a:ext cx="104760" cy="6336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3430440" y="2116080"/>
              <a:ext cx="680760" cy="45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3722400" y="2558880"/>
              <a:ext cx="196920" cy="125640"/>
            </a:xfrm>
            <a:prstGeom prst="pie">
              <a:avLst/>
            </a:prstGeom>
            <a:solidFill>
              <a:srgbClr val="ade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713040" y="1979640"/>
              <a:ext cx="338040" cy="555480"/>
            </a:xfrm>
            <a:prstGeom prst="pie">
              <a:avLst/>
            </a:prstGeom>
            <a:solidFill>
              <a:srgbClr val="dda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865320" y="2305080"/>
              <a:ext cx="12060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4" name="Freeform 14"/>
            <p:cNvSpPr/>
            <p:nvPr/>
          </p:nvSpPr>
          <p:spPr>
            <a:xfrm>
              <a:off x="3838320" y="2395440"/>
              <a:ext cx="15732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5" name="Freeform 15"/>
            <p:cNvSpPr/>
            <p:nvPr/>
          </p:nvSpPr>
          <p:spPr>
            <a:xfrm>
              <a:off x="3873240" y="2444760"/>
              <a:ext cx="9828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6" name="Freeform 16"/>
            <p:cNvSpPr/>
            <p:nvPr/>
          </p:nvSpPr>
          <p:spPr>
            <a:xfrm>
              <a:off x="3460320" y="2173320"/>
              <a:ext cx="9864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7" name="Freeform 17"/>
            <p:cNvSpPr/>
            <p:nvPr/>
          </p:nvSpPr>
          <p:spPr>
            <a:xfrm>
              <a:off x="3474720" y="2141640"/>
              <a:ext cx="5868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pic>
        <p:nvPicPr>
          <p:cNvPr id="538" name="Picture 18" descr="z-president"/>
          <p:cNvPicPr/>
          <p:nvPr/>
        </p:nvPicPr>
        <p:blipFill>
          <a:blip r:embed="rId1"/>
          <a:stretch/>
        </p:blipFill>
        <p:spPr>
          <a:xfrm>
            <a:off x="609480" y="1890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19"/>
          <p:cNvSpPr/>
          <p:nvPr/>
        </p:nvSpPr>
        <p:spPr>
          <a:xfrm>
            <a:off x="1765440" y="22716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0" name="AutoShape 20"/>
          <p:cNvSpPr/>
          <p:nvPr/>
        </p:nvSpPr>
        <p:spPr>
          <a:xfrm>
            <a:off x="4343400" y="1433520"/>
            <a:ext cx="3581280" cy="838080"/>
          </a:xfrm>
          <a:prstGeom prst="wedgeRoundRectCallout">
            <a:avLst>
              <a:gd name="adj1" fmla="val -54254"/>
              <a:gd name="adj2" fmla="val 64013"/>
              <a:gd name="adj3" fmla="val 16667"/>
            </a:avLst>
          </a:prstGeom>
          <a:solidFill>
            <a:srgbClr val="15009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1" name="Text Box 21"/>
          <p:cNvSpPr/>
          <p:nvPr/>
        </p:nvSpPr>
        <p:spPr>
          <a:xfrm>
            <a:off x="4322520" y="1398600"/>
            <a:ext cx="32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y poll ratings are low,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ets invade a small natio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542" name="Group 22"/>
          <p:cNvGrpSpPr/>
          <p:nvPr/>
        </p:nvGrpSpPr>
        <p:grpSpPr>
          <a:xfrm>
            <a:off x="3429000" y="4149720"/>
            <a:ext cx="655200" cy="818640"/>
            <a:chOff x="3429000" y="4149720"/>
            <a:chExt cx="655200" cy="818640"/>
          </a:xfrm>
        </p:grpSpPr>
        <p:sp>
          <p:nvSpPr>
            <p:cNvPr id="543" name="Freeform 23"/>
            <p:cNvSpPr/>
            <p:nvPr/>
          </p:nvSpPr>
          <p:spPr>
            <a:xfrm flipH="1">
              <a:off x="3429000" y="4149720"/>
              <a:ext cx="655200" cy="81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4" name="Freeform 24"/>
            <p:cNvSpPr/>
            <p:nvPr/>
          </p:nvSpPr>
          <p:spPr>
            <a:xfrm flipH="1">
              <a:off x="3972240" y="4539240"/>
              <a:ext cx="3960" cy="17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5" name="Freeform 25"/>
            <p:cNvSpPr/>
            <p:nvPr/>
          </p:nvSpPr>
          <p:spPr>
            <a:xfrm flipH="1">
              <a:off x="3880080" y="4525920"/>
              <a:ext cx="85680" cy="35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6" name="Freeform 26"/>
            <p:cNvSpPr/>
            <p:nvPr/>
          </p:nvSpPr>
          <p:spPr>
            <a:xfrm flipH="1">
              <a:off x="3760920" y="4565880"/>
              <a:ext cx="322920" cy="2728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7" name="Freeform 27"/>
            <p:cNvSpPr/>
            <p:nvPr/>
          </p:nvSpPr>
          <p:spPr>
            <a:xfrm flipH="1">
              <a:off x="3732480" y="4728240"/>
              <a:ext cx="114120" cy="900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8" name="Freeform 28"/>
            <p:cNvSpPr/>
            <p:nvPr/>
          </p:nvSpPr>
          <p:spPr>
            <a:xfrm flipH="1">
              <a:off x="3785400" y="4816800"/>
              <a:ext cx="127080" cy="7416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9" name="Freeform 29"/>
            <p:cNvSpPr/>
            <p:nvPr/>
          </p:nvSpPr>
          <p:spPr>
            <a:xfrm flipH="1">
              <a:off x="3666960" y="4752720"/>
              <a:ext cx="129600" cy="702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0" name="Freeform 30"/>
            <p:cNvSpPr/>
            <p:nvPr/>
          </p:nvSpPr>
          <p:spPr>
            <a:xfrm flipH="1">
              <a:off x="3468600" y="4294800"/>
              <a:ext cx="366840" cy="40068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1" name="Freeform 31"/>
            <p:cNvSpPr/>
            <p:nvPr/>
          </p:nvSpPr>
          <p:spPr>
            <a:xfrm flipH="1">
              <a:off x="3693240" y="4614120"/>
              <a:ext cx="250200" cy="23076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2" name="Freeform 32"/>
            <p:cNvSpPr/>
            <p:nvPr/>
          </p:nvSpPr>
          <p:spPr>
            <a:xfrm flipH="1">
              <a:off x="3708360" y="4431600"/>
              <a:ext cx="308160" cy="173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3" name="Freeform 33"/>
            <p:cNvSpPr/>
            <p:nvPr/>
          </p:nvSpPr>
          <p:spPr>
            <a:xfrm flipH="1">
              <a:off x="3756600" y="4869000"/>
              <a:ext cx="198000" cy="6624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4" name="Freeform 34"/>
            <p:cNvSpPr/>
            <p:nvPr/>
          </p:nvSpPr>
          <p:spPr>
            <a:xfrm flipH="1">
              <a:off x="3670560" y="4395960"/>
              <a:ext cx="207000" cy="20880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5" name="Freeform 35"/>
            <p:cNvSpPr/>
            <p:nvPr/>
          </p:nvSpPr>
          <p:spPr>
            <a:xfrm flipH="1">
              <a:off x="3529800" y="4154040"/>
              <a:ext cx="305640" cy="20700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6" name="Freeform 36"/>
            <p:cNvSpPr/>
            <p:nvPr/>
          </p:nvSpPr>
          <p:spPr>
            <a:xfrm flipH="1">
              <a:off x="3556440" y="4297320"/>
              <a:ext cx="24120" cy="3492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7" name="Freeform 37"/>
            <p:cNvSpPr/>
            <p:nvPr/>
          </p:nvSpPr>
          <p:spPr>
            <a:xfrm flipH="1">
              <a:off x="3678120" y="4664520"/>
              <a:ext cx="21600" cy="5256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8" name="Freeform 38"/>
            <p:cNvSpPr/>
            <p:nvPr/>
          </p:nvSpPr>
          <p:spPr>
            <a:xfrm flipH="1">
              <a:off x="3710520" y="4704480"/>
              <a:ext cx="32760" cy="1728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9" name="Freeform 39"/>
            <p:cNvSpPr/>
            <p:nvPr/>
          </p:nvSpPr>
          <p:spPr>
            <a:xfrm flipH="1">
              <a:off x="3733200" y="4618440"/>
              <a:ext cx="28080" cy="4824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pic>
        <p:nvPicPr>
          <p:cNvPr id="560" name="Picture 40" descr="z-general"/>
          <p:cNvPicPr/>
          <p:nvPr/>
        </p:nvPicPr>
        <p:blipFill>
          <a:blip r:embed="rId2"/>
          <a:stretch/>
        </p:blipFill>
        <p:spPr>
          <a:xfrm>
            <a:off x="457200" y="4378320"/>
            <a:ext cx="1428840" cy="3618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41"/>
          <p:cNvSpPr/>
          <p:nvPr/>
        </p:nvSpPr>
        <p:spPr>
          <a:xfrm>
            <a:off x="1935360" y="43020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2" name="Text Box 42"/>
          <p:cNvSpPr/>
          <p:nvPr/>
        </p:nvSpPr>
        <p:spPr>
          <a:xfrm>
            <a:off x="4645080" y="2743200"/>
            <a:ext cx="31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ussia or Bermuda?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r just stall for his poll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umbers to go up?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AD817CF8-B440-474F-B2A6-C7989D365516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odir sa</a:t>
            </a: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ostalim oblast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Teor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ja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Konačni automati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gramatike i parsiranje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protok podataka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Algoritm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Gra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fovi, dinamičko programiranje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Strukture podataka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Tabele seimbola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a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stra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t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na sintaksna drveta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tem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Al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okacija i imenovanje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višeprolazni istemi, 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Arhite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tur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a računara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Hijerarhija memeorije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selekcija instrukcija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interlok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ovi i latensije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paral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l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izam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gurnsot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Dete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c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ija i zaštita od prijetnji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oft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versko inženjerstvo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Razvoj softvera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debugging 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Vještačka inteligencija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Heuristi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ča traženja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5A7D09AB-2F34-4F7A-9136-931FF1CAAB63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f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kasno izvršavan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reslikavanje od visokog do niskog nivo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irektno preslikavanje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rograma u asemblesrki jezik vodi ka neefikasnom izvršavanju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Veči nivo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tr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c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je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veća neefikasno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ko nije efikasn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pstrakcija vis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kog nivoa je beskorisn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otrebno je d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bezbijedimo visok nivo apstrakc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Sa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erforman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sama koje imaju instrukcije niskog nivo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1927F40B-9B12-44EE-81BE-6108198E901E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f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kasno izvršavanje podiže nivo apstrakci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876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rogram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ski jezici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d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C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 OO-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jezika sa “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garbage collection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Još apstraktnije definic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Microprocesor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d prostog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CISC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-a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 RISC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o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VLIW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569" name="Group 4"/>
          <p:cNvGrpSpPr/>
          <p:nvPr/>
        </p:nvGrpSpPr>
        <p:grpSpPr>
          <a:xfrm>
            <a:off x="5715000" y="1600200"/>
            <a:ext cx="1752480" cy="1676520"/>
            <a:chOff x="5715000" y="1600200"/>
            <a:chExt cx="1752480" cy="1676520"/>
          </a:xfrm>
        </p:grpSpPr>
        <p:sp>
          <p:nvSpPr>
            <p:cNvPr id="570" name="AutoShape 5"/>
            <p:cNvSpPr/>
            <p:nvPr/>
          </p:nvSpPr>
          <p:spPr>
            <a:xfrm>
              <a:off x="5715000" y="1600200"/>
              <a:ext cx="1752480" cy="762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00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71" name="Rectangle 6"/>
            <p:cNvSpPr/>
            <p:nvPr/>
          </p:nvSpPr>
          <p:spPr>
            <a:xfrm>
              <a:off x="6172200" y="2362320"/>
              <a:ext cx="838080" cy="9144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00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572" name="Group 7"/>
          <p:cNvGrpSpPr/>
          <p:nvPr/>
        </p:nvGrpSpPr>
        <p:grpSpPr>
          <a:xfrm>
            <a:off x="5715000" y="4191480"/>
            <a:ext cx="1752480" cy="1675800"/>
            <a:chOff x="5715000" y="4191480"/>
            <a:chExt cx="1752480" cy="1675800"/>
          </a:xfrm>
        </p:grpSpPr>
        <p:sp>
          <p:nvSpPr>
            <p:cNvPr id="573" name="AutoShape 8"/>
            <p:cNvSpPr/>
            <p:nvPr/>
          </p:nvSpPr>
          <p:spPr>
            <a:xfrm flipV="1">
              <a:off x="5715000" y="5105520"/>
              <a:ext cx="1752480" cy="761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00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74" name="Rectangle 9"/>
            <p:cNvSpPr/>
            <p:nvPr/>
          </p:nvSpPr>
          <p:spPr>
            <a:xfrm flipV="1">
              <a:off x="6172200" y="4191120"/>
              <a:ext cx="838080" cy="9140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00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A3A82B5B-B072-4453-981C-4B89CF55D3EB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Optimiz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cija - primjer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sumcalc(int a, int b, int N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x, 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b*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9B873D75-B8DF-422A-9827-2BEBD75E4C98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8688960" y="763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152280" y="152280"/>
            <a:ext cx="525780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pushq   %rbp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q    %rsp, %rbp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i, -4(%rbp)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si, -8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x, -12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$0, -20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$0, -24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$0, -16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.L2:    movl    -16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cmpl    -12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jg      .L3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-4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l    0(,%rax,4)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q    -8(%rbp), %r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q    %rax, -40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x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q    -40(%rbp), %rc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cltd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divl   (%rcx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ax, -28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-28(%rbp)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mull   -16(%rbp)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-16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ncl   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mull   %eax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addl    %eax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-8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ax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mull   -24(%rbp)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q    -16(%rbp), %r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ncl    (%rax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jmp     .L2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.L3:    movl    -20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ve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ret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8AAB203D-F28E-491E-856D-0AEC0DED051C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oraci optimizaci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sumcalc(int a, int b, int N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b*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37E03FE9-2E6D-47A0-9AB4-5CD26142C73F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nstant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Courier New"/>
              </a:rPr>
              <a:t>   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b*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48670362-8845-4066-9DC9-3EA854A2D1C7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nstant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y = 0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b*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FF27F6BE-FFCA-4699-A5EA-C29A533D2093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nstant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y = 0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b*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4B37D3ED-2B98-435A-91C0-3138481AE4B8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lgebraic Simplific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b*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76A01358-B6AF-4C3C-9DA3-C72C4E771E5C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lgebraic Simplific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b*0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DE06A663-ABE5-4AD6-B118-880F8BFB19F3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zražajnost jezik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oristi se za opisivanje bilo koje akcij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je vezan za konteks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Više načina da se opiše ista akcij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Fle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ksibilnos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1F4D8242-37FD-413E-A1BC-CC05A1EF7641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lgebraic Simplific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D94A53D8-3B59-4F7C-961D-5D42592674C0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py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84CDB52D-C408-4287-A2F1-731814A0CE75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py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x =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30A7CE82-8FBC-49DC-906B-0749BFE4346D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py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9465E9AA-750A-4BD5-A1D9-D647A6D93D25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ommon Subexpression Elimination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81A2E956-0D24-4A43-AD81-C96ECC5A00F4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ommon Subexpression Elimination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(i+1)*(i+1)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C0BF6F61-70FB-4066-BFC7-DC5E066FB2CE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ommon Subexpression Elimination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,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*t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898F36DB-E0F3-42C3-8979-752EB6E78AC3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ead Code Elimin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, 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598013FA-C3B1-4836-A4C6-74C15A299152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ead Code Elimin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, 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113DFAB6-AC86-499E-A3F8-8D9FCDAA8168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ead Code Elimin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95781F0E-6EA5-4E8D-BB09-BA3527CB347A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ako dati in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trukcije računaru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rirodni jezici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Engl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esk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Open the pod bay doors, Hal.”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I am sorry Dave, I am afraid I cannot do that”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Daleko smo od tog nivoa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rirodni jezici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zražajni (moćni)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al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Dvosmisleni (nejasni)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Neki izrazi opisuju više mogućih akcija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7696080" y="1447920"/>
            <a:ext cx="10018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25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25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25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15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15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5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E36B038D-5308-4E03-BBC1-93B649A774C8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oop Invariant Removal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085AADC3-43A9-4732-865E-2B4448C9ADDB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oop Invariant Removal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(4*a/b)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58031003-F553-4C15-B1C7-FA54EF53AF1C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oop Invariant Removal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,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u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u = (4*a/b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u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2AC363CA-32C3-46E4-A6A0-1AE2B6C28C45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trength Reduc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, u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u = (4*a/b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u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12733B34-E05C-4715-8EAB-98D233CE19EB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trength Reduc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, u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u = (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4*a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/b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u*i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CA180727-A142-4B4C-A425-565C22EE0155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trength Reduc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, u,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v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u = (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(a&lt;&lt;2)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/b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v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v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v = v + u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F9B29618-2549-4030-821B-613480F8B195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Register Alloc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880" y="3657600"/>
            <a:ext cx="83822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ffff"/>
              </a:solidFill>
              <a:latin typeface="Courier New"/>
            </a:endParaRPr>
          </a:p>
        </p:txBody>
      </p:sp>
      <p:grpSp>
        <p:nvGrpSpPr>
          <p:cNvPr id="650" name="Group 4"/>
          <p:cNvGrpSpPr/>
          <p:nvPr/>
        </p:nvGrpSpPr>
        <p:grpSpPr>
          <a:xfrm>
            <a:off x="1600200" y="1347840"/>
            <a:ext cx="5032800" cy="1607760"/>
            <a:chOff x="1600200" y="1347840"/>
            <a:chExt cx="5032800" cy="1607760"/>
          </a:xfrm>
        </p:grpSpPr>
        <p:sp>
          <p:nvSpPr>
            <p:cNvPr id="651" name="Line 5"/>
            <p:cNvSpPr/>
            <p:nvPr/>
          </p:nvSpPr>
          <p:spPr>
            <a:xfrm flipH="1">
              <a:off x="5437800" y="1912680"/>
              <a:ext cx="698400" cy="0"/>
            </a:xfrm>
            <a:prstGeom prst="line">
              <a:avLst/>
            </a:prstGeom>
            <a:ln w="9360">
              <a:solidFill>
                <a:srgbClr val="cc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2" name="Text Box 6"/>
            <p:cNvSpPr/>
            <p:nvPr/>
          </p:nvSpPr>
          <p:spPr>
            <a:xfrm>
              <a:off x="6112440" y="134784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imes New Roman"/>
                </a:rPr>
                <a:t>fp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3" name="Rectangle 7"/>
            <p:cNvSpPr/>
            <p:nvPr/>
          </p:nvSpPr>
          <p:spPr>
            <a:xfrm>
              <a:off x="1600200" y="1902600"/>
              <a:ext cx="3841920" cy="354240"/>
            </a:xfrm>
            <a:prstGeom prst="rect">
              <a:avLst/>
            </a:prstGeom>
            <a:noFill/>
            <a:ln w="284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99"/>
                  </a:solidFill>
                  <a:latin typeface="Times New Roman"/>
                </a:rPr>
                <a:t>Local variable </a:t>
              </a:r>
              <a:r>
                <a:rPr b="1" lang="en-US" sz="2400" spc="-1" strike="noStrike">
                  <a:solidFill>
                    <a:srgbClr val="ccff99"/>
                  </a:solidFill>
                  <a:latin typeface="Courier New"/>
                </a:rPr>
                <a:t>X</a:t>
              </a:r>
              <a:r>
                <a:rPr b="0" lang="en-US" sz="2400" spc="-1" strike="noStrike">
                  <a:solidFill>
                    <a:srgbClr val="ccff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4" name="Rectangle 8"/>
            <p:cNvSpPr/>
            <p:nvPr/>
          </p:nvSpPr>
          <p:spPr>
            <a:xfrm>
              <a:off x="1600200" y="2252160"/>
              <a:ext cx="3841920" cy="354240"/>
            </a:xfrm>
            <a:prstGeom prst="rect">
              <a:avLst/>
            </a:prstGeom>
            <a:noFill/>
            <a:ln w="284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99"/>
                  </a:solidFill>
                  <a:latin typeface="Times New Roman"/>
                </a:rPr>
                <a:t>Local variable </a:t>
              </a:r>
              <a:r>
                <a:rPr b="1" lang="en-US" sz="2400" spc="-1" strike="noStrike">
                  <a:solidFill>
                    <a:srgbClr val="ccff99"/>
                  </a:solidFill>
                  <a:latin typeface="Courier New"/>
                </a:rPr>
                <a:t>Y</a:t>
              </a:r>
              <a:r>
                <a:rPr b="0" lang="en-US" sz="2400" spc="-1" strike="noStrike">
                  <a:solidFill>
                    <a:srgbClr val="ccff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5" name="Rectangle 9"/>
            <p:cNvSpPr/>
            <p:nvPr/>
          </p:nvSpPr>
          <p:spPr>
            <a:xfrm>
              <a:off x="1600200" y="2601360"/>
              <a:ext cx="3841920" cy="354240"/>
            </a:xfrm>
            <a:prstGeom prst="rect">
              <a:avLst/>
            </a:prstGeom>
            <a:noFill/>
            <a:ln w="284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99"/>
                  </a:solidFill>
                  <a:latin typeface="Times New Roman"/>
                </a:rPr>
                <a:t>Local variable </a:t>
              </a:r>
              <a:r>
                <a:rPr b="1" lang="en-US" sz="2400" spc="-1" strike="noStrike">
                  <a:solidFill>
                    <a:srgbClr val="ccff99"/>
                  </a:solidFill>
                  <a:latin typeface="Courier New"/>
                </a:rPr>
                <a:t>I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5162538A-7C0C-4B61-A5E0-CD299701B73F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Register Alloc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80880" y="3657600"/>
            <a:ext cx="83822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$r8d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= X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$r9d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= t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$r10d = u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$ebx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= v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$ecx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= i 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9" name="Line 4"/>
          <p:cNvSpPr/>
          <p:nvPr/>
        </p:nvSpPr>
        <p:spPr>
          <a:xfrm flipH="1">
            <a:off x="5438880" y="1913040"/>
            <a:ext cx="698400" cy="0"/>
          </a:xfrm>
          <a:prstGeom prst="line">
            <a:avLst/>
          </a:prstGeom>
          <a:ln w="9360">
            <a:solidFill>
              <a:srgbClr val="cc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6112440" y="13478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fp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1600200" y="1903320"/>
            <a:ext cx="3843360" cy="3542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ocal variable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1600200" y="2252520"/>
            <a:ext cx="3843360" cy="3542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ocal variable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3" name="Rectangle 8"/>
          <p:cNvSpPr/>
          <p:nvPr/>
        </p:nvSpPr>
        <p:spPr>
          <a:xfrm>
            <a:off x="1600200" y="2602080"/>
            <a:ext cx="3843360" cy="3538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ocal variable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I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4" name="Line 9"/>
          <p:cNvSpPr/>
          <p:nvPr/>
        </p:nvSpPr>
        <p:spPr>
          <a:xfrm>
            <a:off x="1600200" y="1905120"/>
            <a:ext cx="3886200" cy="1066680"/>
          </a:xfrm>
          <a:prstGeom prst="line">
            <a:avLst/>
          </a:prstGeom>
          <a:ln w="284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5" name="Line 10"/>
          <p:cNvSpPr/>
          <p:nvPr/>
        </p:nvSpPr>
        <p:spPr>
          <a:xfrm flipH="1">
            <a:off x="1523520" y="1905120"/>
            <a:ext cx="3962520" cy="1066680"/>
          </a:xfrm>
          <a:prstGeom prst="line">
            <a:avLst/>
          </a:prstGeom>
          <a:ln w="284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DFA5B9C5-A5A0-44F2-8056-F6162924404F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Optimiz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ovani kod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sumcalc(int a, int b, int N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i, x, t, u, v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u = ((a&lt;&lt;2)/b)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v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v + t*t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v = v + u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3D2A5AB9-C12D-45B5-8B5E-0FA87BEF650F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5638680" y="533160"/>
            <a:ext cx="3353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xorl    %r8d, %r8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xorl    %ecx, %ec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x, %r9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cmpl    %edx, %r8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jg      .L7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sall    $2, %edi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.L5:    movl    %edi, %ea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clt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divl   %esi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l    1(%rcx), %ed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ax, %r10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mull   %ecx, %r10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x, %ec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mull   %edx, %ec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l    (%r10,%rcx), %ea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x, %ec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addl    %eax, %r8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cmpl    %r9d, %ed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jle     .L5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.L7:    movl    %r8d, %ea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ret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152280" y="533520"/>
            <a:ext cx="4419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pushq   %rbp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q    %rsp, %rbp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i, -4(%rbp)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si, -8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x, -12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$0, -20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$0, -24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$0, -16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.L2:    movl    -16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cmpl    -12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jg      .L3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-4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l    0(,%rax,4)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q    -8(%rbp), %r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q    %rax, -40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x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q    -40(%rbp), %rc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cltd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divl   (%rcx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ax, -28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-28(%rbp)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mull   -16(%rbp)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-16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ncl   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mull   %eax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addl    %eax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-8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ax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mull   -24(%rbp)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q    -16(%rbp), %r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ncl    (%rax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jmp     .L2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.L3:    movl    -20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ve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ret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672" name="Group 4"/>
          <p:cNvGrpSpPr/>
          <p:nvPr/>
        </p:nvGrpSpPr>
        <p:grpSpPr>
          <a:xfrm>
            <a:off x="297720" y="4952880"/>
            <a:ext cx="8380080" cy="1313640"/>
            <a:chOff x="297720" y="4952880"/>
            <a:chExt cx="8380080" cy="1313640"/>
          </a:xfrm>
        </p:grpSpPr>
        <p:sp>
          <p:nvSpPr>
            <p:cNvPr id="673" name="Text Box 5"/>
            <p:cNvSpPr/>
            <p:nvPr/>
          </p:nvSpPr>
          <p:spPr>
            <a:xfrm>
              <a:off x="297720" y="4952880"/>
              <a:ext cx="3183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Inner Loop: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10*mov + 5*lea + 5*add/inc </a:t>
              </a:r>
              <a:br>
                <a:rPr sz="2000"/>
              </a:b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+ 4*div/mul + 5*cmp/br/jmp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= 29 instructions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74" name="Text Box 6"/>
            <p:cNvSpPr/>
            <p:nvPr/>
          </p:nvSpPr>
          <p:spPr>
            <a:xfrm>
              <a:off x="5479560" y="4952880"/>
              <a:ext cx="3198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4*mov + 2*lea + 1*add/inc+ </a:t>
              </a:r>
              <a:br>
                <a:rPr sz="2000"/>
              </a:b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3*div/mul + 2*cmp/br/jmp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= 12 instructions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675" name="Text Box 7"/>
          <p:cNvSpPr/>
          <p:nvPr/>
        </p:nvSpPr>
        <p:spPr>
          <a:xfrm>
            <a:off x="532800" y="76320"/>
            <a:ext cx="24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optimized Cod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5714280" y="7632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ptimized Cod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677" name="Group 9"/>
          <p:cNvGrpSpPr/>
          <p:nvPr/>
        </p:nvGrpSpPr>
        <p:grpSpPr>
          <a:xfrm>
            <a:off x="453240" y="6172200"/>
            <a:ext cx="7597800" cy="398880"/>
            <a:chOff x="453240" y="6172200"/>
            <a:chExt cx="7597800" cy="398880"/>
          </a:xfrm>
        </p:grpSpPr>
        <p:sp>
          <p:nvSpPr>
            <p:cNvPr id="678" name="Text Box 10"/>
            <p:cNvSpPr/>
            <p:nvPr/>
          </p:nvSpPr>
          <p:spPr>
            <a:xfrm>
              <a:off x="5406120" y="6172200"/>
              <a:ext cx="264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Execution time = 17 sec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79" name="Text Box 11"/>
            <p:cNvSpPr/>
            <p:nvPr/>
          </p:nvSpPr>
          <p:spPr>
            <a:xfrm>
              <a:off x="453240" y="6172200"/>
              <a:ext cx="264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Execution time = 43 sec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874407BB-5FDC-48CF-9882-366AE53AAF94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ogra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ski jezici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Željena svojstv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eciznos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Konciznos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Izr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jnos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Visoki nivo apstrakc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8019C055-9045-41EF-B0DD-0886208A1EC1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omp</a:t>
            </a:r>
            <a:r>
              <a:rPr b="1" lang="sr-Latn-CS" sz="3200" spc="-1" strike="noStrike">
                <a:solidFill>
                  <a:srgbClr val="ffff66"/>
                </a:solidFill>
                <a:latin typeface="Tahoma"/>
              </a:rPr>
              <a:t>ajleri o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ptimiz</a:t>
            </a:r>
            <a:r>
              <a:rPr b="1" lang="sr-Latn-CS" sz="3200" spc="-1" strike="noStrike">
                <a:solidFill>
                  <a:srgbClr val="ffff66"/>
                </a:solidFill>
                <a:latin typeface="Tahoma"/>
              </a:rPr>
              <a:t>uju p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rogram</a:t>
            </a:r>
            <a:r>
              <a:rPr b="1" lang="sr-Latn-CS" sz="3200" spc="-1" strike="noStrike">
                <a:solidFill>
                  <a:srgbClr val="ffff66"/>
                </a:solidFill>
                <a:latin typeface="Tahoma"/>
              </a:rPr>
              <a:t>e zbog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: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erformans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/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Brzine izvršavanj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Velič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e kod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otrošnje elektricitet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Brž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e/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efikasnij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 kompilacij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gurnos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ti/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ouzdanost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Debugging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974DA3B9-6B0E-49E1-A271-A5497FD09097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Od visokog nivoa apstrakcije do niskog nivoa detalja implementaci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828720" y="5372280"/>
            <a:ext cx="4429080" cy="1180800"/>
            <a:chOff x="828720" y="5372280"/>
            <a:chExt cx="4429080" cy="1180800"/>
          </a:xfrm>
        </p:grpSpPr>
        <p:pic>
          <p:nvPicPr>
            <p:cNvPr id="70" name="Picture 4" descr="z-private"/>
            <p:cNvPicPr/>
            <p:nvPr/>
          </p:nvPicPr>
          <p:blipFill>
            <a:blip r:embed="rId1"/>
            <a:stretch/>
          </p:blipFill>
          <p:spPr>
            <a:xfrm>
              <a:off x="828720" y="5600520"/>
              <a:ext cx="685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5" descr="x-S116tn"/>
            <p:cNvPicPr/>
            <p:nvPr/>
          </p:nvPicPr>
          <p:blipFill>
            <a:blip r:embed="rId2"/>
            <a:stretch/>
          </p:blipFill>
          <p:spPr>
            <a:xfrm>
              <a:off x="3429000" y="5372280"/>
              <a:ext cx="182880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6"/>
            <p:cNvSpPr/>
            <p:nvPr/>
          </p:nvSpPr>
          <p:spPr>
            <a:xfrm>
              <a:off x="1660680" y="5565600"/>
              <a:ext cx="169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Foot Soldie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73" name="Group 7"/>
          <p:cNvGrpSpPr/>
          <p:nvPr/>
        </p:nvGrpSpPr>
        <p:grpSpPr>
          <a:xfrm>
            <a:off x="695160" y="1398600"/>
            <a:ext cx="7686720" cy="1649520"/>
            <a:chOff x="695160" y="1398600"/>
            <a:chExt cx="7686720" cy="1649520"/>
          </a:xfrm>
        </p:grpSpPr>
        <p:grpSp>
          <p:nvGrpSpPr>
            <p:cNvPr id="74" name="Group 8"/>
            <p:cNvGrpSpPr/>
            <p:nvPr/>
          </p:nvGrpSpPr>
          <p:grpSpPr>
            <a:xfrm>
              <a:off x="3957480" y="1890720"/>
              <a:ext cx="769680" cy="1157400"/>
              <a:chOff x="3957480" y="1890720"/>
              <a:chExt cx="769680" cy="1157400"/>
            </a:xfrm>
          </p:grpSpPr>
          <p:sp>
            <p:nvSpPr>
              <p:cNvPr id="75" name="Freeform 9"/>
              <p:cNvSpPr/>
              <p:nvPr/>
            </p:nvSpPr>
            <p:spPr>
              <a:xfrm>
                <a:off x="4016160" y="1890720"/>
                <a:ext cx="711000" cy="1154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76" name="Freeform 10"/>
              <p:cNvSpPr/>
              <p:nvPr/>
            </p:nvSpPr>
            <p:spPr>
              <a:xfrm>
                <a:off x="3957480" y="2373480"/>
                <a:ext cx="504720" cy="67464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77" name="Freeform 11"/>
              <p:cNvSpPr/>
              <p:nvPr/>
            </p:nvSpPr>
            <p:spPr>
              <a:xfrm>
                <a:off x="4471560" y="2606760"/>
                <a:ext cx="192240" cy="376200"/>
              </a:xfrm>
              <a:prstGeom prst="pie">
                <a:avLst/>
              </a:prstGeom>
              <a:solidFill>
                <a:srgbClr val="ade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78" name="Freeform 12"/>
              <p:cNvSpPr/>
              <p:nvPr/>
            </p:nvSpPr>
            <p:spPr>
              <a:xfrm>
                <a:off x="4054320" y="2500200"/>
                <a:ext cx="96480" cy="1126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79" name="Freeform 13"/>
              <p:cNvSpPr/>
              <p:nvPr/>
            </p:nvSpPr>
            <p:spPr>
              <a:xfrm>
                <a:off x="4049280" y="2459160"/>
                <a:ext cx="104760" cy="6336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0" name="Freeform 14"/>
              <p:cNvSpPr/>
              <p:nvPr/>
            </p:nvSpPr>
            <p:spPr>
              <a:xfrm>
                <a:off x="4016160" y="2116080"/>
                <a:ext cx="68076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1" name="Freeform 15"/>
              <p:cNvSpPr/>
              <p:nvPr/>
            </p:nvSpPr>
            <p:spPr>
              <a:xfrm>
                <a:off x="4308120" y="2558880"/>
                <a:ext cx="196920" cy="125640"/>
              </a:xfrm>
              <a:prstGeom prst="pie">
                <a:avLst/>
              </a:prstGeom>
              <a:solidFill>
                <a:srgbClr val="ade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2" name="Freeform 16"/>
              <p:cNvSpPr/>
              <p:nvPr/>
            </p:nvSpPr>
            <p:spPr>
              <a:xfrm>
                <a:off x="4298760" y="1979640"/>
                <a:ext cx="338040" cy="555480"/>
              </a:xfrm>
              <a:prstGeom prst="pie">
                <a:avLst/>
              </a:prstGeom>
              <a:solidFill>
                <a:srgbClr val="dda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3" name="Freeform 17"/>
              <p:cNvSpPr/>
              <p:nvPr/>
            </p:nvSpPr>
            <p:spPr>
              <a:xfrm>
                <a:off x="4451040" y="2305080"/>
                <a:ext cx="12060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4" name="Freeform 18"/>
              <p:cNvSpPr/>
              <p:nvPr/>
            </p:nvSpPr>
            <p:spPr>
              <a:xfrm>
                <a:off x="4424040" y="2395440"/>
                <a:ext cx="15732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5" name="Freeform 19"/>
              <p:cNvSpPr/>
              <p:nvPr/>
            </p:nvSpPr>
            <p:spPr>
              <a:xfrm>
                <a:off x="4458960" y="2444760"/>
                <a:ext cx="9828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6" name="Freeform 20"/>
              <p:cNvSpPr/>
              <p:nvPr/>
            </p:nvSpPr>
            <p:spPr>
              <a:xfrm>
                <a:off x="4046040" y="2173320"/>
                <a:ext cx="98640" cy="3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7" name="Freeform 21"/>
              <p:cNvSpPr/>
              <p:nvPr/>
            </p:nvSpPr>
            <p:spPr>
              <a:xfrm>
                <a:off x="4060440" y="2141640"/>
                <a:ext cx="58680" cy="2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Group 22"/>
            <p:cNvGrpSpPr/>
            <p:nvPr/>
          </p:nvGrpSpPr>
          <p:grpSpPr>
            <a:xfrm>
              <a:off x="695160" y="1398600"/>
              <a:ext cx="7686720" cy="1444680"/>
              <a:chOff x="695160" y="1398600"/>
              <a:chExt cx="7686720" cy="1444680"/>
            </a:xfrm>
          </p:grpSpPr>
          <p:pic>
            <p:nvPicPr>
              <p:cNvPr id="89" name="Picture 23" descr="z-president"/>
              <p:cNvPicPr/>
              <p:nvPr/>
            </p:nvPicPr>
            <p:blipFill>
              <a:blip r:embed="rId3"/>
              <a:stretch/>
            </p:blipFill>
            <p:spPr>
              <a:xfrm>
                <a:off x="695160" y="1890720"/>
                <a:ext cx="952560" cy="95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Text Box 24"/>
              <p:cNvSpPr/>
              <p:nvPr/>
            </p:nvSpPr>
            <p:spPr>
              <a:xfrm>
                <a:off x="1851120" y="2271960"/>
                <a:ext cx="131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President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1" name="AutoShape 25"/>
              <p:cNvSpPr/>
              <p:nvPr/>
            </p:nvSpPr>
            <p:spPr>
              <a:xfrm>
                <a:off x="4800600" y="1433520"/>
                <a:ext cx="3581280" cy="838440"/>
              </a:xfrm>
              <a:prstGeom prst="wedgeRoundRectCallout">
                <a:avLst>
                  <a:gd name="adj1" fmla="val -54254"/>
                  <a:gd name="adj2" fmla="val 64013"/>
                  <a:gd name="adj3" fmla="val 16667"/>
                </a:avLst>
              </a:prstGeom>
              <a:solidFill>
                <a:srgbClr val="15009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2" name="Text Box 26"/>
              <p:cNvSpPr/>
              <p:nvPr/>
            </p:nvSpPr>
            <p:spPr>
              <a:xfrm>
                <a:off x="4779720" y="1398600"/>
                <a:ext cx="3286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My poll ratings are low,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lets invade a small nation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Group 27"/>
          <p:cNvGrpSpPr/>
          <p:nvPr/>
        </p:nvGrpSpPr>
        <p:grpSpPr>
          <a:xfrm>
            <a:off x="457200" y="2803680"/>
            <a:ext cx="7848720" cy="1310760"/>
            <a:chOff x="457200" y="2803680"/>
            <a:chExt cx="7848720" cy="1310760"/>
          </a:xfrm>
        </p:grpSpPr>
        <p:grpSp>
          <p:nvGrpSpPr>
            <p:cNvPr id="94" name="Group 28"/>
            <p:cNvGrpSpPr/>
            <p:nvPr/>
          </p:nvGrpSpPr>
          <p:grpSpPr>
            <a:xfrm>
              <a:off x="4014720" y="3295800"/>
              <a:ext cx="655200" cy="818640"/>
              <a:chOff x="4014720" y="3295800"/>
              <a:chExt cx="655200" cy="818640"/>
            </a:xfrm>
          </p:grpSpPr>
          <p:sp>
            <p:nvSpPr>
              <p:cNvPr id="95" name="Freeform 29"/>
              <p:cNvSpPr/>
              <p:nvPr/>
            </p:nvSpPr>
            <p:spPr>
              <a:xfrm flipH="1">
                <a:off x="4014720" y="3295800"/>
                <a:ext cx="655200" cy="81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6" name="Freeform 30"/>
              <p:cNvSpPr/>
              <p:nvPr/>
            </p:nvSpPr>
            <p:spPr>
              <a:xfrm flipH="1">
                <a:off x="4557960" y="3685320"/>
                <a:ext cx="3960" cy="1728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7" name="Freeform 31"/>
              <p:cNvSpPr/>
              <p:nvPr/>
            </p:nvSpPr>
            <p:spPr>
              <a:xfrm flipH="1">
                <a:off x="4465800" y="3672000"/>
                <a:ext cx="85680" cy="3528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8" name="Freeform 32"/>
              <p:cNvSpPr/>
              <p:nvPr/>
            </p:nvSpPr>
            <p:spPr>
              <a:xfrm flipH="1">
                <a:off x="4346640" y="3711960"/>
                <a:ext cx="322920" cy="27288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9" name="Freeform 33"/>
              <p:cNvSpPr/>
              <p:nvPr/>
            </p:nvSpPr>
            <p:spPr>
              <a:xfrm flipH="1">
                <a:off x="4318200" y="3874320"/>
                <a:ext cx="114120" cy="9000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0" name="Freeform 34"/>
              <p:cNvSpPr/>
              <p:nvPr/>
            </p:nvSpPr>
            <p:spPr>
              <a:xfrm flipH="1">
                <a:off x="4371120" y="3962880"/>
                <a:ext cx="127080" cy="7416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1" name="Freeform 35"/>
              <p:cNvSpPr/>
              <p:nvPr/>
            </p:nvSpPr>
            <p:spPr>
              <a:xfrm flipH="1">
                <a:off x="4252680" y="3898800"/>
                <a:ext cx="129600" cy="7020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2" name="Freeform 36"/>
              <p:cNvSpPr/>
              <p:nvPr/>
            </p:nvSpPr>
            <p:spPr>
              <a:xfrm flipH="1">
                <a:off x="4054320" y="3440880"/>
                <a:ext cx="366840" cy="40068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3" name="Freeform 37"/>
              <p:cNvSpPr/>
              <p:nvPr/>
            </p:nvSpPr>
            <p:spPr>
              <a:xfrm flipH="1">
                <a:off x="4278960" y="3760200"/>
                <a:ext cx="250200" cy="23076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4" name="Freeform 38"/>
              <p:cNvSpPr/>
              <p:nvPr/>
            </p:nvSpPr>
            <p:spPr>
              <a:xfrm flipH="1">
                <a:off x="4294080" y="3577680"/>
                <a:ext cx="308160" cy="17352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5" name="Freeform 39"/>
              <p:cNvSpPr/>
              <p:nvPr/>
            </p:nvSpPr>
            <p:spPr>
              <a:xfrm flipH="1">
                <a:off x="4342320" y="4015080"/>
                <a:ext cx="198000" cy="6624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6" name="Freeform 40"/>
              <p:cNvSpPr/>
              <p:nvPr/>
            </p:nvSpPr>
            <p:spPr>
              <a:xfrm flipH="1">
                <a:off x="4256280" y="3542040"/>
                <a:ext cx="207000" cy="208800"/>
              </a:xfrm>
              <a:prstGeom prst="pie">
                <a:avLst/>
              </a:prstGeom>
              <a:solidFill>
                <a:srgbClr val="d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7" name="Freeform 41"/>
              <p:cNvSpPr/>
              <p:nvPr/>
            </p:nvSpPr>
            <p:spPr>
              <a:xfrm flipH="1">
                <a:off x="4115520" y="3300120"/>
                <a:ext cx="305640" cy="207000"/>
              </a:xfrm>
              <a:prstGeom prst="pie">
                <a:avLst/>
              </a:prstGeom>
              <a:solidFill>
                <a:srgbClr val="d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8" name="Freeform 42"/>
              <p:cNvSpPr/>
              <p:nvPr/>
            </p:nvSpPr>
            <p:spPr>
              <a:xfrm flipH="1">
                <a:off x="4142160" y="3443400"/>
                <a:ext cx="24120" cy="34920"/>
              </a:xfrm>
              <a:prstGeom prst="pie">
                <a:avLst/>
              </a:prstGeom>
              <a:solidFill>
                <a:srgbClr val="d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9" name="Freeform 43"/>
              <p:cNvSpPr/>
              <p:nvPr/>
            </p:nvSpPr>
            <p:spPr>
              <a:xfrm flipH="1">
                <a:off x="4263840" y="3810600"/>
                <a:ext cx="21600" cy="52560"/>
              </a:xfrm>
              <a:prstGeom prst="pie">
                <a:avLst/>
              </a:prstGeom>
              <a:solidFill>
                <a:srgbClr val="66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10" name="Freeform 44"/>
              <p:cNvSpPr/>
              <p:nvPr/>
            </p:nvSpPr>
            <p:spPr>
              <a:xfrm flipH="1">
                <a:off x="4296240" y="3850560"/>
                <a:ext cx="32760" cy="17280"/>
              </a:xfrm>
              <a:prstGeom prst="pie">
                <a:avLst/>
              </a:prstGeom>
              <a:solidFill>
                <a:srgbClr val="66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11" name="Freeform 45"/>
              <p:cNvSpPr/>
              <p:nvPr/>
            </p:nvSpPr>
            <p:spPr>
              <a:xfrm flipH="1">
                <a:off x="4318920" y="3764520"/>
                <a:ext cx="28080" cy="48240"/>
              </a:xfrm>
              <a:prstGeom prst="pie">
                <a:avLst/>
              </a:prstGeom>
              <a:solidFill>
                <a:srgbClr val="66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46"/>
            <p:cNvGrpSpPr/>
            <p:nvPr/>
          </p:nvGrpSpPr>
          <p:grpSpPr>
            <a:xfrm>
              <a:off x="457200" y="2803680"/>
              <a:ext cx="7848720" cy="1104120"/>
              <a:chOff x="457200" y="2803680"/>
              <a:chExt cx="7848720" cy="1104120"/>
            </a:xfrm>
          </p:grpSpPr>
          <p:pic>
            <p:nvPicPr>
              <p:cNvPr id="113" name="Picture 47" descr="z-general"/>
              <p:cNvPicPr/>
              <p:nvPr/>
            </p:nvPicPr>
            <p:blipFill>
              <a:blip r:embed="rId4"/>
              <a:stretch/>
            </p:blipFill>
            <p:spPr>
              <a:xfrm>
                <a:off x="457200" y="3524400"/>
                <a:ext cx="1428840" cy="3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 Box 48"/>
              <p:cNvSpPr/>
              <p:nvPr/>
            </p:nvSpPr>
            <p:spPr>
              <a:xfrm>
                <a:off x="1935360" y="3448080"/>
                <a:ext cx="1146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l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15" name="AutoShape 49"/>
              <p:cNvSpPr/>
              <p:nvPr/>
            </p:nvSpPr>
            <p:spPr>
              <a:xfrm>
                <a:off x="4724280" y="2838600"/>
                <a:ext cx="3581640" cy="838080"/>
              </a:xfrm>
              <a:prstGeom prst="wedgeRoundRectCallout">
                <a:avLst>
                  <a:gd name="adj1" fmla="val -52481"/>
                  <a:gd name="adj2" fmla="val 71592"/>
                  <a:gd name="adj3" fmla="val 16667"/>
                </a:avLst>
              </a:prstGeom>
              <a:solidFill>
                <a:srgbClr val="15009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16" name="Text Box 50"/>
              <p:cNvSpPr/>
              <p:nvPr/>
            </p:nvSpPr>
            <p:spPr>
              <a:xfrm>
                <a:off x="4706280" y="2803680"/>
                <a:ext cx="3080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Cross the river and take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defensive positions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Group 51"/>
          <p:cNvGrpSpPr/>
          <p:nvPr/>
        </p:nvGrpSpPr>
        <p:grpSpPr>
          <a:xfrm>
            <a:off x="861840" y="4064040"/>
            <a:ext cx="7596360" cy="1193040"/>
            <a:chOff x="861840" y="4064040"/>
            <a:chExt cx="7596360" cy="1193040"/>
          </a:xfrm>
        </p:grpSpPr>
        <p:pic>
          <p:nvPicPr>
            <p:cNvPr id="118" name="Picture 52" descr="z-sergeant"/>
            <p:cNvPicPr/>
            <p:nvPr/>
          </p:nvPicPr>
          <p:blipFill>
            <a:blip r:embed="rId5"/>
            <a:stretch/>
          </p:blipFill>
          <p:spPr>
            <a:xfrm>
              <a:off x="861840" y="4327560"/>
              <a:ext cx="6192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53"/>
            <p:cNvSpPr/>
            <p:nvPr/>
          </p:nvSpPr>
          <p:spPr>
            <a:xfrm>
              <a:off x="1884240" y="455616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Sergeant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grpSp>
          <p:nvGrpSpPr>
            <p:cNvPr id="120" name="Group 54"/>
            <p:cNvGrpSpPr/>
            <p:nvPr/>
          </p:nvGrpSpPr>
          <p:grpSpPr>
            <a:xfrm>
              <a:off x="4007160" y="4556160"/>
              <a:ext cx="670680" cy="700920"/>
              <a:chOff x="4007160" y="4556160"/>
              <a:chExt cx="670680" cy="700920"/>
            </a:xfrm>
          </p:grpSpPr>
          <p:sp>
            <p:nvSpPr>
              <p:cNvPr id="121" name="Freeform 55"/>
              <p:cNvSpPr/>
              <p:nvPr/>
            </p:nvSpPr>
            <p:spPr>
              <a:xfrm flipH="1">
                <a:off x="4060800" y="4560840"/>
                <a:ext cx="609120" cy="398520"/>
              </a:xfrm>
              <a:prstGeom prst="pie">
                <a:avLst/>
              </a:prstGeom>
              <a:solidFill>
                <a:srgbClr val="007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2" name="Freeform 56"/>
              <p:cNvSpPr/>
              <p:nvPr/>
            </p:nvSpPr>
            <p:spPr>
              <a:xfrm flipH="1">
                <a:off x="4339440" y="4560840"/>
                <a:ext cx="167400" cy="25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3" name="Freeform 57"/>
              <p:cNvSpPr/>
              <p:nvPr/>
            </p:nvSpPr>
            <p:spPr>
              <a:xfrm flipH="1">
                <a:off x="4087800" y="4556160"/>
                <a:ext cx="254160" cy="16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4" name="Freeform 58"/>
              <p:cNvSpPr/>
              <p:nvPr/>
            </p:nvSpPr>
            <p:spPr>
              <a:xfrm flipH="1">
                <a:off x="4053240" y="4718160"/>
                <a:ext cx="48240" cy="108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5" name="Freeform 59"/>
              <p:cNvSpPr/>
              <p:nvPr/>
            </p:nvSpPr>
            <p:spPr>
              <a:xfrm flipH="1">
                <a:off x="4057920" y="4813200"/>
                <a:ext cx="604080" cy="15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6" name="Freeform 60"/>
              <p:cNvSpPr/>
              <p:nvPr/>
            </p:nvSpPr>
            <p:spPr>
              <a:xfrm flipH="1">
                <a:off x="4648320" y="4894560"/>
                <a:ext cx="2916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7" name="Freeform 61"/>
              <p:cNvSpPr/>
              <p:nvPr/>
            </p:nvSpPr>
            <p:spPr>
              <a:xfrm flipH="1">
                <a:off x="4488480" y="4810320"/>
                <a:ext cx="187200" cy="9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8" name="Freeform 62"/>
              <p:cNvSpPr/>
              <p:nvPr/>
            </p:nvSpPr>
            <p:spPr>
              <a:xfrm flipH="1">
                <a:off x="4011480" y="4821480"/>
                <a:ext cx="452520" cy="432720"/>
              </a:xfrm>
              <a:prstGeom prst="pie">
                <a:avLst/>
              </a:prstGeom>
              <a:solidFill>
                <a:srgbClr val="c67c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9" name="Freeform 63"/>
              <p:cNvSpPr/>
              <p:nvPr/>
            </p:nvSpPr>
            <p:spPr>
              <a:xfrm flipH="1">
                <a:off x="4057920" y="4813200"/>
                <a:ext cx="208440" cy="5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30" name="Freeform 64"/>
              <p:cNvSpPr/>
              <p:nvPr/>
            </p:nvSpPr>
            <p:spPr>
              <a:xfrm flipH="1">
                <a:off x="4011840" y="4818240"/>
                <a:ext cx="56880" cy="18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31" name="Freeform 65"/>
              <p:cNvSpPr/>
              <p:nvPr/>
            </p:nvSpPr>
            <p:spPr>
              <a:xfrm flipH="1">
                <a:off x="4006800" y="5000040"/>
                <a:ext cx="96840" cy="22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32" name="Freeform 66"/>
              <p:cNvSpPr/>
              <p:nvPr/>
            </p:nvSpPr>
            <p:spPr>
              <a:xfrm flipH="1">
                <a:off x="4255920" y="5088960"/>
                <a:ext cx="172800" cy="16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33" name="Freeform 67"/>
              <p:cNvSpPr/>
              <p:nvPr/>
            </p:nvSpPr>
            <p:spPr>
              <a:xfrm flipH="1">
                <a:off x="4415040" y="4907880"/>
                <a:ext cx="54360" cy="18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34" name="Freeform 68"/>
              <p:cNvSpPr/>
              <p:nvPr/>
            </p:nvSpPr>
            <p:spPr>
              <a:xfrm flipH="1">
                <a:off x="4258440" y="4861800"/>
                <a:ext cx="205560" cy="5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</p:grpSp>
        <p:sp>
          <p:nvSpPr>
            <p:cNvPr id="135" name="AutoShape 69"/>
            <p:cNvSpPr/>
            <p:nvPr/>
          </p:nvSpPr>
          <p:spPr>
            <a:xfrm>
              <a:off x="4876920" y="4098960"/>
              <a:ext cx="3581280" cy="838080"/>
            </a:xfrm>
            <a:prstGeom prst="wedgeRoundRectCallout">
              <a:avLst>
                <a:gd name="adj1" fmla="val -61791"/>
                <a:gd name="adj2" fmla="val 74810"/>
                <a:gd name="adj3" fmla="val 16667"/>
              </a:avLst>
            </a:prstGeom>
            <a:solidFill>
              <a:srgbClr val="15009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36" name="Text Box 70"/>
            <p:cNvSpPr/>
            <p:nvPr/>
          </p:nvSpPr>
          <p:spPr>
            <a:xfrm>
              <a:off x="4858560" y="4064040"/>
              <a:ext cx="31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Forward march, turn left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Stop!, Shoot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7EBFA368-1C78-4319-B7CE-23075F338ED5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ako zadati instrukcije računaru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3200400" y="4191120"/>
            <a:ext cx="2819520" cy="1403280"/>
          </a:xfrm>
          <a:prstGeom prst="rightArrow">
            <a:avLst>
              <a:gd name="adj1" fmla="val 50000"/>
              <a:gd name="adj2" fmla="val 50231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0090"/>
                </a:solidFill>
                <a:latin typeface="Times New Roman"/>
              </a:rPr>
              <a:t>Compiler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2514600"/>
            <a:ext cx="8610840" cy="3581280"/>
            <a:chOff x="380880" y="2514600"/>
            <a:chExt cx="8610840" cy="3581280"/>
          </a:xfrm>
        </p:grpSpPr>
        <p:sp>
          <p:nvSpPr>
            <p:cNvPr id="141" name="Oval 5"/>
            <p:cNvSpPr/>
            <p:nvPr/>
          </p:nvSpPr>
          <p:spPr>
            <a:xfrm>
              <a:off x="6095880" y="3809880"/>
              <a:ext cx="2286000" cy="22860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Asemblerski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jezik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380880" y="2514600"/>
              <a:ext cx="86108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cc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Tahoma"/>
                </a:rPr>
                <a:t>Mikroprocesor</a:t>
              </a:r>
              <a:r>
                <a:rPr b="0" lang="sr-Latn-CS" sz="2800" spc="-1" strike="noStrike">
                  <a:solidFill>
                    <a:srgbClr val="ccffff"/>
                  </a:solidFill>
                  <a:latin typeface="Tahoma"/>
                </a:rPr>
                <a:t>i “govore”</a:t>
              </a:r>
              <a:r>
                <a:rPr b="0" lang="en-US" sz="2800" spc="-1" strike="noStrike">
                  <a:solidFill>
                    <a:srgbClr val="ccffff"/>
                  </a:solidFill>
                  <a:latin typeface="Tahoma"/>
                </a:rPr>
                <a:t> asembl</a:t>
              </a:r>
              <a:r>
                <a:rPr b="0" lang="sr-Latn-CS" sz="2800" spc="-1" strike="noStrike">
                  <a:solidFill>
                    <a:srgbClr val="ccffff"/>
                  </a:solidFill>
                  <a:latin typeface="Tahoma"/>
                </a:rPr>
                <a:t>erskim jezikom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cffff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ff"/>
                  </a:solidFill>
                  <a:latin typeface="Tahoma"/>
                </a:rPr>
                <a:t>Low-level Implementation Details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69000" y="1447920"/>
            <a:ext cx="8253360" cy="4647960"/>
            <a:chOff x="369000" y="1447920"/>
            <a:chExt cx="8253360" cy="4647960"/>
          </a:xfrm>
        </p:grpSpPr>
        <p:sp>
          <p:nvSpPr>
            <p:cNvPr id="144" name="Oval 8"/>
            <p:cNvSpPr/>
            <p:nvPr/>
          </p:nvSpPr>
          <p:spPr>
            <a:xfrm>
              <a:off x="762120" y="3809880"/>
              <a:ext cx="2286000" cy="2286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ogram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napi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an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rogram</a:t>
              </a: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skom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jeziku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369000" y="1447920"/>
              <a:ext cx="8253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sr-Latn-CS" sz="3200" spc="-1" strike="noStrike">
                  <a:solidFill>
                    <a:srgbClr val="00ffff"/>
                  </a:solidFill>
                  <a:latin typeface="Times New Roman"/>
                </a:rPr>
                <a:t>Napišite program u nekom programskom jeziku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ffff"/>
                  </a:solidFill>
                  <a:latin typeface="Times New Roman"/>
                </a:rPr>
                <a:t>High-level Abstract Description</a:t>
              </a:r>
              <a:br>
                <a:rPr sz="2800"/>
              </a:br>
              <a:r>
                <a:rPr b="0" lang="en-US" sz="28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8T13:24:48Z</dcterms:created>
  <dc:creator>Saman Amarasinghe</dc:creator>
  <dc:description/>
  <dc:language>en-US</dc:language>
  <cp:lastModifiedBy>gorans</cp:lastModifiedBy>
  <cp:lastPrinted>1998-09-09T12:10:23Z</cp:lastPrinted>
  <dcterms:modified xsi:type="dcterms:W3CDTF">2011-02-10T08:21:08Z</dcterms:modified>
  <cp:revision>145</cp:revision>
  <dc:subject/>
  <dc:title>Lecture 1: 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compiler.lcs.mit.edu/~saman</vt:lpwstr>
  </property>
  <property fmtid="{D5CDD505-2E9C-101B-9397-08002B2CF9AE}" pid="9" name="LinkColor">
    <vt:r8>16711782</vt:r8>
  </property>
  <property fmtid="{D5CDD505-2E9C-101B-9397-08002B2CF9AE}" pid="10" name="MailAddress">
    <vt:lpwstr>saman@lcs.mit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I:\wwwroot\6035-99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