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DDB2F-905D-416E-90BD-D3056E285E1B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eftmost derivation going down Top dow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ightmost derivation coming up, bottom up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day, look at top-dow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CE82-6D3D-4677-9BC2-42C3C9FF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7880" y="35348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FD92-B8E7-4564-B07C-21A42C06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7880" y="35348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560" y="35348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9888-FAEB-4275-BCCB-B285D474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5880" y="10666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3520" y="10666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7880" y="35348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5880" y="35348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3520" y="35348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E029-6316-4077-A071-19EBABE0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AAD1-7BF0-4D75-B8AF-1FE77F4B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8061-3F6C-49F9-BDC2-2A8A8F80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F34B-C428-4CFB-B985-18985679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A004-4FC7-4AED-B230-4643AB34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7F4C-25AF-43C2-AAC4-9BE80A95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77880" y="35348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FF24-C508-4023-A12A-93F0DA5B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560" y="35348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61A6-C78C-426E-9B58-D374A491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7880" y="35348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247-FA8A-4C03-8E5B-AA90AD15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37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B62F-663A-4357-8CF1-48C8BE808B4D}" type="datetime">
              <a:rPr b="0" i="1" lang="en-US" sz="16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7124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60D5-288C-4448-854C-8A11A596EBEE}" type="slidenum">
              <a:rPr b="0" lang="en-US" sz="16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167520"/>
            <a:ext cx="7030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Top-down parsiranj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5A55-78C2-467F-AAFE-433C7C75E3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Re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ur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zija u pravilima gramatik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Transformacija G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(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sa lijevom r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r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o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G’ (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sa desnom r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r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o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G: X –&gt; Xa | Xb | AB | C | DEF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Dodati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erm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inal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X’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na kraj svakog nerekurzivnog pravila za X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–&gt; ABX' | CX' | DEFX'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' –&gt; aX' | bX' |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Isti jezik, ali je rekurzija sada na desnoj strani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Ovo je vezano za pojedine algoritme za kreiranje parsera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.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D3F0-4504-4821-B309-81E3FFD39A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Indirektna rekurzija ili prefiks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Rekurzija ili zajednički prefiksi ne moraju biti odmah vidljiv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Re</a:t>
            </a:r>
            <a:r>
              <a:rPr b="0" lang="sr-Latn-CS" sz="2800" spc="-1" strike="noStrike" u="sng">
                <a:solidFill>
                  <a:srgbClr val="3333cc"/>
                </a:solidFill>
                <a:uFillTx/>
                <a:latin typeface="Tahoma"/>
              </a:rPr>
              <a:t>k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ur</a:t>
            </a:r>
            <a:r>
              <a:rPr b="0" lang="sr-Latn-CS" sz="2800" spc="-1" strike="noStrike" u="sng">
                <a:solidFill>
                  <a:srgbClr val="3333cc"/>
                </a:solidFill>
                <a:uFillTx/>
                <a:latin typeface="Tahoma"/>
              </a:rPr>
              <a:t>zija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sr-Latn-CS" sz="2800" spc="-1" strike="noStrike" u="sng">
                <a:solidFill>
                  <a:srgbClr val="3333cc"/>
                </a:solidFill>
                <a:uFillTx/>
                <a:latin typeface="Tahoma"/>
              </a:rPr>
              <a:t>Zajednički prefi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X -&gt; 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X -&gt; aW | VZ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-&gt; X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V -&gt; aY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Poslije primjene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va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 ili tri pravila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X -&gt; YW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X -&gt; aW | VZ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Y -&gt; XZ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V -&gt; aY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X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XZW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X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aW,  X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aYZ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B73D-983A-4485-B92A-EC02666B21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Lijeva rekurzija - primj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S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Aa|b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Ac|Sd|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Eliminisanje indirektne rekurzije S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Aa|b  A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Ac|Aad|bd|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Eliminacijom direktne lijeve rekurzij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bdA’|A’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A’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cA’|adA’|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E799-541B-444D-BC79-D58C41EF77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Načini parsiran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77880" y="1066320"/>
            <a:ext cx="7856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op down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kreće se od početnog neterminalnog simbola gramatik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imjenjuju se pravila (produkcije) dok se ne dobije tražena sentenc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zgradnja drveta parsiranja od korijena ka listovima, 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eorder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ottom up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očinjemo od  sente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dukcija na startni simbo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(proces obrnut desnoj derivaciji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E79F-C426-4E54-9930-63989BA5E4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Top down parsiranje - ide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319560" y="5105520"/>
            <a:ext cx="5331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urier New"/>
              </a:rPr>
              <a:t>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4019400"/>
            <a:ext cx="53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3484440" y="4253040"/>
            <a:ext cx="1684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3505320" y="1371600"/>
            <a:ext cx="16761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nt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5889600" y="2759040"/>
            <a:ext cx="1273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743200"/>
            <a:ext cx="1752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2819520"/>
            <a:ext cx="19890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b-phr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5105520"/>
            <a:ext cx="21020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urier New"/>
              </a:rPr>
              <a:t>chee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5029200" y="4059360"/>
            <a:ext cx="9907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urier New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0" name=""/>
          <p:cNvCxnSpPr>
            <a:stCxn id="144" idx="2"/>
            <a:endCxn id="146" idx="0"/>
          </p:cNvCxnSpPr>
          <p:nvPr/>
        </p:nvCxnSpPr>
        <p:spPr>
          <a:xfrm flipH="1">
            <a:off x="1561680" y="1861920"/>
            <a:ext cx="2782080" cy="881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1" name=""/>
          <p:cNvCxnSpPr>
            <a:stCxn id="147" idx="0"/>
            <a:endCxn id="144" idx="2"/>
          </p:cNvCxnSpPr>
          <p:nvPr/>
        </p:nvCxnSpPr>
        <p:spPr>
          <a:xfrm flipV="1">
            <a:off x="3585960" y="1861560"/>
            <a:ext cx="757800" cy="957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2" name=""/>
          <p:cNvCxnSpPr>
            <a:stCxn id="145" idx="0"/>
            <a:endCxn id="144" idx="2"/>
          </p:cNvCxnSpPr>
          <p:nvPr/>
        </p:nvCxnSpPr>
        <p:spPr>
          <a:xfrm flipH="1" flipV="1">
            <a:off x="4342680" y="1861560"/>
            <a:ext cx="2183400" cy="897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3" name=""/>
          <p:cNvCxnSpPr>
            <a:stCxn id="154" idx="2"/>
            <a:endCxn id="148" idx="0"/>
          </p:cNvCxnSpPr>
          <p:nvPr/>
        </p:nvCxnSpPr>
        <p:spPr>
          <a:xfrm>
            <a:off x="7603920" y="4510080"/>
            <a:ext cx="1080" cy="596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46" idx="2"/>
            <a:endCxn id="142" idx="0"/>
          </p:cNvCxnSpPr>
          <p:nvPr/>
        </p:nvCxnSpPr>
        <p:spPr>
          <a:xfrm flipH="1">
            <a:off x="1560240" y="3269880"/>
            <a:ext cx="2160" cy="749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6" name=""/>
          <p:cNvCxnSpPr>
            <a:stCxn id="157" idx="2"/>
            <a:endCxn id="141" idx="0"/>
          </p:cNvCxnSpPr>
          <p:nvPr/>
        </p:nvCxnSpPr>
        <p:spPr>
          <a:xfrm>
            <a:off x="3585960" y="4527360"/>
            <a:ext cx="1080" cy="578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8" name=""/>
          <p:cNvCxnSpPr>
            <a:stCxn id="145" idx="2"/>
            <a:endCxn id="149" idx="0"/>
          </p:cNvCxnSpPr>
          <p:nvPr/>
        </p:nvCxnSpPr>
        <p:spPr>
          <a:xfrm flipH="1">
            <a:off x="5524200" y="3252960"/>
            <a:ext cx="1002240" cy="807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45" idx="2"/>
            <a:endCxn id="154" idx="0"/>
          </p:cNvCxnSpPr>
          <p:nvPr/>
        </p:nvCxnSpPr>
        <p:spPr>
          <a:xfrm>
            <a:off x="6525720" y="3252600"/>
            <a:ext cx="1078560" cy="764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7" name=""/>
          <p:cNvSpPr/>
          <p:nvPr/>
        </p:nvSpPr>
        <p:spPr>
          <a:xfrm>
            <a:off x="3090960" y="4000680"/>
            <a:ext cx="99036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0" name=""/>
          <p:cNvCxnSpPr/>
          <p:nvPr/>
        </p:nvCxnSpPr>
        <p:spPr>
          <a:xfrm>
            <a:off x="4258800" y="5790960"/>
            <a:ext cx="1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61" name=""/>
          <p:cNvCxnSpPr>
            <a:stCxn id="147" idx="2"/>
            <a:endCxn id="157" idx="0"/>
          </p:cNvCxnSpPr>
          <p:nvPr/>
        </p:nvCxnSpPr>
        <p:spPr>
          <a:xfrm>
            <a:off x="3585960" y="3241800"/>
            <a:ext cx="1080" cy="759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62" name=""/>
          <p:cNvCxnSpPr/>
          <p:nvPr/>
        </p:nvCxnSpPr>
        <p:spPr>
          <a:xfrm>
            <a:off x="8145000" y="3428640"/>
            <a:ext cx="1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7147080" y="4016520"/>
            <a:ext cx="914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9606-D4B8-476F-A5BC-499772CBF4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2133720" y="1066680"/>
            <a:ext cx="4383000" cy="5105520"/>
            <a:chOff x="2133720" y="1066680"/>
            <a:chExt cx="4383000" cy="510552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2133720" y="1066680"/>
              <a:ext cx="4383000" cy="51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 txBox="1"/>
            <p:nvPr/>
          </p:nvSpPr>
          <p:spPr>
            <a:xfrm>
              <a:off x="2133720" y="1066680"/>
              <a:ext cx="4383000" cy="5105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Top down parsiranje - ide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3852-1446-4712-90C9-06B4A05358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Bottom up p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arsiranje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 - ide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6500520" cy="316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5E7D-8026-4856-BD67-A3EB23F11F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Bottom up p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arsiranje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 - ide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7524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f  x == y then z = 1; else z = 2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6934320" cy="248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3C16-139A-41E7-904A-25C464C021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2514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: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057040" y="1828440"/>
            <a:ext cx="5257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Top-down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Bottom up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2 * 3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nt * 3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 * T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 * 3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nt * T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 * In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2 * T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 * F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2 * F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 * 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2 * Int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2 * 3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228600"/>
            <a:ext cx="281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 + E | 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 * T | 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5410080" y="4572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lazni niz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*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ED90-ECD3-470C-A2D0-284B6BBFEE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Top-down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ako se koriste sa malim gramatikama i za ad hoc parser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arser posmatra 1 token unaprijed, ne čitav string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Kako izabrati produkciju na osnovu 1 tokena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a primjer: B -&gt; b  |  bB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blem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: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jednički prefiks!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57DC-3254-42EA-93BE-A70987F1C5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Gramatike - podsje</a:t>
            </a:r>
            <a:r>
              <a:rPr b="0" lang="hr-HR" sz="4000" spc="-1" strike="noStrike">
                <a:solidFill>
                  <a:srgbClr val="000099"/>
                </a:solidFill>
                <a:latin typeface="Tahoma"/>
              </a:rPr>
              <a:t>ćanj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SG kao vodič za izgradnju parser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otrebno je modifikovati gramatike da bi se moga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primijeniti odgovarajući algoritam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etpostavimo da imamo gramatiku G za dati jezik 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a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o konstruišemo parser za dati jezik na osnovu gramatike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7A48-27A8-4A88-B0CC-DFC4E74CFC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Mogući pristup: backtracking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imjena pravila, provjeriti da li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pravilo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lazi, ako se zaglavimo, vraćam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o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se nazad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ože se primijeniti više pravila do zaglavljivanj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oguć je veliki  broj povrataka i višestruko primjenjivanje pravil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2030-9B0B-4424-AF33-60BB1CADA7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Backtracking primj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99"/>
                </a:solidFill>
                <a:uFillTx/>
                <a:latin typeface="Tahoma"/>
              </a:rPr>
              <a:t>Sent. form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 u="sng">
                <a:solidFill>
                  <a:srgbClr val="000099"/>
                </a:solidFill>
                <a:uFillTx/>
                <a:latin typeface="Tahoma"/>
              </a:rPr>
              <a:t>Ulaz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600" spc="-1" strike="noStrike" u="sng">
                <a:solidFill>
                  <a:srgbClr val="000099"/>
                </a:solidFill>
                <a:uFillTx/>
                <a:latin typeface="Tahoma"/>
              </a:rPr>
              <a:t>Derivacija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S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 * 5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okušaj p + Int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 + Int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 * 5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oklapanje p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+ Int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* 5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oops, “+”  </a:t>
            </a:r>
            <a:r>
              <a:rPr b="1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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“*”, povratak,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okušaj sledeće pravilo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S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 * 5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okušaj p * Int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 * Int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 * 5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oklapanje p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* Int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* 5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oklapanje *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Int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5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okušaj Int -&gt; 5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5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5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uspjeh!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6629400" y="152280"/>
            <a:ext cx="2362320" cy="1752840"/>
          </a:xfrm>
          <a:prstGeom prst="rect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matik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-&gt; p + I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-&gt; p * 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-&gt; 5 | 6 |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77EE-8F90-4DF6-9F00-EC2C5506D4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Osobine backtracking-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ednosti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že se primijeniti na svaku KSG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ventualno daje poklapanj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edostaci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Kombinatorna eksplozija (Combinatorial explosion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očni efekti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dodati simboli u tabelu simbola</a:t>
            </a:r>
            <a:endParaRPr b="0" lang="en-US" sz="2400" spc="-1" strike="noStrike">
              <a:solidFill>
                <a:srgbClr val="cc00c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mora se uraditi </a:t>
            </a:r>
            <a:r>
              <a:rPr b="1" lang="en-US" sz="2400" spc="-1" strike="noStrike">
                <a:solidFill>
                  <a:srgbClr val="cc00cc"/>
                </a:solidFill>
                <a:latin typeface="Tahoma"/>
              </a:rPr>
              <a:t>undo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 bočnih efekata</a:t>
            </a:r>
            <a:endParaRPr b="0" lang="en-US" sz="24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3895-6088-4BD0-B1AD-E68453E309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Top-down bez backtracking-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05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retanje naprijed, bez backtracking-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ramatika mora poštovati određena pravil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avilo se bira na osnovu sledećeg token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ije potreban backtracking ak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o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je G LL(1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: skeniranje ulaza slijeva udesno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: lijeva derivacij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1: posmatra se 1 ulazni token (lookahead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0290-864C-41CC-BC14-00AA22E276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Osobine LL(1) gramatik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blem zajedničkog prefiksa: lijevo faktorisanj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LL(1) parser bira pravilo na osnovu sledećeg token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blem lijeve rekurzij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sna rekurzija je OK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evesti G u LL(1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liminisati nejasnoć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Ovo  nije dovoljno; G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dalje ne mora biti LL(1). Formalna definici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 biće data kasnije, ovo koristite kao intuiciju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C6DA-8C49-48C9-91C6-71717AB6881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Implementacija top-down parser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8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ata je LL(1) gramatik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Rekurzivni spust (Recursive descent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able-driven prediktivni parser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(Kao rekurzivni spust, ali može se implementirati u nerekurzivnim jezicima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AF27-90C3-4F25-9D54-B29FCBBD3C8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arsiranje rekurzivnim spustom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arsiranje  sentence primjenom pravila na startni simbol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Za svaki neterminalni simbol W, piše se f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unkc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ja za W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ko pravilo odgovara, vr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i true i pređi na sledeći ulazni simbo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ko ne odgovara, vr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i false i vrati ulazni pokazivač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ko je G rekurzivna, f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unkcij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 mogu biti rekurzivn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0D88-1B61-40FD-97E4-57A37D77F45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1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2976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–&gt; FUNC identifier ( parameter_list ) statement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void ParseFunction() {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Assert(lookahead == T_FUNC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lookahead = GetSym(); // saw “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UNC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”; get next token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arseIdentifier(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Assert(lookahead == T_LPAREN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lookahead = GetSym();  // saw “(“, get next token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arseParameterList();  // go parse list of parm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Assert(lookahead == T_RPAREN) 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lookahead = GetSym(); // saw “)“, get next token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arseStatements(); // go parse body of function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rimjedba: Call stack evidentira trenutnu poziciju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02C7-5FEF-400A-99BE-C16A78C89EB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Izbor pravil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Primjer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mt -&gt; if_stmt | null_stmt | return_stmt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 assg_stmt | while_stm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 block_of_stm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Može se vidjeti samo sledeći token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Koja desna strana može izvesti odgovarajuću sentencu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Ne želimo backtracking!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Rješenje problema: </a:t>
            </a:r>
            <a:r>
              <a:rPr b="0" i="1" lang="en-US" sz="3000" spc="-1" strike="noStrike">
                <a:solidFill>
                  <a:srgbClr val="000099"/>
                </a:solidFill>
                <a:latin typeface="Tahoma"/>
              </a:rPr>
              <a:t>First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skupovi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1E92-210A-4E01-A9CE-C36886187DD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First skup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lično z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jedničkim prefiksima, samo uz tranzitivno zatvorenj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imjer: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X -&gt; YZW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|     VQR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irst (YZW) sadrži sve tokene kojim mogu počinjati sentence izvedene iz YZW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ko token t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irst(YZW) tada ako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želimo da reduciramo X po nekom pravilu </a:t>
            </a:r>
            <a:r>
              <a:rPr b="0" lang="sr-Latn-CS" sz="2600" spc="-1" strike="noStrike">
                <a:solidFill>
                  <a:srgbClr val="3333cc"/>
                </a:solidFill>
                <a:latin typeface="Tahoma"/>
              </a:rPr>
              <a:t>i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t je tekući ulazni simbol, tada je X -&gt; YZW moguće pravilo koje možemo primjeniti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ko token t ne pripada First(VQR)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, tada je   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X -&gt; YZW jedino pravilo koje možemo primjeniti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F56D-30C2-410A-9075-A86F55F054A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Transformacija gramatik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788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klanjanje nejasno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ć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Uklanjanje zajedničkih prefiksa (lijevo faktorisanje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Eleminisanje lijeve rekurzije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04AB-00F4-411D-902E-24C70A2387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First skup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145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irst skup niza simbola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, u oznaci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irst(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je skup terminalnih simbola kojim može početi niz sentenci koje se mogu izvesti iz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ormalno, razmatramo sve stringove koje možemo izvesti iz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ko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=&gt;*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, gdje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očinje terminalnim simbolom t, tada t pripada skupu First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). 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ko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=&gt;*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, tad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ipada skupu First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E541-0C5B-4827-96EE-80F265BC557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Upotreba First skupov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G ima produkcije X -&gt;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1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|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2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|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3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| ... |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n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Tekući ulazni  token je t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K</a:t>
            </a:r>
            <a:r>
              <a:rPr b="0" lang="sr-Latn-CS" sz="2600" spc="-1" strike="noStrike">
                <a:solidFill>
                  <a:srgbClr val="3333cc"/>
                </a:solidFill>
                <a:latin typeface="Tahoma"/>
              </a:rPr>
              <a:t>o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je od pravila X -&gt;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i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izabarati?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Ako je t u tačno jednom od skupova</a:t>
            </a:r>
            <a:r>
              <a:rPr b="0" lang="sr-Latn-CS" sz="2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First (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i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), možemo predvidjeti (predict)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Ako je t u First(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j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) i First(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k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), nije moguće predvidjeti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Za izgradnju prediktivnog parsera nad G: 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Za svaki neterminalni simbol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v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i sva pravila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v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-&gt;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1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|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2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| ... </a:t>
            </a:r>
            <a:r>
              <a:rPr b="0" lang="sr-Latn-C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n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, skupovi First(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i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) moraju biti disjunktni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04F6-D0F7-483F-8946-9FABB2F71A2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First skupovi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Nulabilni (nullable) neterminalni simboli. 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-&gt; ABC | DEF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-&gt; </a:t>
            </a:r>
            <a:r>
              <a:rPr b="1" lang="en-US" sz="3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Tekući simbol t 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Nije dovoljno 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n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aći  First(A) and First(D)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ko A zamijenimo sa </a:t>
            </a:r>
            <a:r>
              <a:rPr b="1" lang="en-US" sz="3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, šta ako B može izvesti string koji počinje sa t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Rješenje: Follow skupovi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ollow(A) uključuje sve tokene koji se mogu pojaviti neposredno iza A u nekoj sentencijalnoj formi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Izračunavanje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m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 First i Follow skupova, može 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s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e izgraditi parser sa rekurzivnim spustom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930A-5258-41FA-8048-010C3663EC6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Izračunavanje First skup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Eliminacija nejasnoća, lijeve rekurzije, zajedničkih prefiksa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ahoma"/>
              </a:rPr>
              <a:t>First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skup za svaki neterminalni simbol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sa lijeve strane pravila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0" lang="sr-Latn-CS" sz="24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X2 ... Xn, je: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1.  Ako je X1 terminalni simbol, dodaj X1 skupu First(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). Kraj!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2. Ako je  X1 neterminalni simbol, dodaj (First(X1) - 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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skupu First(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914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.  Ako je X1 nulabilan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1 =&gt;* </a:t>
            </a:r>
            <a:r>
              <a:rPr b="1" lang="en-US" sz="3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1" lang="sr-Latn-CS" sz="3000" spc="-1" strike="noStrike">
                <a:solidFill>
                  <a:srgbClr val="3333cc"/>
                </a:solidFill>
                <a:latin typeface="Symbol"/>
                <a:ea typeface="Symbol"/>
              </a:rPr>
              <a:t>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, dodaj (First(X2) –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) skupu Firs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14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ko X2 =&gt;* </a:t>
            </a:r>
            <a:r>
              <a:rPr b="1" lang="en-US" sz="3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dodaj (First(X3)–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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, itd.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 do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Xn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dok ne n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đemo na prvi nenulabilni net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min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al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 simbol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14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. Ako X1 X2... Xn =&gt;* </a:t>
            </a:r>
            <a:r>
              <a:rPr b="1" lang="en-US" sz="3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, dodaj </a:t>
            </a:r>
            <a:r>
              <a:rPr b="1" lang="en-US" sz="3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skupu First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6DE9-1FAB-4CCF-B93B-2696908567D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Izračunavanje Follow skup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Za svaki  neterminal A gramatike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1.  Dodati EOF u Follow(S),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gdje je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 startni simbol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gramatike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, EOF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je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$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2. Za svako pravilo A –&gt;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v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, gdje su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i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v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stringovi simbola gramatike i B je neterminalni simbol, dodaj sve elemente skupa First(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v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 (osim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 skupu Follow(B)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3. Za svako pravilo A –&gt;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, ili pravilo A –&gt;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v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gdje First(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v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 sadrži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(t.j.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v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je nulabilan), dodati sve elemente skupa Follow(A) skupu Follow(B)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6D52-95AD-41B2-B394-91D77D0454F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Recursive-descent parser: kod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void ParseA() {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witch (lookahead) {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ase First(u1):         /* code to recognize u1 */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return;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ase First(u2):        /* code to recognize u2 */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return;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ase Follow(A):  // predict production A-&gt;</a:t>
            </a:r>
            <a:r>
              <a:rPr b="0" lang="en-US" sz="3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if A nullable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    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/* usually do nothing here */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efault: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    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rintf("syntax error \n");   /* no rule matches */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xit(0);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}}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0A59-F2BD-441F-BBA0-183044FA34A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Recursive-descent primj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Gramatika za IF naredbu u nekom PJ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if_stmt –&gt; IF expr THEN stmt ENDIF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| IF expr THEN stmt ELSE stmt ENDIF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Lijeva faktorizacija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if_stmt –&gt; IF expr THEN stmt close_if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close_if –&gt; ENDIF | ELSE stmt ENDIF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G Times"/>
              </a:rPr>
              <a:t>Parsirati “IF true THEN temp++ ENDIF”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A1FA-92C8-417E-A91E-2257180E413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Recursive-descent primjer kod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G Times"/>
              </a:rPr>
              <a:t>void ParseIfStmt() {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MatchToken(T_IF);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ParseExpr ();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MatchToken(T_THEN);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ParseStmt();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ParseCloseIf(); }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5407-B805-4720-9200-9E7EE4756C5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533520"/>
            <a:ext cx="80773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G Times"/>
              </a:rPr>
              <a:t>void ParseCloseIf() {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if (lookahead == T_ENDIF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	</a:t>
            </a: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lookahead = GetSym();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else {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   </a:t>
            </a: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MatchToken(T_ELSE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	</a:t>
            </a: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ParseStmt();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   </a:t>
            </a: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	</a:t>
            </a: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MatchToken(T_ENDIF);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	</a:t>
            </a: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}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56CD-E65C-4F3F-8BED-E7A7B563C19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Primjer rekurzivnog spust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G Times"/>
              </a:rPr>
              <a:t>Ulazni niz: </a:t>
            </a:r>
            <a:r>
              <a:rPr b="0" lang="en-US" sz="3200" spc="-1" strike="noStrike">
                <a:solidFill>
                  <a:srgbClr val="000099"/>
                </a:solidFill>
                <a:latin typeface="CG Times"/>
              </a:rPr>
              <a:t>IF true THEN temp++ ENDIF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G Times"/>
              </a:rPr>
              <a:t>Pr</a:t>
            </a:r>
            <a:r>
              <a:rPr b="0" lang="hr-HR" sz="3200" spc="-1" strike="noStrike">
                <a:solidFill>
                  <a:srgbClr val="000099"/>
                </a:solidFill>
                <a:latin typeface="CG Times"/>
              </a:rPr>
              <a:t>oć</a:t>
            </a:r>
            <a:r>
              <a:rPr b="0" lang="sr-Latn-CS" sz="3200" spc="-1" strike="noStrike">
                <a:solidFill>
                  <a:srgbClr val="000099"/>
                </a:solidFill>
                <a:latin typeface="CG Times"/>
              </a:rPr>
              <a:t>i kroz kod primjera sa prethodnog slajda (dodati prikaz call-steka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2355-2133-4EEE-9094-E00F231B99B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Nejasne gramatik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99"/>
                </a:solidFill>
                <a:latin typeface="Tahoma"/>
              </a:rPr>
              <a:t>Dvosmislenost - nejasnoća (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Ambiguity</a:t>
            </a:r>
            <a:r>
              <a:rPr b="0" i="1" lang="sr-Latn-CS" sz="28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: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za jednu rečenicu više od jednog stabla parsiranj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Vidi primjer na sljedećem slajdu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C5DA-7A58-40B5-999F-7D1F56BBCF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1066680"/>
            <a:ext cx="7848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ramatika G (sa BNF pro</a:t>
            </a:r>
            <a:r>
              <a:rPr b="0" lang="hr-HR" sz="3200" spc="-1" strike="noStrike">
                <a:solidFill>
                  <a:srgbClr val="000099"/>
                </a:solidFill>
                <a:latin typeface="Tahoma"/>
              </a:rPr>
              <a:t>š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renom notacijo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 = { N , T , S , P 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eterminalni simboli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 = { A , B , C , D 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Terminalni simbol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 = { "(" , ")" , "+" , "a" , "[" , "]" , "." 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tartni simbol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 = 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16C6-4C1F-4A46-8137-B2F10AD4449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 (nastavak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Pravila (produkcije) gramatike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B "."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[ "a" | "(" C ")" | "[" B "]" ]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B D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{ "+" B 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4D86-54D1-4879-9085-244B4F8B996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1143000" y="1371600"/>
            <a:ext cx="7391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B "."  (1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"a" (2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"(" C ")" (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"[" B "]" (4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</a:t>
            </a:r>
            <a:r>
              <a:rPr b="0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</a:t>
            </a:r>
            <a:r>
              <a:rPr b="1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</a:t>
            </a:r>
            <a:r>
              <a:rPr b="0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B D (6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"+" B D (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 </a:t>
            </a:r>
            <a:r>
              <a:rPr b="0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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9045-D6E1-43B2-8DDB-4F5B7ED183E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1447920"/>
            <a:ext cx="7848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RST(A) = { "a" , "(" , "["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"."</a:t>
            </a:r>
            <a:r>
              <a:rPr b="1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RST(B) = { "a" , "(" , "["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1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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RST(D) = { "+" , </a:t>
            </a:r>
            <a:r>
              <a:rPr b="1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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RST(C) = FIRST(B) U FIRST(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LLOW(D) = FOLLOW(C) = { ")" 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LLOW(B) = { "." , "]" , "+" } U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          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{ ")" } = { "." , "]" , "+" , ")" 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LLOW(A) = {$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FBE3-9E7B-4AC1-B37F-D708F35E44A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752480"/>
            <a:ext cx="815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#include &lt;stdio.h&gt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#include &lt;stdlib.h&gt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r sym; // Source toke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id getsym(void) {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 = getchar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734B-D24C-489C-A1D9-DE3642639BE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1447920"/>
            <a:ext cx="7772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id accept(char expectedterminal, char *errormessage) {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(sym != expectedterminal) {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s(errormessage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t(1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sym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7856-805D-4888-85C8-5E6402B0764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371600"/>
            <a:ext cx="792468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id A(void) {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('.', " Error ­ '.' expected"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id C(void) {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E42E-30EA-4FE6-90E9-068A5F9A7F5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990720"/>
            <a:ext cx="8534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id B(void){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itch (sym) {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'a'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sym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eak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'('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sym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(')', " Error ­ ')' expected");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eak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2FA6-C6BD-44C5-A7E1-5E235034ED0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1219320"/>
            <a:ext cx="8686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'['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sym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(']', " Error ­ ']' expected");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eak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')'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']'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'+'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'.'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eak; //no action for followers of 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602E-224E-4E55-AC08-28CAE663B5A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1295280"/>
            <a:ext cx="8076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aul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tf("Unknown symbol\n");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t(1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F3F6-CE7B-4870-A4A5-EEA48015570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Nejasne gramatik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14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–&gt;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E op E | ( E ) | i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op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–&gt;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+ | - | * | /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nput: 10 –2 * 5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62120" y="2666880"/>
            <a:ext cx="3352320" cy="2971440"/>
            <a:chOff x="762120" y="2666880"/>
            <a:chExt cx="3352320" cy="2971440"/>
          </a:xfrm>
        </p:grpSpPr>
        <p:sp>
          <p:nvSpPr>
            <p:cNvPr id="60" name=""/>
            <p:cNvSpPr/>
            <p:nvPr/>
          </p:nvSpPr>
          <p:spPr>
            <a:xfrm>
              <a:off x="1563840" y="4636800"/>
              <a:ext cx="4370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ff"/>
                  </a:solidFill>
                  <a:latin typeface="Courier New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2120" y="3886920"/>
              <a:ext cx="34776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71680" y="3886920"/>
              <a:ext cx="3502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84080" y="2666880"/>
              <a:ext cx="34884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73120" y="4609800"/>
              <a:ext cx="35064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06320" y="3886920"/>
              <a:ext cx="35064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21320" y="3323520"/>
              <a:ext cx="348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08120" y="3323520"/>
              <a:ext cx="348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19960" y="3389040"/>
              <a:ext cx="350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7400" y="3914640"/>
              <a:ext cx="43704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28840" y="5293800"/>
              <a:ext cx="43704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Courier New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71" name=""/>
            <p:cNvCxnSpPr>
              <a:stCxn id="63" idx="2"/>
              <a:endCxn id="67" idx="0"/>
            </p:cNvCxnSpPr>
            <p:nvPr/>
          </p:nvCxnSpPr>
          <p:spPr>
            <a:xfrm flipH="1">
              <a:off x="1781640" y="3000240"/>
              <a:ext cx="976680" cy="323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"/>
            <p:cNvCxnSpPr>
              <a:stCxn id="68" idx="0"/>
              <a:endCxn id="63" idx="2"/>
            </p:cNvCxnSpPr>
            <p:nvPr/>
          </p:nvCxnSpPr>
          <p:spPr>
            <a:xfrm flipH="1" flipV="1">
              <a:off x="2758320" y="2999880"/>
              <a:ext cx="337680" cy="389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"/>
            <p:cNvCxnSpPr>
              <a:stCxn id="66" idx="0"/>
              <a:endCxn id="63" idx="2"/>
            </p:cNvCxnSpPr>
            <p:nvPr/>
          </p:nvCxnSpPr>
          <p:spPr>
            <a:xfrm flipH="1" flipV="1">
              <a:off x="2758320" y="2999880"/>
              <a:ext cx="1137600" cy="323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"/>
            <p:cNvCxnSpPr>
              <a:stCxn id="67" idx="2"/>
              <a:endCxn id="62" idx="0"/>
            </p:cNvCxnSpPr>
            <p:nvPr/>
          </p:nvCxnSpPr>
          <p:spPr>
            <a:xfrm>
              <a:off x="1782000" y="3659760"/>
              <a:ext cx="765720" cy="227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"/>
            <p:cNvCxnSpPr>
              <a:stCxn id="67" idx="2"/>
              <a:endCxn id="65" idx="0"/>
            </p:cNvCxnSpPr>
            <p:nvPr/>
          </p:nvCxnSpPr>
          <p:spPr>
            <a:xfrm>
              <a:off x="1782000" y="3659760"/>
              <a:ext cx="1080" cy="227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"/>
            <p:cNvCxnSpPr>
              <a:stCxn id="67" idx="2"/>
              <a:endCxn id="61" idx="0"/>
            </p:cNvCxnSpPr>
            <p:nvPr/>
          </p:nvCxnSpPr>
          <p:spPr>
            <a:xfrm flipH="1">
              <a:off x="936000" y="3659760"/>
              <a:ext cx="846720" cy="227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"/>
            <p:cNvCxnSpPr>
              <a:stCxn id="65" idx="2"/>
              <a:endCxn id="60" idx="0"/>
            </p:cNvCxnSpPr>
            <p:nvPr/>
          </p:nvCxnSpPr>
          <p:spPr>
            <a:xfrm>
              <a:off x="1782000" y="4220640"/>
              <a:ext cx="108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"/>
            <p:cNvCxnSpPr>
              <a:stCxn id="64" idx="2"/>
              <a:endCxn id="70" idx="0"/>
            </p:cNvCxnSpPr>
            <p:nvPr/>
          </p:nvCxnSpPr>
          <p:spPr>
            <a:xfrm flipH="1">
              <a:off x="2547360" y="4943160"/>
              <a:ext cx="2160" cy="351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"/>
            <p:cNvCxnSpPr>
              <a:stCxn id="66" idx="2"/>
              <a:endCxn id="69" idx="0"/>
            </p:cNvCxnSpPr>
            <p:nvPr/>
          </p:nvCxnSpPr>
          <p:spPr>
            <a:xfrm>
              <a:off x="3895560" y="3659400"/>
              <a:ext cx="1080" cy="255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0" name=""/>
            <p:cNvSpPr/>
            <p:nvPr/>
          </p:nvSpPr>
          <p:spPr>
            <a:xfrm>
              <a:off x="3677400" y="4636800"/>
              <a:ext cx="4370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Courier New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81" name=""/>
            <p:cNvCxnSpPr>
              <a:stCxn id="69" idx="2"/>
              <a:endCxn id="80" idx="0"/>
            </p:cNvCxnSpPr>
            <p:nvPr/>
          </p:nvCxnSpPr>
          <p:spPr>
            <a:xfrm>
              <a:off x="3895560" y="4193280"/>
              <a:ext cx="1080" cy="443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2" name=""/>
            <p:cNvSpPr/>
            <p:nvPr/>
          </p:nvSpPr>
          <p:spPr>
            <a:xfrm>
              <a:off x="2875680" y="3914640"/>
              <a:ext cx="43704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ff"/>
                  </a:solidFill>
                  <a:latin typeface="Courier New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83" name=""/>
            <p:cNvCxnSpPr>
              <a:stCxn id="68" idx="2"/>
              <a:endCxn id="82" idx="0"/>
            </p:cNvCxnSpPr>
            <p:nvPr/>
          </p:nvCxnSpPr>
          <p:spPr>
            <a:xfrm flipH="1">
              <a:off x="3093840" y="3725640"/>
              <a:ext cx="1800" cy="189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"/>
            <p:cNvCxnSpPr>
              <a:stCxn id="62" idx="2"/>
              <a:endCxn id="64" idx="0"/>
            </p:cNvCxnSpPr>
            <p:nvPr/>
          </p:nvCxnSpPr>
          <p:spPr>
            <a:xfrm>
              <a:off x="2547720" y="4220640"/>
              <a:ext cx="2160" cy="389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5" name=""/>
            <p:cNvSpPr/>
            <p:nvPr/>
          </p:nvSpPr>
          <p:spPr>
            <a:xfrm>
              <a:off x="762120" y="4609800"/>
              <a:ext cx="35064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99160" y="5359320"/>
              <a:ext cx="4370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Courier New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87" name=""/>
            <p:cNvCxnSpPr>
              <a:stCxn id="85" idx="2"/>
              <a:endCxn id="86" idx="0"/>
            </p:cNvCxnSpPr>
            <p:nvPr/>
          </p:nvCxnSpPr>
          <p:spPr>
            <a:xfrm>
              <a:off x="938160" y="4943520"/>
              <a:ext cx="480240" cy="416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" name=""/>
            <p:cNvCxnSpPr>
              <a:stCxn id="61" idx="2"/>
              <a:endCxn id="85" idx="0"/>
            </p:cNvCxnSpPr>
            <p:nvPr/>
          </p:nvCxnSpPr>
          <p:spPr>
            <a:xfrm>
              <a:off x="936360" y="4220640"/>
              <a:ext cx="2160" cy="389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89" name=""/>
          <p:cNvGrpSpPr/>
          <p:nvPr/>
        </p:nvGrpSpPr>
        <p:grpSpPr>
          <a:xfrm>
            <a:off x="5105520" y="2666880"/>
            <a:ext cx="3352320" cy="3048120"/>
            <a:chOff x="5105520" y="2666880"/>
            <a:chExt cx="3352320" cy="3048120"/>
          </a:xfrm>
        </p:grpSpPr>
        <p:sp>
          <p:nvSpPr>
            <p:cNvPr id="90" name=""/>
            <p:cNvSpPr/>
            <p:nvPr/>
          </p:nvSpPr>
          <p:spPr>
            <a:xfrm>
              <a:off x="6734520" y="2666880"/>
              <a:ext cx="30024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32360" y="3488040"/>
              <a:ext cx="30168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92" name=""/>
            <p:cNvCxnSpPr>
              <a:stCxn id="90" idx="2"/>
              <a:endCxn id="93" idx="0"/>
            </p:cNvCxnSpPr>
            <p:nvPr/>
          </p:nvCxnSpPr>
          <p:spPr>
            <a:xfrm flipH="1">
              <a:off x="5293080" y="2987640"/>
              <a:ext cx="1591920" cy="500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"/>
            <p:cNvCxnSpPr>
              <a:stCxn id="91" idx="0"/>
              <a:endCxn id="90" idx="2"/>
            </p:cNvCxnSpPr>
            <p:nvPr/>
          </p:nvCxnSpPr>
          <p:spPr>
            <a:xfrm flipV="1">
              <a:off x="5983560" y="2987280"/>
              <a:ext cx="901080" cy="500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"/>
            <p:cNvCxnSpPr>
              <a:endCxn id="90" idx="2"/>
            </p:cNvCxnSpPr>
            <p:nvPr/>
          </p:nvCxnSpPr>
          <p:spPr>
            <a:xfrm flipH="1" flipV="1">
              <a:off x="6883920" y="2987280"/>
              <a:ext cx="627480" cy="374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6" name=""/>
            <p:cNvSpPr/>
            <p:nvPr/>
          </p:nvSpPr>
          <p:spPr>
            <a:xfrm>
              <a:off x="5794560" y="4056480"/>
              <a:ext cx="3758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ff"/>
                  </a:solidFill>
                  <a:latin typeface="Courier New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97" name=""/>
            <p:cNvCxnSpPr>
              <a:stCxn id="91" idx="2"/>
              <a:endCxn id="96" idx="0"/>
            </p:cNvCxnSpPr>
            <p:nvPr/>
          </p:nvCxnSpPr>
          <p:spPr>
            <a:xfrm flipH="1">
              <a:off x="5982120" y="3811680"/>
              <a:ext cx="2160" cy="245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8" name=""/>
            <p:cNvSpPr/>
            <p:nvPr/>
          </p:nvSpPr>
          <p:spPr>
            <a:xfrm>
              <a:off x="5105520" y="4751280"/>
              <a:ext cx="3758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Courier New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99" name=""/>
            <p:cNvCxnSpPr>
              <a:stCxn id="98" idx="0"/>
              <a:endCxn id="100" idx="2"/>
            </p:cNvCxnSpPr>
            <p:nvPr/>
          </p:nvCxnSpPr>
          <p:spPr>
            <a:xfrm flipV="1">
              <a:off x="5293080" y="4324680"/>
              <a:ext cx="1080" cy="426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3" name=""/>
            <p:cNvSpPr/>
            <p:nvPr/>
          </p:nvSpPr>
          <p:spPr>
            <a:xfrm>
              <a:off x="5143320" y="3488040"/>
              <a:ext cx="29988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05520" y="4056480"/>
              <a:ext cx="3758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01" name=""/>
            <p:cNvCxnSpPr>
              <a:stCxn id="93" idx="2"/>
              <a:endCxn id="100" idx="0"/>
            </p:cNvCxnSpPr>
            <p:nvPr/>
          </p:nvCxnSpPr>
          <p:spPr>
            <a:xfrm>
              <a:off x="5293080" y="3811680"/>
              <a:ext cx="1080" cy="245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2" name=""/>
            <p:cNvSpPr/>
            <p:nvPr/>
          </p:nvSpPr>
          <p:spPr>
            <a:xfrm>
              <a:off x="7361280" y="4751280"/>
              <a:ext cx="3758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ff"/>
                  </a:solidFill>
                  <a:latin typeface="Courier New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47400" y="4030200"/>
              <a:ext cx="29880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18720" y="4030200"/>
              <a:ext cx="30132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18720" y="4725360"/>
              <a:ext cx="30132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98000" y="4030200"/>
              <a:ext cx="30168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424280" y="3488040"/>
              <a:ext cx="29988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82000" y="5446440"/>
              <a:ext cx="3758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Courier New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09" name=""/>
            <p:cNvCxnSpPr>
              <a:stCxn id="107" idx="2"/>
              <a:endCxn id="104" idx="0"/>
            </p:cNvCxnSpPr>
            <p:nvPr/>
          </p:nvCxnSpPr>
          <p:spPr>
            <a:xfrm>
              <a:off x="7574400" y="3811680"/>
              <a:ext cx="696240" cy="218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"/>
            <p:cNvCxnSpPr>
              <a:stCxn id="107" idx="2"/>
              <a:endCxn id="106" idx="0"/>
            </p:cNvCxnSpPr>
            <p:nvPr/>
          </p:nvCxnSpPr>
          <p:spPr>
            <a:xfrm flipH="1">
              <a:off x="7548840" y="3811680"/>
              <a:ext cx="25560" cy="218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"/>
            <p:cNvCxnSpPr>
              <a:stCxn id="107" idx="2"/>
              <a:endCxn id="103" idx="0"/>
            </p:cNvCxnSpPr>
            <p:nvPr/>
          </p:nvCxnSpPr>
          <p:spPr>
            <a:xfrm flipH="1">
              <a:off x="6797160" y="3811680"/>
              <a:ext cx="777600" cy="218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"/>
            <p:cNvCxnSpPr>
              <a:stCxn id="105" idx="2"/>
              <a:endCxn id="108" idx="0"/>
            </p:cNvCxnSpPr>
            <p:nvPr/>
          </p:nvCxnSpPr>
          <p:spPr>
            <a:xfrm>
              <a:off x="8269560" y="5046480"/>
              <a:ext cx="1080" cy="400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"/>
            <p:cNvCxnSpPr>
              <a:stCxn id="104" idx="2"/>
              <a:endCxn id="105" idx="0"/>
            </p:cNvCxnSpPr>
            <p:nvPr/>
          </p:nvCxnSpPr>
          <p:spPr>
            <a:xfrm>
              <a:off x="8269560" y="4351320"/>
              <a:ext cx="1080" cy="374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4" name=""/>
            <p:cNvSpPr/>
            <p:nvPr/>
          </p:nvSpPr>
          <p:spPr>
            <a:xfrm>
              <a:off x="6645960" y="4725360"/>
              <a:ext cx="30168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15" name=""/>
            <p:cNvCxnSpPr>
              <a:stCxn id="103" idx="2"/>
              <a:endCxn id="114" idx="0"/>
            </p:cNvCxnSpPr>
            <p:nvPr/>
          </p:nvCxnSpPr>
          <p:spPr>
            <a:xfrm>
              <a:off x="6797160" y="4351320"/>
              <a:ext cx="1080" cy="374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6" name=""/>
            <p:cNvSpPr/>
            <p:nvPr/>
          </p:nvSpPr>
          <p:spPr>
            <a:xfrm>
              <a:off x="6609240" y="5320080"/>
              <a:ext cx="3758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Courier New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17" name=""/>
            <p:cNvCxnSpPr>
              <a:stCxn id="114" idx="2"/>
              <a:endCxn id="116" idx="0"/>
            </p:cNvCxnSpPr>
            <p:nvPr/>
          </p:nvCxnSpPr>
          <p:spPr>
            <a:xfrm>
              <a:off x="6797160" y="5046480"/>
              <a:ext cx="1080" cy="274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"/>
            <p:cNvCxnSpPr>
              <a:stCxn id="106" idx="2"/>
              <a:endCxn id="102" idx="0"/>
            </p:cNvCxnSpPr>
            <p:nvPr/>
          </p:nvCxnSpPr>
          <p:spPr>
            <a:xfrm>
              <a:off x="7549200" y="4350960"/>
              <a:ext cx="1080" cy="400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119" name=""/>
          <p:cNvSpPr/>
          <p:nvPr/>
        </p:nvSpPr>
        <p:spPr>
          <a:xfrm>
            <a:off x="1219320" y="5562720"/>
            <a:ext cx="733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55627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oje je stablo ispravno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AC88-A3C9-4F4B-B4AD-19EA719770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1371600"/>
            <a:ext cx="7925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id D(void) {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le (sym == '+') {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sym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FCB0-5ABC-4577-8FC1-90E11342CE0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1371600"/>
            <a:ext cx="77724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id main() {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 = getchar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tf("Successful\n"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6D17-E803-456C-936C-27C2641D32B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Domaći zadatak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! 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Napisati rekurzivni prediktivni parser za aritmetičke izraze, sa 4 osnovne računske operacije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.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Promjenljive mogu biti samo slova engleske abecede, brojne konstante kao u C-u,</a:t>
            </a: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cc"/>
                </a:solidFill>
                <a:latin typeface="Tahoma"/>
              </a:rPr>
              <a:t>Odrediti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First </a:t>
            </a:r>
            <a:r>
              <a:rPr b="0" lang="sr-Latn-CS" sz="2600" spc="-1" strike="noStrike">
                <a:solidFill>
                  <a:srgbClr val="3333cc"/>
                </a:solidFill>
                <a:latin typeface="Tahoma"/>
              </a:rPr>
              <a:t>i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Follow</a:t>
            </a:r>
            <a:r>
              <a:rPr b="0" lang="sr-Latn-CS" sz="2600" spc="-1" strike="noStrike">
                <a:solidFill>
                  <a:srgbClr val="3333cc"/>
                </a:solidFill>
                <a:latin typeface="Tahoma"/>
              </a:rPr>
              <a:t> skupove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cc"/>
                </a:solidFill>
                <a:latin typeface="Tahoma"/>
              </a:rPr>
              <a:t>Dodati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printf</a:t>
            </a:r>
            <a:r>
              <a:rPr b="0" lang="sr-Latn-CS" sz="2600" spc="-1" strike="noStrike">
                <a:solidFill>
                  <a:srgbClr val="3333cc"/>
                </a:solidFill>
                <a:latin typeface="Tahoma"/>
              </a:rPr>
              <a:t> u kod tako da se štampa koje je pravilo primjenjeno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cc"/>
                </a:solidFill>
                <a:latin typeface="Tahoma"/>
              </a:rPr>
              <a:t>Razmislite kako da obradite eventualne greške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8F8C-E5BD-413E-90B0-2E8DAF998A8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Nerekurzivni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 LL(1) pars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op-down,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kao i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re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r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v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ni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Kod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re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r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v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nog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spusta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n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i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je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obrađuju akciju za neterminal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all stack 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evidentira napredak u parsiranj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Može doći do rekurzivnih poziva, npr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xp -&gt; term -&gt; factor -&gt; ( exp 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Nerekurzivni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(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predi</a:t>
            </a:r>
            <a:r>
              <a:rPr b="0" i="1" lang="sr-Latn-CS" sz="2800" spc="-1" strike="noStrike">
                <a:solidFill>
                  <a:srgbClr val="000099"/>
                </a:solidFill>
                <a:latin typeface="Tahoma"/>
              </a:rPr>
              <a:t>k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tiv</a:t>
            </a:r>
            <a:r>
              <a:rPr b="0" i="1" lang="sr-Latn-CS" sz="2800" spc="-1" strike="noStrike">
                <a:solidFill>
                  <a:srgbClr val="000099"/>
                </a:solidFill>
                <a:latin typeface="Tahoma"/>
              </a:rPr>
              <a:t>ni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 parser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sam čuva informacije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ks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licit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ni zapis na steku za svako pravilo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ks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licit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na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tab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l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čuva informaciju o akcijam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0998-DD5D-4892-90E4-07E789CB2FB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Izgradnja tabele parser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Izgradnja tabele - ogroman rad ali jasno definisan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Za datu gramatiku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, tab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treba da implementira preslikavanje koje par 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&lt;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neterminal na steku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ulazn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s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bol&gt;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 preslikava u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&lt;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pravilo gramatike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Preslikavanje mora biti f-ija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(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t.j. moramo naći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rst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Follow s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kupove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Preslikavanje je f-ija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&lt;==&gt; G 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j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LL(1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0D32-FBE8-4DE8-BED3-7308CA651BC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Formalna definicija LL(1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Bez nejasnoća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bez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l</a:t>
            </a: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ijeve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re</a:t>
            </a: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k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ur</a:t>
            </a: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z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je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G </a:t>
            </a: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je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LL(1) </a:t>
            </a: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ako za svake dvije produkcije     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A –&gt; </a:t>
            </a:r>
            <a:r>
              <a:rPr b="0" lang="en-US" sz="30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| </a:t>
            </a:r>
            <a:r>
              <a:rPr b="0" lang="en-US" sz="3000" spc="-1" strike="noStrike" u="sng">
                <a:solidFill>
                  <a:srgbClr val="000099"/>
                </a:solidFill>
                <a:uFillTx/>
                <a:latin typeface="Tahoma"/>
              </a:rPr>
              <a:t>v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važi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irst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)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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irst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) =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Najviše iz jednog od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može se izvesti prazan string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ako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=&gt;*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tada se iz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ne može izvesti string koji počinje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erminal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om iz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Follow(A)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 (t.j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irst 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Follow 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moraju biti disjunktni ako je A nulabilan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4E26-656B-4F47-850B-C8B8754381D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1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jeLLRap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va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hanced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L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LR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imated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rser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cs.duke.edu/~rodger/tools/jellrap/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apomen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Koristite ! (znak uvika) umjesto epsil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D311-55EE-432E-9974-1F0393A911A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ramtika za aritmeti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čke izraz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 -&gt;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E+T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|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 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-&gt;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T*F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|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 -&gt; (E) |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Eliminišemo lijevu rekurziju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96D7-6CA9-43AC-8284-B2F7B57DDBA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1523880"/>
            <a:ext cx="79250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ramatika za aritmeti</a:t>
            </a:r>
            <a:r>
              <a:rPr b="0" lang="hr-HR" sz="3200" spc="-1" strike="noStrike">
                <a:solidFill>
                  <a:srgbClr val="000099"/>
                </a:solidFill>
                <a:latin typeface="Tahoma"/>
              </a:rPr>
              <a:t>č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e izra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 -&gt; 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 -&gt; +TA |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 -&gt; F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 -&gt; *FB |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 -&gt; (E) |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BF28-A733-4C84-8BD8-D17E8C6F3A2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1066680"/>
            <a:ext cx="777240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FIRST(E) = {</a:t>
            </a:r>
            <a:r>
              <a:rPr b="0" lang="en-US" sz="30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, ( }, FOLLOW(E) = {$,  )}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FIRST(T) = {</a:t>
            </a:r>
            <a:r>
              <a:rPr b="0" lang="en-US" sz="30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, ( }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FOLLOW(T) = {+,  $,  )}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FIRST(F) = {</a:t>
            </a:r>
            <a:r>
              <a:rPr b="0" lang="en-US" sz="30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, ( }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FOLLOW(F) = { *,  $,  ),+}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FIRST(A) = {+, </a:t>
            </a:r>
            <a:r>
              <a:rPr b="0" lang="en-US" sz="30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} , FOLLOW(A) = {$, )}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FIRST(B) = {*, </a:t>
            </a:r>
            <a:r>
              <a:rPr b="0" lang="en-US" sz="30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}, FOLLOW(B) = {+, $ , )}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4EBB-224A-4082-830F-A809B661B6F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90360" y="1066680"/>
            <a:ext cx="7848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Ponekad nije neophodno eliminisati nejasnoće (zavisi od tipa parsera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Prilikom pisanja gramatike treba voditi računa da se eleminišu nejasnoć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–&gt;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E  Add_op  T   |   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Add_op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–&gt;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+  |  -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–&gt;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T  Mult_op  F   |   F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Mult_op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–&gt;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*  |  /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–&gt;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(E)   |   int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Otklanjanje nejasnoć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76360" y="657360"/>
            <a:ext cx="6372000" cy="1839600"/>
            <a:chOff x="576360" y="657360"/>
            <a:chExt cx="6372000" cy="1839600"/>
          </a:xfrm>
        </p:grpSpPr>
        <p:sp>
          <p:nvSpPr>
            <p:cNvPr id="124" name=""/>
            <p:cNvSpPr/>
            <p:nvPr/>
          </p:nvSpPr>
          <p:spPr>
            <a:xfrm>
              <a:off x="576360" y="657360"/>
              <a:ext cx="3094920" cy="182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86680" y="666720"/>
              <a:ext cx="3361680" cy="18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BA5E-6C19-4FF5-B318-3DB9C4924A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Kreiranje tabele parser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77520" y="1066680"/>
            <a:ext cx="8008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Za svaki neterminalni simbol N i  terminalni simbol x iz skupa First(N), u polju table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[x,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] upisujemo odgovar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ju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ću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dukciju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Ako </a:t>
            </a:r>
            <a:r>
              <a:rPr b="0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 pripada skupu First(N), tada za svaki element y iz skupa Follow(N) u polje table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[y,N] upisujemo odgovaraju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ć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 produkciju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0BBA-F335-45BB-B785-571F47D78600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1523880"/>
            <a:ext cx="91440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 +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  (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$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 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E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-&gt;TA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         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      E-&gt;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-&gt;+TA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A-&gt;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A-&gt;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   T-&gt;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   T-&gt;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  B-&gt;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B-&gt;*FB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-&gt;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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-&gt;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F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-&gt;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    F-&gt;(E)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abela nerekurzivnog prediktivnog parse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1523880"/>
            <a:ext cx="0" cy="2743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1523880"/>
            <a:ext cx="0" cy="2743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1523880"/>
            <a:ext cx="0" cy="2743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4724280" y="1523880"/>
            <a:ext cx="0" cy="2743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6095880" y="1523880"/>
            <a:ext cx="0" cy="2743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7238880" y="1600200"/>
            <a:ext cx="0" cy="2743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2057400"/>
            <a:ext cx="88390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2438280"/>
            <a:ext cx="88390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2895480"/>
            <a:ext cx="88390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3276720"/>
            <a:ext cx="88390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733920"/>
            <a:ext cx="88390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ACE2-3AAA-4AFC-9002-3E26B642BDB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1219320"/>
            <a:ext cx="80773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tek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lazni niz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k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d+id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-&gt;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d+id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T-&gt;F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B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d+id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F-&gt;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d+id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+id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B-&gt;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81B3-375D-44F3-A67F-1877C10673C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447920"/>
            <a:ext cx="85345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+id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-&gt;+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+T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+id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id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-&gt;F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B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id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-&gt;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id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  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-&gt;*F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1F97-4888-4D9A-AA63-D1A07C08630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152280" y="1219320"/>
            <a:ext cx="87631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tek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lazni niz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k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*FB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  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B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    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F-&gt;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dB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              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-&gt;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              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-&gt;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       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cce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B1FC-0A07-4884-96D6-5E616B03F8FA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Obrada grešaka pri parsiranju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arsiranje zasnovano na gramatikama je odlično za prepoznavanje ispravnih ulaznih nizova. 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ko je ulazni niz  neispravan, korisnik želi da vidi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Greške po redosljedu pojavljivanj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Lokaciju greške u izvornom kodu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oruke izražene terminima source jezik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pr. “simbol T na steku a token je x” je primjer besmislene poruk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ijavljivanje svih grešaka, ali ne i svih koje proisitiču zbog jedne nepravilnosti (na primjer, ako promjenljiva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nije deklarisana, ne prijavljivati grešku za svaku upotrebu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A91B-4185-474C-B66C-76E6B0A0FF53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Zajednički prefiks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145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Neki parseri koriste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sledeći terminal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(token)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za izbor pravila gramatike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Ako dva pravila imaju isti prefiks, nemoguće je odrediti koje od njih treba primjeniti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X -&gt; aBcD | aB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Lijevo faktorisanje eliminiše zajedničke prefikse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X -&gt; aB End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nd -&gt;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| cD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Pojednostavljuje generisanje parsera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94C6-BADC-4D08-8544-FF6BCA4113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Lijevo faktorisanje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 - primj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S</a:t>
            </a:r>
            <a:r>
              <a:rPr b="0" i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iEtS|iEtSeS|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E</a:t>
            </a:r>
            <a:r>
              <a:rPr b="0" i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b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Ovdje je 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 if, 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 then, 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 else, 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 i 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S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o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značavaju izraz i naredbu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iEtSS’ |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S’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eS|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b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E175-7AD8-4A1D-B1C4-803856F5F7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Re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ur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zija u pravilima gramatik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U teoriji uobičajen način predstavljanja, problem nastaje kod implementacij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(Re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ur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v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na pravila mogu dovesti do bekonačne petlje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 -&gt; Aw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lijeva rekurzij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 -&gt; wA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desna rekurzij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975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Primjer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: &lt;var_list&gt; -&gt; &lt;var_list&gt; &lt;variable&gt; | &lt;variable&gt;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Gramatika se može transformisati tako da se deterministički eliminiše lijeva ili desna rekurzija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BF67-63EF-4981-BA31-456158EA80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08:15:37Z</dcterms:created>
  <dc:creator>Godmar Back</dc:creator>
  <dc:description/>
  <dc:language>en-US</dc:language>
  <cp:lastModifiedBy>Goran</cp:lastModifiedBy>
  <dcterms:modified xsi:type="dcterms:W3CDTF">2010-04-01T14:11:42Z</dcterms:modified>
  <cp:revision>1045</cp:revision>
  <dc:subject/>
  <dc:title>Welcome to CS143</dc:title>
</cp:coreProperties>
</file>