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7BF7-7108-42E5-BF0A-F7582220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B568-9DE9-4E4C-9CC7-C3D3C62C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AEFD-7DEC-4F38-B060-0FCA83C1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5ECA-6573-4531-9D81-DF86DCAA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7FB0-20BB-4713-AFEA-0DEDEF2F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243A-A205-41D5-8937-DA4D2BF2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52CF-1A81-4132-9BD8-0710BEB5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B2CB-E9F2-4DD4-B4FB-C877A73F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9447-DC7C-4679-80F6-544D277F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E8EA-A987-4981-834C-1EDEC6E1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3AF8-B740-4EAA-AE04-0ACDDDBD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CFD6-0044-4B70-93BF-9BC1E8D6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55272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2720"/>
            <a:ext cx="4191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7B10-5586-44A0-932A-F1CB823EBDC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Objektno-orijentisani jezic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CEE6-4197-4D73-87DA-86060D928C5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C747D-4D79-429C-BF89-924BD04AE9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itanje opseg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Članovi klase dostupni samo u metodama klase ili metodima izvedenih klas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nutar metoda klase, kako pronaći deklaraciju promjenljive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ajugnježdeniji opseg (najbliži blok, ako postoji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ijelo funkcije pa formalni parametri (2 opsega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Nema ugnježdenih f-ija kao u Pascal-u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pseg klase (class scope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pseg roditeljske klase , “djedovske” klase, itd. do najdaljeg pretk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pseg datoteke (file scope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globalni opse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9760-9557-4635-B486-EFFA63745D4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7EE11-3B94-4169-8C8B-D5B366EC82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određivanja opseg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Exec::getRaise() 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oats = boats + 1;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alary = salary * execBoost;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}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matrajmo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mjenljivu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 boats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okalna najbližem bloku ili f-iji getRaise? N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isana kao član klase Exec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a, pa je upotreba promjenljive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boats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riješena na nivou klas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EB19-3213-4E05-95E8-2B970062B5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A829B-51AC-4A49-86C5-6F69F9CB5C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određivanja opseg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Exec::getRaise() 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oats = boats + 1;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alary = salary * execBoost;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}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matrajmo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mjenljivu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 salary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okalna najbližem bloku ili f-iji getRaise? N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isana kao član klase Exec? N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isana kao član klase Mgr?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isana kao član klase Empl? D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9D41-EE64-465D-87EE-600C599AE7F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51346-5118-4E47-8F24-DBEB232604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određivanja opseg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matrajmo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mjenljivu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 execBoost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okalna najbližem bloku ili f-iji getRaise? N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isana kao član klase Exec? N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isana kao član klase Mgr?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isana kao član klase Empl? N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isana na nivou datoteke?  N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lobalna promjenljiva variable?  Da  (loše projektovanje, ali validan opseg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7EB0-DA33-4C1B-A8FD-CF18B2E33B0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34675-7813-4291-85BB-B41E9806F8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Opseg kod f-ija koje nisu članovi klas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ool  Exploitable (Empl e) {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ool  b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f (e.salary() &lt;= minWage) return true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return false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Za pronalaženje promjenljive salary, “e.” prefiks nam govori da tražimo u klasi za e i eventualno njoj nadređenim klasama. Mora se tražiti u opsegu klase, jer se koristi OO notacija. 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Za pronalaženje minWage, po standardnoj C-putanji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ajbliži blok, lokalna f-ija, datoteka, globalna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77C4-58D6-43F2-BEEA-95A99CE0652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DCA21-2033-45A1-8210-B6A3E4C9E4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etraživanje u klasnom opsegu objekt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.” prefiks nam govori da pretražujemo u opsegu klase objekta e i da se krećemo kroz hijerarhiju klas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Šta je klasni opseg za e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ima statički tip iz svoje deklaracije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ve klase potomci klase Empl su 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kompatibiln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sa Empl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xploitable (wally) predaje Emp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xploitable (dilbert) predaje Dron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xploitable (pointy) predaje Mgr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xploitable pronalazi salary u Empl za svakog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F37B-D0F7-460C-8673-FC28DA7DC60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2EE7E-6E25-4A07-8301-2B4FCE1C37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ozivanje metoda (member function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ogbert.getRaise()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Koji getRaise metod je pozvan?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++ </a:t>
            </a:r>
            <a:r>
              <a:rPr b="1" lang="en-US" sz="4000" spc="-1" strike="noStrike">
                <a:solidFill>
                  <a:srgbClr val="000099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Decaf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C++,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bj</a:t>
            </a:r>
            <a:r>
              <a:rPr b="1" lang="en-US" sz="3200" spc="-1" strike="noStrike">
                <a:solidFill>
                  <a:srgbClr val="fc4122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emFunc() određuje memFunc u skladu sa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statičkim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tipom objekta obj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bjp</a:t>
            </a:r>
            <a:r>
              <a:rPr b="1" lang="en-US" sz="3200" spc="-1" strike="noStrike">
                <a:solidFill>
                  <a:srgbClr val="fc4122"/>
                </a:solidFill>
                <a:latin typeface="Tahoma"/>
              </a:rPr>
              <a:t>-&gt;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emFunc() određuje memFunc u skladu sa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dinamičkim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tipom obj (ako je  memfunc declarisana kao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virtual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6A0-3B16-4B44-966B-764D20AFA63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A2A3F-F984-408D-B82A-E7D11AD770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++ - metod dispatch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rone dilbert = Drone();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gr* dogbert = new Exec();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gr   pointy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= *dogbert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ilbert.greet()   štamp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 work in a box.”         // statički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ogbert-&gt;greet() štamp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 have options.”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// dinamički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inty.greet() štamp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 have pointy hair.”     // statički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10B6-5872-443F-A763-76FD3B03C50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8B9F3-A27D-4928-9C40-0E827848C0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Method dispatching u Decaf-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U Decaf-u je uvijek dinamički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Bazira se na </a:t>
            </a:r>
            <a:r>
              <a:rPr b="0" i="1" lang="en-US" sz="3000" spc="-1" strike="noStrike">
                <a:solidFill>
                  <a:srgbClr val="000099"/>
                </a:solidFill>
                <a:latin typeface="Tahoma"/>
              </a:rPr>
              <a:t>runtime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klasi objekta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Drone dilbert = new Drone();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Mgr dogbert = new Exec();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Mgr pointy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= new Mgr();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Dilbert.greet()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štamp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I work in a box.”         // Drone method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Dogbert.greet()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štamp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I have options.”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     // Exec method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ointy.greet()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štamp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I have pointy hair.”     // Mgr method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0DB9-8258-4EED-87A9-1D2F5A1711D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2CD77-683C-494F-9EC7-3E86E78A68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olimorfizam u Decaf-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olimorfne f-ije (polymorphic) –  isto ime i signatura, ali različite implementacije u različitim podklasama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npr. </a:t>
            </a:r>
            <a:r>
              <a:rPr b="1" lang="en-US" sz="3000" spc="-1" strike="noStrike">
                <a:solidFill>
                  <a:srgbClr val="3333cc"/>
                </a:solidFill>
                <a:latin typeface="Tahoma"/>
              </a:rPr>
              <a:t>init</a:t>
            </a: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, </a:t>
            </a:r>
            <a:r>
              <a:rPr b="1" lang="en-US" sz="3000" spc="-1" strike="noStrike">
                <a:solidFill>
                  <a:srgbClr val="3333cc"/>
                </a:solidFill>
                <a:latin typeface="Tahoma"/>
              </a:rPr>
              <a:t>getRaise</a:t>
            </a: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, </a:t>
            </a:r>
            <a:r>
              <a:rPr b="1" lang="en-US" sz="3000" spc="-1" strike="noStrike">
                <a:solidFill>
                  <a:srgbClr val="3333cc"/>
                </a:solidFill>
                <a:latin typeface="Tahoma"/>
              </a:rPr>
              <a:t>greet</a:t>
            </a: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, ali ne </a:t>
            </a:r>
            <a:r>
              <a:rPr b="1" lang="en-US" sz="3000" spc="-1" strike="noStrike">
                <a:solidFill>
                  <a:srgbClr val="3333cc"/>
                </a:solidFill>
                <a:latin typeface="Tahoma"/>
              </a:rPr>
              <a:t>layoff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Verzija podklase ima prednost u odnosu na nadređenu klasu ako se ime i formalni parametri potpuno poklapaju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Decaf  f-ije su istinski polimorfne = virtuelne, dinamički dispatched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Generičke, preopterećene (generics, overloaded) ista f-ija ili operator ima više implementacija za argumente različitih tipova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93ED-001E-4180-8019-CF46A3AC998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F9E2C-EE1A-45CA-BEE0-52ADEB4908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ncepti OO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dsjetiti se OO programskih jezik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99"/>
                </a:solidFill>
                <a:latin typeface="Tahoma"/>
              </a:rPr>
              <a:t>čuvanje podataka zajedno sa funkcijama koje manpiulišu njim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(modularnost i enkapsulacija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isanje opšteg koda kada je moguć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pecijalizacija kada je neophodno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sleđivanj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905E-8A4C-4CAC-89BB-AC3DAF7C185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8B1E2-741E-49EC-A380-FD9B9C7DEF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tatička provjera tip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zrazi koji uključuju objekat moraju biti kompatibilni sa statičkim tipom objekt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mpl wally = new Drone()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rone dilbert = new Drone()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ilbert.layoff();   // Drone metod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wally.layoff();      // </a:t>
            </a:r>
            <a:r>
              <a:rPr b="0" lang="en-US" sz="3200" spc="-1" strike="noStrike">
                <a:solidFill>
                  <a:srgbClr val="fc4122"/>
                </a:solidFill>
                <a:latin typeface="Tahoma"/>
              </a:rPr>
              <a:t>Greška!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wally je Drone u vrijeme izvršavanja ali je samo Empl u vrijeme kompajliranja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mantička provjera za wally.layoff() daje grešku jer layoff nije član statičkog tipa za wally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4304-77D4-4DD2-9596-E598F0F4DE3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AD06C-6941-4D21-99E4-4F7DC7F5D8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ecaf semantička provjer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Mgr pointy = new Exec();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ointy.greet()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Statička provjera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Da li je metod greet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definisan u Mgr ili Empl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Dinamički dispatch: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runtime tip za pointy je Exec, pa pointy.greet() je Exec::greet() i štampa  “I have options.”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otrebno je generisati kod koji poziva ispravnu metodu greet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830560" y="311760"/>
            <a:ext cx="3133080" cy="2943360"/>
            <a:chOff x="5830560" y="311760"/>
            <a:chExt cx="3133080" cy="2943360"/>
          </a:xfrm>
        </p:grpSpPr>
        <p:sp>
          <p:nvSpPr>
            <p:cNvPr id="95" name=""/>
            <p:cNvSpPr/>
            <p:nvPr/>
          </p:nvSpPr>
          <p:spPr>
            <a:xfrm>
              <a:off x="6698160" y="311760"/>
              <a:ext cx="1142280" cy="58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ahoma"/>
                </a:rPr>
                <a:t>Emp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89520" y="1530720"/>
              <a:ext cx="1374120" cy="58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ahoma"/>
                </a:rPr>
                <a:t>Dro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30560" y="2673720"/>
              <a:ext cx="1046520" cy="58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ahoma"/>
                </a:rPr>
                <a:t>Exe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1530720"/>
              <a:ext cx="966960" cy="58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ahoma"/>
                </a:rPr>
                <a:t>Mg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9" name=""/>
            <p:cNvCxnSpPr>
              <a:stCxn id="98" idx="2"/>
              <a:endCxn id="97" idx="0"/>
            </p:cNvCxnSpPr>
            <p:nvPr/>
          </p:nvCxnSpPr>
          <p:spPr>
            <a:xfrm>
              <a:off x="6353280" y="2127240"/>
              <a:ext cx="2160" cy="5317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" name=""/>
            <p:cNvCxnSpPr>
              <a:stCxn id="95" idx="2"/>
              <a:endCxn id="98" idx="0"/>
            </p:cNvCxnSpPr>
            <p:nvPr/>
          </p:nvCxnSpPr>
          <p:spPr>
            <a:xfrm flipH="1">
              <a:off x="6352920" y="907920"/>
              <a:ext cx="916560" cy="6084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" name=""/>
            <p:cNvCxnSpPr>
              <a:stCxn id="95" idx="2"/>
              <a:endCxn id="96" idx="0"/>
            </p:cNvCxnSpPr>
            <p:nvPr/>
          </p:nvCxnSpPr>
          <p:spPr>
            <a:xfrm>
              <a:off x="7268760" y="907920"/>
              <a:ext cx="1008720" cy="6084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8D9E-4354-4D69-976D-3707605D249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FF3E1-E7A8-49DB-BEB9-6685E56FAF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mpatibilnost u Decaf-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Klase potomci klase P su uvijek kompatibilne sa klasom P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bool  Exploitable (Empl e) {}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Empl wally = new Exec; 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// OK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Exploitable(wally);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// OK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Klasa nije kompatibilna sa svojim podklasama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Empl wally.layoff()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0" lang="en-US" sz="3000" spc="-1" strike="noStrike">
                <a:solidFill>
                  <a:srgbClr val="fc4122"/>
                </a:solidFill>
                <a:latin typeface="Tahoma"/>
              </a:rPr>
              <a:t>// Greška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Exec dogbert = new Mgr()     </a:t>
            </a:r>
            <a:r>
              <a:rPr b="0" lang="en-US" sz="3000" spc="-1" strike="noStrike">
                <a:solidFill>
                  <a:srgbClr val="fc4122"/>
                </a:solidFill>
                <a:latin typeface="Tahoma"/>
              </a:rPr>
              <a:t>// Greška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Rođačke” klase nisu kompatibilne u oba smjera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Drone dilbert = new Mgr();    </a:t>
            </a:r>
            <a:r>
              <a:rPr b="0" lang="en-US" sz="3000" spc="-1" strike="noStrike">
                <a:solidFill>
                  <a:srgbClr val="fc4122"/>
                </a:solidFill>
                <a:latin typeface="Tahoma"/>
              </a:rPr>
              <a:t>// Greška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Exec dogbert = new Drone(); </a:t>
            </a:r>
            <a:r>
              <a:rPr b="0" lang="en-US" sz="3000" spc="-1" strike="noStrike">
                <a:solidFill>
                  <a:srgbClr val="fc4122"/>
                </a:solidFill>
                <a:latin typeface="Tahoma"/>
              </a:rPr>
              <a:t>// Greška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B0C1-B53A-4E1B-8773-C48649E26E6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EF513-8E7D-4B6C-8466-57EDE8D6D4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Interfejs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609120"/>
            <a:ext cx="87631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Šta ako klasa treba da ima svojstva više nepovezanih klasa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U C++, višestruko nasleđivanje (multiple inheritance). Teško  za upotrebu, još teže za  implementaciju.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Java koristi interfejse (</a:t>
            </a:r>
            <a:r>
              <a:rPr b="0" i="1" lang="en-US" sz="3000" spc="-1" strike="noStrike">
                <a:solidFill>
                  <a:srgbClr val="3333cc"/>
                </a:solidFill>
                <a:latin typeface="Tahoma"/>
              </a:rPr>
              <a:t>interfaces</a:t>
            </a: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), kao i Decaf.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terfejs (interface) je skup f-ija sa određenim tipovima signatur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mplementacija interfejsa je obećanje da obezbijedimo tijela za te f-ij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7DFF-A82B-4C2F-8217-E7835C62BDF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3CFA5-706E-4DC3-8EB6-B69CDF4E64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interfejs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matrajmo interfejs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terface Saveable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WriteOut(file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ReadIn(file)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vaka klasa koja implementira ove dvije f-ije  može sačuvati objekte na disk i ponovo ih učitati sa diska. 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jčešće se koristi u Javi za grafičke rutin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1AA5-BC12-4FC9-B5A5-B853C1EA93D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A8AAA-775B-4992-B325-9EA9F76C5D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interfejs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ass Empl  implements Saveable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init(int ID) { badge = id;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getRaise( salary = salary * 1.05; )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greet { Print ”I have a job”;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void WriteOut(file){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Print(file, “[ Empl [Badge ”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Print(file, badge, “] [Salary “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Print(file, salary, “] ]”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void ReadIn. . . 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int badge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double salary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1C11-0095-438C-8F3B-3A53D51398F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F5769-7352-431C-81F3-ADF353692B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interfejs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609120"/>
            <a:ext cx="8915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ass Drone  {  // don’t have to repeat it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init(int ID) { badge = id; salary = 1; cube = 5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etRaise( salary = salary * 1.01; )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reet { Print ”I work in a box”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void WriteOut(file){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Print(file, “[ Drone [Badge ”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Print(file, badge, “] [Salary ”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Print(file, salary, “] [Cube ”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Print(file, cube, “ ] ] ”)  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void ReadIn. . . 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int badge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double salary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nt cube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0AFA-CEB7-4285-A334-73613E8E551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5A376-9B74-46AA-8924-CD4FEAEE25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ka interfejs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terfejs je implementiran u klasi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me interfejsa je ime tip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lasa koja implementira interfejs je kompatibilna sa interfejsom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 primjer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void computeStorage (Saveable d)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ass Empl implements Saveable { …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ass Drone extends Empl { …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mpl wally = new Drone()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omputeStorage (wally); // OK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3A1E-EAA0-4D28-ADEE-5BE4025965D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81B01-505E-450C-95F5-AC1D8CDD6B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++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ass Base { public: virtual int vf (void); }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ase *bp = /* pointer to a subclass */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p-&gt;vf ()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ass Derived : public Base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ublic: virtual int vf (void); }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rived d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p = &amp;d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p-&gt;vf (); // invokes Derived::vf(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F799-3BE0-4A3F-AF6D-55909F3A33C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537AD-C458-4E00-A849-30CEBCBC8B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++ primjer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 (2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truct Base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rtual int vf1 (void) f cout &lt;&lt; "hello\n"; g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 f1 (void)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truct Derived1 : public Base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rtual int vf1 (void) { cout &lt;&lt; "world\n";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A4E0-5630-4FC2-99B9-95B7438B125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1A497-60CB-48E5-8BFF-E80C619FD8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Java, C++ i Decaf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lasa ima podatke i f-ije kao članov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dklasa proširuje (extend) roditeljsku klasu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dklasa (subclass) nasleđuje sve podatke i f-ije od nadklas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dklasa mož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pecijalizovati se za svoj  tip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odati još podataka i funkcij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verride f-ije sa istim imenom i signaturo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mjenljive Class (type) su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objekti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1A4F-A36A-40D6-9228-08CB7BB2FC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DC98F-AC2C-4BB8-A6F0-B7AAE0FF57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++ primjer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 (3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truct Derived2 : public Derived1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// Still a virtual: : 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 vf1 (void) { cout &lt;&lt; "hello world\n";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 f1 (void); // not virtua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truct Derived3 : public Derived2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rtual int vf2 (int)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// diferent from vf1!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rtual int vf1 (int); // Be careful!!!!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371C-E401-4788-AAE5-BC2F844357E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FA98D-B17B-44B2-9E12-305B5AE583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++ primjer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 (4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oid foo (Base *bp) {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p-&gt;vf1 (); // virtual functio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 b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 *bp = &amp;b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p-&gt;vf1 (); // prints "hello"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rived1 d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p = &amp;d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p-&gt;vf1 (); // prints "world"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o (&amp;b); // prints "hello"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o (&amp;d); // prints "world"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8905-770C-4DA6-B50D-BA080DDAF58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8F782-8E37-406A-99E3-37A2F21A32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oka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zivač thi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Class Date {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public : int year, month, day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}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Arial Unicode MS"/>
              </a:rPr>
              <a:t>this je adresa samog objekt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// Primjer this pokaziva</a:t>
            </a:r>
            <a:r>
              <a:rPr b="0" lang="sr-Latn-CS" sz="3200" spc="-1" strike="noStrike">
                <a:solidFill>
                  <a:srgbClr val="000099"/>
                </a:solidFill>
                <a:latin typeface="Arial Unicode MS"/>
              </a:rPr>
              <a:t>č</a:t>
            </a: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a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Date::setMonth( int mn ) {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month = mn; // </a:t>
            </a:r>
            <a:r>
              <a:rPr b="0" lang="sr-Latn-CS" sz="3200" spc="-1" strike="noStrike">
                <a:solidFill>
                  <a:srgbClr val="000099"/>
                </a:solidFill>
                <a:latin typeface="Arial Unicode MS"/>
              </a:rPr>
              <a:t>3 ekvivalentne</a:t>
            </a: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Arial Unicode MS"/>
              </a:rPr>
              <a:t>naredb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this-&gt;month = mn;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(*this).month = mn; }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3584-81DD-4E6C-86ED-57AC1F9C7B5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E7B97-D98D-4178-B638-70A7A36BA8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Decaf hijerarhi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ass Empl  {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init(int ID) {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etRaise()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reet { Print ”I have a job”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int badge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double salary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ass Mgr extends Empl {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init(int ID) {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etRaise()  {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reet { Print ”I have pointy hair”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int options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6640920" y="891000"/>
            <a:ext cx="1142280" cy="5814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Em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27680" y="2140560"/>
            <a:ext cx="966960" cy="5814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9" idx="2"/>
            <a:endCxn id="50" idx="0"/>
          </p:cNvCxnSpPr>
          <p:nvPr/>
        </p:nvCxnSpPr>
        <p:spPr>
          <a:xfrm>
            <a:off x="7211520" y="1487160"/>
            <a:ext cx="1080" cy="6390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C52C-984B-4EB1-9793-8FD73C6095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94D6E-5940-4FB2-92AF-E2FBF7ADA2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Decaf hijerarhi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ass Exec extends Mgr {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init (int ID) {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etRaise()   {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reet {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Print ”I have options.”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int boats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ass Drone extends Empl {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init(int ID) {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etRaise()  {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reet { Print ”I work in a box.”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void layoff()    {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int cube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830560" y="921240"/>
            <a:ext cx="3133080" cy="2943360"/>
            <a:chOff x="5830560" y="921240"/>
            <a:chExt cx="3133080" cy="2943360"/>
          </a:xfrm>
        </p:grpSpPr>
        <p:sp>
          <p:nvSpPr>
            <p:cNvPr id="55" name=""/>
            <p:cNvSpPr/>
            <p:nvPr/>
          </p:nvSpPr>
          <p:spPr>
            <a:xfrm>
              <a:off x="6698160" y="921240"/>
              <a:ext cx="1142280" cy="58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ahoma"/>
                </a:rPr>
                <a:t>Emp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589520" y="2140200"/>
              <a:ext cx="1374120" cy="58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ahoma"/>
                </a:rPr>
                <a:t>Dro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830560" y="3283200"/>
              <a:ext cx="1046520" cy="58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ahoma"/>
                </a:rPr>
                <a:t>Exe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869080" y="2140200"/>
              <a:ext cx="966960" cy="58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ahoma"/>
                </a:rPr>
                <a:t>Mg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"/>
            <p:cNvCxnSpPr>
              <a:stCxn id="58" idx="2"/>
              <a:endCxn id="57" idx="0"/>
            </p:cNvCxnSpPr>
            <p:nvPr/>
          </p:nvCxnSpPr>
          <p:spPr>
            <a:xfrm>
              <a:off x="6353280" y="2736720"/>
              <a:ext cx="2160" cy="5317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55" idx="2"/>
              <a:endCxn id="58" idx="0"/>
            </p:cNvCxnSpPr>
            <p:nvPr/>
          </p:nvCxnSpPr>
          <p:spPr>
            <a:xfrm flipH="1">
              <a:off x="6352920" y="1517400"/>
              <a:ext cx="916560" cy="6084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" name=""/>
            <p:cNvCxnSpPr>
              <a:stCxn id="55" idx="2"/>
              <a:endCxn id="56" idx="0"/>
            </p:cNvCxnSpPr>
            <p:nvPr/>
          </p:nvCxnSpPr>
          <p:spPr>
            <a:xfrm>
              <a:off x="7268760" y="1517400"/>
              <a:ext cx="1008720" cy="6084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11CF-7A04-42B9-8D2A-46031C8840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D6678-5C34-4773-94A3-D8F95D6CA9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Naslijeđeni i novi član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rone im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init(int ID) {}   Overridden od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getRaise() {}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 Overridden od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greet() {}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 Overridden od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void layoff() {}   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Definisan u Dron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int badge;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 Naslijeđen iz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double salary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Naslijeđen iz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int cube;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 Definisan u Dron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18AD-8215-4F76-A528-5ACA22F27E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06EE7-BBD4-4AB2-919E-0C1C502090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Naslijeđeni i novi član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xec im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init(int ID) {}   Overridden od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getRaise()  {}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 Overridden od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greet() {}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 Overridden od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int badge;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 Naslijeđen od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double salary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Naslijeđen od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int options;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 Naslijeđen od Mgr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int boats;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 Definisan u Exec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CE62-DC67-425B-87B1-5A754178B4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82992-6B74-4CD3-91EB-2679926979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ecaf - pojednostavljen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Java, C++: public, protected, privat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caf - svi podaci su protected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že im se pristupiti samo iz klase i njenih podklas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ve Decaf funkcije su public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že ih svako pozvati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ema konstruktor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sleđivanje (inheritance) je public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++ : class Drone:  public Empl { }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950C-7BD8-4C65-A66A-EA563D3524E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E1357-FB2E-40AC-9AFF-9D9476B852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Decaf objekat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rone dilbert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// tip je Dron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gr pointy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// tip je Mgr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mpl wally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// tip je Emp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xec dogbert;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// tip je Exec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ilbert.Init (143)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inty.Init (17)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wally.Init (0);     // Šta radi ovaj radnik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istup članovima klase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dilbert.salary = 5;  </a:t>
            </a:r>
            <a:r>
              <a:rPr b="0" lang="en-US" sz="2600" spc="-1" strike="noStrike">
                <a:solidFill>
                  <a:srgbClr val="fc4122"/>
                </a:solidFill>
                <a:latin typeface="Tahoma"/>
              </a:rPr>
              <a:t>// Pogrešno u Decaf-u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oraju postojati accessor funkcije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Class Empl { void setpay(int pay) { salary = pay; } 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int getpay(void)       { return salary; }  }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D0C7-3436-4C1B-8C9E-B2D5AA885D5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124F8-548D-4F00-B029-30B27AA29F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8:15:37Z</dcterms:created>
  <dc:creator>Godmar Back</dc:creator>
  <dc:description/>
  <dc:language>en-US</dc:language>
  <cp:lastModifiedBy>Goran</cp:lastModifiedBy>
  <dcterms:modified xsi:type="dcterms:W3CDTF">2009-11-07T11:49:22Z</dcterms:modified>
  <cp:revision>4678</cp:revision>
  <dc:subject/>
  <dc:title>Welcome to CS143</dc:title>
</cp:coreProperties>
</file>