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8F1A-E6DA-425C-B5C6-B0D4851F6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700D-486C-4EE9-8BE2-4027A6F3E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E76E1-96A8-43EB-BEC7-24289A9F8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AC9B-9EF1-48C6-9858-9F67B9FDC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A6B61-5B02-437D-AFE8-2DC08BD4F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7A751-5540-4DAC-9C7E-1539DCE01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42F8C-4423-48F9-9069-78C71ADBD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AEC35-F218-47EB-83CA-E5E8615F8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92C4A-FCAC-47BD-8EC6-828F21750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FDAB5-6AEC-413F-B4A5-73DA13B1B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54636-F10D-4487-86FF-414DABDAE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C4A73-AC42-467E-A3DD-6FADE14C3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E0972-D0E9-4584-A1BE-EEE91A239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DE56E-FB88-4659-BCBE-1E4E93547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6098B-F75F-4875-82E6-542F7C790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279D8-1A95-422C-9D08-D812116AB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1DA3B-F118-47F4-B8AE-5FA99AF06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3D96B-18E2-41E0-AC38-FFF6F6D11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72011-5176-4F17-BF08-01CD20D18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11545-545B-4622-BE15-D14AB838F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14303-782B-4173-B151-9DC79A06B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4866-DC1A-4BD0-87AC-F4294D414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56D67-C24B-4D9C-B3AA-7A58161F9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A38C7-7B7C-48E4-B875-B371AB1B4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DC0E6-4976-4EC8-AA86-73C467715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7A9F-0FC7-4E63-BA4D-320C2BFF0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D1E7-BBE7-4190-A4D4-C8EBC4D3C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151B-3AB3-4321-BC9A-5AB3CAB22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C8CA8-0A73-4E5C-A5E3-37599EC5D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C51D3-85E7-49C8-B5D2-A830A9AE0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3DA-9564-453A-9B87-A5F783E1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F95-782F-4032-884C-332356FE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705-DDCA-4A63-BBCB-3F34B591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79E-64E3-459B-BE1B-DAA8C2E2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41E-F6D2-40FA-AE7D-E2F52D78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7A5-3260-4FBC-ABE7-462ECE03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839-E904-4585-A152-A903A59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B9D-35AC-4B51-8391-C4BBFDB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F35-B706-47CE-B9DB-0EB96DF2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A1A-F733-465F-99E4-A4FBC64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8FF-96F6-4AF4-A8F9-2FE5CDE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03C-6E75-45A4-B225-14578D9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1353-2F93-4F38-85B4-6AF33A83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chyonsoft.com/elf.html" TargetMode="External"/><Relationship Id="rId2" Type="http://schemas.openxmlformats.org/officeDocument/2006/relationships/hyperlink" Target="http://www.ibm.com/developerworks/power/library/pa-spec12/" TargetMode="External"/><Relationship Id="rId3" Type="http://schemas.openxmlformats.org/officeDocument/2006/relationships/hyperlink" Target="http://www.linuxjournal.com/node/1060/pr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d koda do 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izvršavanj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70B-424F-4A1D-BBA2-9A1F7AD9F6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 i koristi direktive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irectives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jenjuj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 ma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bject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and Linking Format (ELF) – format objektnog faj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C9B-D881-43C6-8C5D-47AE5C2A68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479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l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5048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u uputst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embler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ne prave mašinske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reprezentacija podatak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joj se može pristupati iz drugih faj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asciiz 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word w1…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h vrijednosti u uzastopne memorijske lo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064-A3C5-4A4D-9EE3-8756FD24A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Zamjena 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0008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seudo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0" lang="sr-Latn-CS" sz="36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sp,$sp,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 $a0, 32($sp)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0, 32($s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1, 36($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7,$t6,$t5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6,$t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flo $t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u $t0,$t6,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t0,$t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e $t0,100,loo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ti $at,$t0,10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$at,$0,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 $a0, st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 $at,left(st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 $a0,$at,right(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DE1-9CDF-4C25-9222-C4C183A0FD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stavni slučaj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o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 neophodna informacija je unutar instruk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grananjem (branch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u odnosu na Program Counter (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kada se zamije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-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stvarnim instrukcijama, znamo koliko instrukcija da i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221-EC2A-4549-B399-BF097B09CA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Referenc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 mogu referencira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koje su naprije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forward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rješava s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olaza kroz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v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mti pozicije lab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rug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i pozicije labela za generisanje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95280" y="2514600"/>
            <a:ext cx="78487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r   $v0, $0,  $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1: slt  $t0, $0,  $a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beq  $t0, $0,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addi $a1, $a1, -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j    L1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add  $t1, $a0, $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F13-591B-4E48-B4AB-4273ED796B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78487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skokovi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ijev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nu adre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pa bez obzira da li je forward ili ne, ne može se generisati kod bez pozicije instrukcije u memor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 na podat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razbija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e zahtijevaju pu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odat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o se ne može odrediti unaprijed, pa se kreiraju dvije tabe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398-9A33-4788-BBD7-5928015C3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abela simbola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vih 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fajlu koji mogu biti korišćeni u drugom fajl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poziv funkcij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Courier New"/>
                <a:ea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e kojim se može pristupati kroz različite faj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258-8B5C-4519-B289-C9E67A15B1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41204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koje ovaj fajl treba da dresira kasn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labela iz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utr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polj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cluding lib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dio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što j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Tabela relokacije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ocation Table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40D-85F7-47C3-95FD-2C6136D8E5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object file hea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eličina i pozicija drugih dijelova objektnog 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text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m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ata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a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p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cija podataka iz source-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relocation inform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identif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u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kode koje treba kasnije obradi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symbol 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lis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 i podataka iz tekućeg fajla koji će možda referencir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ebugg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Fil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9DC-275E-40E8-B396-52F80E8698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achyonsoft.com/elf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bm.com/developerworks/power/library/pa-spec1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linuxjournal.com/node/1060/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040-3839-49BC-8D3C-F103F0AD1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ranj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ev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ko pokrećemo program napisan u jeziku višeg niv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r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o izvršavamo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Prevodilac (kompajl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ver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aznog (source) jezika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drugom jez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 u jezik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4B4-6BC2-41EF-A0BB-AC4E6295D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80280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1BF-CF26-4CE1-BDB4-F52F131A7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2756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1E3-CDCD-417F-B041-3E50A4E323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gramski kod može se nalaziti u više modula, a često se koriste neki utility-programi koji su dio operativ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inker – program koji povezuje više objektnih programa, rutina operativnog sistema i drugih utility-programa u jednu cjel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"load modu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oader - 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ad module" se smješta u operativnu memoriju; loader je često dio OS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Linker i lo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E87-E69D-4D6B-829E-1F8F599297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732960"/>
            <a:ext cx="8077320" cy="58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Executable C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viš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.o)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lova u je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ogućava odvojeno prevođenje fajl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a jednog fajla ne zahtijeva rekompilaciju cijelog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Edito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ime zbog promj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z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s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mp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k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49B-6F0F-4FC2-89EF-C1C4A9D00D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960" y="76212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.o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1600" y="1219320"/>
            <a:ext cx="117432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2680" y="1828800"/>
            <a:ext cx="13086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2320" y="2438280"/>
            <a:ext cx="11728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f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960" y="342900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o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11600" y="3886200"/>
            <a:ext cx="117432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2680" y="4495680"/>
            <a:ext cx="13086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2320" y="5105520"/>
            <a:ext cx="11728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f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3600" y="28954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Li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2133720" cy="114300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480" y="161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981080"/>
            <a:ext cx="457200" cy="7621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3809520"/>
            <a:ext cx="533520" cy="83844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00400"/>
            <a:ext cx="8380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2920" y="2133720"/>
            <a:ext cx="31158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2920" y="2743200"/>
            <a:ext cx="31158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4000" y="3352680"/>
            <a:ext cx="32500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14000" y="3962520"/>
            <a:ext cx="32500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FBC-6576-4C32-BF5E-2EA6BD5C6A0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62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i sastavlja 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astavl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nadovezuje ih na kraj tekst-segme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zrješava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lazi kro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ocation Tabl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obrađuje svaku poziciju tj. popunjava ih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res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D61-D94C-429F-9188-00EFCCCC4F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-Relativ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resiran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ikada se ne premješta (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 relocate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adre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ič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ipa ad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D1F-5F5F-473C-8309-41322D6BC0D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drese 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e instrukcije zahtijevaju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ion editin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format: jump, jump an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im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kc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lat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o u odnosu 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40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a sa uslovnim grananj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relativno adre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nje 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očuvano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ako se kod pom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33520" y="2133720"/>
            <a:ext cx="8153280" cy="591120"/>
            <a:chOff x="533520" y="2133720"/>
            <a:chExt cx="8153280" cy="591120"/>
          </a:xfrm>
        </p:grpSpPr>
        <p:sp>
          <p:nvSpPr>
            <p:cNvPr id="124" name="Text Box 5"/>
            <p:cNvSpPr/>
            <p:nvPr/>
          </p:nvSpPr>
          <p:spPr>
            <a:xfrm>
              <a:off x="71784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j/j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470376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xxx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057400" y="213372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33520" y="2133720"/>
              <a:ext cx="815328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09480" y="3657600"/>
            <a:ext cx="8153640" cy="615240"/>
            <a:chOff x="609480" y="3657600"/>
            <a:chExt cx="8153640" cy="615240"/>
          </a:xfrm>
        </p:grpSpPr>
        <p:grpSp>
          <p:nvGrpSpPr>
            <p:cNvPr id="129" name="Group 12"/>
            <p:cNvGrpSpPr/>
            <p:nvPr/>
          </p:nvGrpSpPr>
          <p:grpSpPr>
            <a:xfrm>
              <a:off x="824040" y="3657600"/>
              <a:ext cx="7269120" cy="615240"/>
              <a:chOff x="824040" y="3657600"/>
              <a:chExt cx="7269120" cy="615240"/>
            </a:xfrm>
          </p:grpSpPr>
          <p:sp>
            <p:nvSpPr>
              <p:cNvPr id="130" name="Text Box 13"/>
              <p:cNvSpPr/>
              <p:nvPr/>
            </p:nvSpPr>
            <p:spPr>
              <a:xfrm>
                <a:off x="824040" y="365760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lw/s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14"/>
              <p:cNvSpPr/>
              <p:nvPr/>
            </p:nvSpPr>
            <p:spPr>
              <a:xfrm>
                <a:off x="2409480" y="36576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15"/>
              <p:cNvSpPr/>
              <p:nvPr/>
            </p:nvSpPr>
            <p:spPr>
              <a:xfrm>
                <a:off x="3786480" y="3657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6"/>
              <p:cNvSpPr/>
              <p:nvPr/>
            </p:nvSpPr>
            <p:spPr>
              <a:xfrm>
                <a:off x="5265720" y="3759840"/>
                <a:ext cx="18396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7"/>
              <p:cNvSpPr/>
              <p:nvPr/>
            </p:nvSpPr>
            <p:spPr>
              <a:xfrm>
                <a:off x="7908840" y="3759840"/>
                <a:ext cx="18432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18"/>
              <p:cNvSpPr/>
              <p:nvPr/>
            </p:nvSpPr>
            <p:spPr>
              <a:xfrm>
                <a:off x="5789880" y="36576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19"/>
            <p:cNvSpPr/>
            <p:nvPr/>
          </p:nvSpPr>
          <p:spPr>
            <a:xfrm>
              <a:off x="609480" y="3657600"/>
              <a:ext cx="815364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21337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42900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6483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610560" y="4876920"/>
            <a:ext cx="8154000" cy="591480"/>
            <a:chOff x="610560" y="4876920"/>
            <a:chExt cx="8154000" cy="591480"/>
          </a:xfrm>
        </p:grpSpPr>
        <p:grpSp>
          <p:nvGrpSpPr>
            <p:cNvPr id="141" name="Group 26"/>
            <p:cNvGrpSpPr/>
            <p:nvPr/>
          </p:nvGrpSpPr>
          <p:grpSpPr>
            <a:xfrm>
              <a:off x="610560" y="4876920"/>
              <a:ext cx="7481880" cy="520560"/>
              <a:chOff x="610560" y="4876920"/>
              <a:chExt cx="7481880" cy="520560"/>
            </a:xfrm>
          </p:grpSpPr>
          <p:sp>
            <p:nvSpPr>
              <p:cNvPr id="142" name="Text Box 27"/>
              <p:cNvSpPr/>
              <p:nvPr/>
            </p:nvSpPr>
            <p:spPr>
              <a:xfrm>
                <a:off x="61056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beq/b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28"/>
              <p:cNvSpPr/>
              <p:nvPr/>
            </p:nvSpPr>
            <p:spPr>
              <a:xfrm>
                <a:off x="240840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367668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Text Box 30"/>
              <p:cNvSpPr/>
              <p:nvPr/>
            </p:nvSpPr>
            <p:spPr>
              <a:xfrm>
                <a:off x="5265360" y="4979160"/>
                <a:ext cx="18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7908480" y="4979160"/>
                <a:ext cx="18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32"/>
              <p:cNvSpPr/>
              <p:nvPr/>
            </p:nvSpPr>
            <p:spPr>
              <a:xfrm>
                <a:off x="578844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33"/>
            <p:cNvSpPr/>
            <p:nvPr/>
          </p:nvSpPr>
          <p:spPr>
            <a:xfrm>
              <a:off x="611280" y="4876920"/>
              <a:ext cx="8153280" cy="59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>
              <a:off x="221112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343044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464976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A46-AB1B-4154-992A-6BE342B31F32}" type="slidenum">
              <a:t>2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pretpostavlj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je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a riječ prv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na adresi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00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sjetite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irtu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ži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j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čun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e labele na koju se vrši sk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il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svakog podatka koji se referenc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C07-1AB3-4C1E-8C92-1EB08D66F3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 bi razrješil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ž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(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podataka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v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user” ta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h 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đ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, traž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 u library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, kada imamo 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dre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punjavamo mašinski kod na odgovarajući nač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nk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 koji sadrži kod i podat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us hea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95D-4261-459B-8208-F129FB5AB2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s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čita program napisan u jeziku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izvršava funkcije tog 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B81-2A88-409B-B3A1-C28C3D5466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 poveziva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isali smo tradicionalni nač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tically-lin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je sada dio izvršnog ko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ako se ona izmijeni, moramo prekompajlirati naš source da bi uračunali izmjene bibliote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jučen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it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čak i ako se ne koristi u potpuno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ni kod j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contain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ernativ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ynamically linked libra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LL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običajene 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&amp; UNIX plat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738a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8ac8"/>
                </a:solidFill>
                <a:latin typeface="Times New Roman"/>
              </a:rPr>
              <a:t>en.wikipedia.org/wiki/Dynamic_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B46-AD55-428C-9095-81A96EA4AF3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/tim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u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zahtijeva manje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l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av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memor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oni dijele bibliote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ri izvršavanj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troši se vrijeme da bi se od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dilo povezivanje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overhead to do lin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gra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bibliot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mjena jedog f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XYZ.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p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-uje sva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XYZ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je dovoljno imati samo izvršni ko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5715000"/>
            <a:ext cx="9144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92240" y="-7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09F-AD48-4FEE-B532-9C5F0242315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inamičko povezivanje usložnjava kompajler, linker i OS, ali ima više prednosti negio ma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istup koji preovladava je da se korist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i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manji zajednič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est common)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l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e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kako 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 biblioteka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ra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j. koji je kompajler ili jezi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može opisati 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ing at the machine code level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što nije jedini nač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227-BE0E-464C-B90A-2628E17696F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 ar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1049400"/>
            <a:ext cx="8001000" cy="580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6FC-6CE7-4DF2-A679-DA7BB5C6E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upravljanje memorij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71720"/>
            <a:ext cx="8229600" cy="54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ma 3 izvora memor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ati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č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a 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memor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glavnom st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 program 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me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onog zap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tack frame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o alociranje memor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su “živi” dok ih programer ne oslob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htijeva znanje gdje se nalaze objekti u memoriji, inače programi ne rade kako je oček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kriva lokaciju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212-CE9E-4038-B952-057E7FD5D5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1295280"/>
            <a:ext cx="243828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i izgle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Memo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ni pros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regio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i mu se mijenja ve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jive deklarisane v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čitava se kada se program pokrene, ne mijenj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762120"/>
            <a:ext cx="243828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24382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80988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124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12952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4508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6600" y="38228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9240" y="3137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7120" y="7621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58000" y="2743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1295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30520" y="685800"/>
            <a:ext cx="1430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FFFF FFFF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91200" y="5105520"/>
            <a:ext cx="61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B43-3C2B-4576-A040-468C43CF1C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91320" y="5029200"/>
            <a:ext cx="24382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762120"/>
            <a:ext cx="24382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 80x86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zgled memorij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x86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ress 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762120"/>
            <a:ext cx="243828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962520"/>
            <a:ext cx="24382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27672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590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5029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680" y="39751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6600" y="32893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0160" y="2603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68040" y="4495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0" y="22093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029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5720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8720" y="4419720"/>
            <a:ext cx="130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800000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C76-E2E2-416A-8253-18BB642F59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Executabl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(program is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ovi čuvaju se na di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se pokreće program, uloga loader-a je da ga učita u OM i pokrene 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prak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ad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stem (O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an od zadat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6A9-330E-42D5-9988-CDCDB6B68E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92700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radi lo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ader izvršnog fajla da odredi velič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i adresni prostor dovoljno veliki da sadrž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stek-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i podatke iz izvršnog fajla u novi adresni pros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može biti bilo gdje u mem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670-6239-40FE-A988-6AB736F1B3C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predate program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regist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na registara se samo oči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i se stek-pokazivač postavlja na prvu slobodnu lokaciju na st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ok 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-up rut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koja kopira argumente programa sa steka u registre i postavlja Program Co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31-1C89-4CBF-AD20-9CA465BC1A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revođenje (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sl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vodi program napisan u jezi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o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rs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mašinski jez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0B4-53FC-4775-B077-85FBD789C2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17856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main (int argc, char *argv[]) {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i, sum = 0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for (i = 0; i&lt;= 100; i++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 sum = sum + i * 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printf ("The sum of sq from 0 .. 100 is %d\n",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um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7200" y="121932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C Program Source Code: 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72120" y="57150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intf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 lives in 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libc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D58-D348-471D-9951-E5F96913080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031880" y="419112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dje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3C0-9438-4B1F-B7E9-B50598D335A8}" type="slidenum">
              <a:t>4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d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032960" y="4191120"/>
            <a:ext cx="18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dvu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A09-90F7-4091-9ADE-FB1783BED6F2}" type="slidenum">
              <a:t>4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51920" y="1560240"/>
            <a:ext cx="44960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8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c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20 mflo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3920" y="1563480"/>
            <a:ext cx="44197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8 slt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c bne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 lu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4 or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$4,r.st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50 add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80240" y="7761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klanjanj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seudoinstr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djel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adr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648320" y="1447920"/>
            <a:ext cx="0" cy="5105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64C-FA19-4103-BC80-FA95BAEFDA3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3240" y="1255680"/>
            <a:ext cx="74851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 (in modul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lob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18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6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.  ty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.st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.st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95240" y="685800"/>
            <a:ext cx="75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e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ranje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ta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lokacije i tabele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0FB-E19F-410E-8ED5-E9A2EAEBCB7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934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483920"/>
            <a:ext cx="4496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3920" y="148752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$1,$0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$4,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$4,$4,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r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94080" y="762120"/>
            <a:ext cx="65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zrješiti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a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C-relati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e labe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648320" y="1523880"/>
            <a:ext cx="0" cy="5029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4F4-70BC-4818-A239-08CAC82F349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nje objektnog fajl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 segment (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gment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bela simbola i tabela reloakci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placeholders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nerazrješ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olutne i eksterne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CD7-821D-4017-95D8-43330471D6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7960" y="151920"/>
            <a:ext cx="7589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om faj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7848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1111111111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0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1000000000010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111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1110011100000000000011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011100100000000000000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10010000000100000000011001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1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111100000010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0000111111001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101000010000011111111111101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001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1110000000100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01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110000010000000000001110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11100000000000000000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0010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356-2E06-48F3-8B88-5D42E90877E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8991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1: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g.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ibc.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paj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xt/data segmen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 memor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ke adr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kuje i spaja tabele simbola i reloka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100004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printf: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3b0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.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uil.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rir.st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lprintf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E63-84F1-488C-BF76-FD0A5F17EE7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865160"/>
            <a:ext cx="4496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23920" y="186840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0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9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$4,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10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8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3520" y="68580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ni adrese u tabeli relo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18 VAG Rounded Bold   0739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(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prikazano HEX</a:t>
            </a:r>
            <a:r>
              <a:rPr b="1" i="1" lang="en-US" sz="2400" spc="-1" strike="noStrike">
                <a:solidFill>
                  <a:srgbClr val="808080"/>
                </a:solidFill>
                <a:latin typeface="18 VAG Rounded Bold   07390"/>
              </a:rPr>
              <a:t>, 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ali se radi u bunarnim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4648320" y="1676520"/>
            <a:ext cx="0" cy="4876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DC5-61B5-48B3-907A-7D881C6437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kše je nap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bliži PJ, pa daje bolji opis 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p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0x?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je kod manj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X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e mogućnost nezavisnosti skupa instruk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ava se na svakoj maš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FAD-A631-40DF-9A2A-A318420ED1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142640"/>
            <a:ext cx="78487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zvršnu verziju spojenih modul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struc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daje detalje o veličini segmen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sr-Latn-CS" sz="3400" spc="-1" strike="noStrike">
                <a:solidFill>
                  <a:srgbClr val="00cc99"/>
                </a:solidFill>
                <a:latin typeface="Times New Roman"/>
              </a:rPr>
              <a:t>apomena</a:t>
            </a: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rethodni primjer je pojednostavljena verzija kako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F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 drugi standardni formati rade. Primjer ilustruje samo osnovne elemen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1A9-4865-4734-AE62-8AD69B1D3CF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ed/compiled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kod je skoro uvijek efikasniji 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ma bolje preforman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ažno za mnoge aplikacije, posebno 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ion/compilation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pomaže sakrivanju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“source”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od korisnik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el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a zarađivan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Microsoft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čuva svoj source  k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ernat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ni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, “open source”,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ra vrijednost objavljivanjem source kod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570-575B-4D62-AC15-1F17CEC5D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okretanje prevedenog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676-4D61-4A0B-8541-42136837F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391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High-Level Language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c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Jav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pom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ož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seudo-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(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ction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seudo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cije ko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emb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umije ali ih mašina ne razum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$s1,$s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55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 $s1,$s2,$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CCA-6260-499D-AA7C-03BFB083D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Proces prevođ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03200" y="1143000"/>
          <a:ext cx="5607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43000"/>
                    <a:ext cx="5607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F2D-B5AA-4B72-977C-5E03D163A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38:27Z</dcterms:created>
  <dc:creator>Nikola Radovanovic</dc:creator>
  <dc:description/>
  <dc:language>en-US</dc:language>
  <cp:lastModifiedBy>gorans</cp:lastModifiedBy>
  <dcterms:modified xsi:type="dcterms:W3CDTF">2011-02-10T08:15:11Z</dcterms:modified>
  <cp:revision>226</cp:revision>
  <dc:subject/>
  <dc:title>Implementacija jezika</dc:title>
</cp:coreProperties>
</file>