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F18-B746-413D-B653-6E0D0CECA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tate iff has  dot at end: I1, I2, I4, I7, I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 state has dot at end of start prod: I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if state has one reduce item, som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3BD-C1FB-44BF-AD5C-7241B545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B4E-9E8D-4A3C-B46A-6B6C849A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DBD-A6DD-4FA2-8196-95A4A1F7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FCC-AC21-4B8E-BC37-B0F6D130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F0F-F924-4AD7-AE42-CDCDDB63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937-71CE-42F4-9428-24ABCEEA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503-D600-4C8C-B609-56FE61B1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A02-ADB1-4242-818B-1B5E3150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28E-F59B-44A2-8620-33589B2D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73D-F7A9-4250-8B11-E4948BF2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56D-1965-4FBE-802F-E8922FBC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60D-6F9D-449A-ACA0-E1E301A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7B4A-A102-4980-B61E-3695866C341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ottom-up parsi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1A0-50BC-4578-8BCB-9927CD44FC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C5670-6322-488D-8751-718122295D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rimjerim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 stek se stavljaju tokeni i neterminalni simbol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 pars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nju, čitavo stanje se stavlja na ste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tanja čuva informaciju o “lijevom kontekstu”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šta je do određenog trenutka obrađen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šta je stavljeno na stek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e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 i reduciran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 na osnovu kojeg pravil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risti 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tabela akcija da odluči između shift i redu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risti 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 prel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a za određivanje novog stanj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5BD-5957-4DCC-80B6-B04E3D961D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C3021-A12B-41D4-8CBA-6EE3E10634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Glavn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tlja program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rtno stan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0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e stavlja na vrh stek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dato stan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t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a vrhu steka i sledeći ulazni toke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tion[St, a] == shift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ovo st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tion[St, a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Pozovi leksički analizator za sledeći tok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1…Xn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n sta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ja da bi odredili 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vrhu steka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ovo st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v = Goto[Su,Y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e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accept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spješan kra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error),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e može nastaviti parsiran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441-AEB0-4DD6-AD61-136BD0E9CF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EE2D8-03DF-4CF8-9147-B73686F812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143000"/>
          <a:ext cx="8686800" cy="5114880"/>
        </p:xfrm>
        <a:graphic>
          <a:graphicData uri="http://schemas.openxmlformats.org/drawingml/2006/table">
            <a:tbl>
              <a:tblPr/>
              <a:tblGrid>
                <a:gridCol w="1143000"/>
                <a:gridCol w="1062000"/>
                <a:gridCol w="1101600"/>
                <a:gridCol w="1101960"/>
                <a:gridCol w="1103400"/>
                <a:gridCol w="1117440"/>
                <a:gridCol w="955800"/>
                <a:gridCol w="1101600"/>
              </a:tblGrid>
              <a:tr h="444240">
                <a:tc rowSpan="2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anje na vrh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</a:t>
                      </a: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tek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Ac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Go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0"/>
            <a:ext cx="2210040" cy="1434600"/>
          </a:xfrm>
          <a:prstGeom prst="rect">
            <a:avLst/>
          </a:prstGeom>
          <a:solidFill>
            <a:srgbClr val="ffff99"/>
          </a:solidFill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EC6-1211-45D0-BC99-84793A8923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ADE3C-9B26-40B5-BAC1-9B986CF6FE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762120"/>
          <a:ext cx="8686800" cy="5748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4572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te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eobrađeni ul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kcija Pars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 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4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a stek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čitaj sledeći ulazni si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4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id, pop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a steka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  goto S2,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laz nepromijenjen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2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T, goto 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4 (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ledeći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4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id, goto 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2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T, goto S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6S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3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(E), goto 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1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E + T, goto S1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cce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191120" y="152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Ne treba reduce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; nije u S2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883-C18B-4FC8-8435-482D218697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5FDA1-0520-411E-9C79-077EDA9E80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rednosti LR parser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od LL tabela, pravilo se bira na osnovu jednog ulaznog smbola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U LR tabelama, postoji čitav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redistorij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arsir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li smo da ne treba reducirat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ogrešno vrijem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96D-F828-40C0-BB84-C0277761B0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2D0C0-3FCB-4A1B-B323-7B99F1CE16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Tipovi L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 (k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 (k)  -- Simple L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(k) – Lookahead L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 = # symbols lookahead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1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 ovom kurs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mo sa najprostijim slučaje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LR(0) pars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1B4-5BA2-4A4B-8620-C23FB73CFB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23BDA-ABC7-469F-94E0-15F1621EB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(0) pars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jednostavnij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manje tabe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dostac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m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a su prev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prosti za realne jezik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ju dobar primjer kako se grad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bel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ć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cije u drugi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k)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F61-A7CB-4B58-89C9-5A470C88D8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9602B-F5A5-4BD3-864B-005BFFDD0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(0) pars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i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ljuč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nje je prepoznavan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”-ov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z simbola kodiranih u stanje na vrhu steka i predstavlja desnu stranu pravila koje primjenjujemo kod redukc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(D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sna sentencijalna for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- Right sentential form)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 b C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vrhu stek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mam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 Y A b 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treba da “uhvate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čin p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znavanj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-ov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3D3-4CD8-4991-AF07-2C0EF4A982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DC6CA-0EDE-48BE-958D-16E4A4FFE2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u gramatik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, identif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kuju moguća stanja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St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obuhvata šta smo vidjeli i sve shiftove i reduce do određenog trenut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sanje stanja korišćenje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konfigura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 (itema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hvatanje prelazaka između stan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726-1F69-4FB6-A02D-008D084DB7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E90DC-76E4-407F-94A3-EE6D680E62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efi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i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iguracija je pravilo gramatike G sa tačkom na desnoj strani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YZ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gramati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iguracije su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Y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Z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čka predstavlja mjesto do kog je parser stigao u prepoznavanju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stek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  Reduce!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if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van   Za nastavak parsiranja očekujemo string koji se može izvesti 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EB0-0517-4B98-B35D-6729449036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16B75-B244-4522-8B2D-3ED76D5A07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ottom-up parsi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rtujemo od niza terminalnih simbo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blo gradimo od listova ka korijen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imjena produkcija ”unazad”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o smo dostigli startni simbol i kraj ulaznog niza, uspjeh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je uobič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j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ottom-up t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hni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2BA-B755-4466-995A-9235A48525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43FB4-F86D-4926-9134-BBC6B3D56D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(itemi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Z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tavljen na ste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nastavak parsiranja očekujemo string koji se može izvesti 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tj.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ekujemo da vidimo token iz skup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rst(Y)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kupa Follow(Y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rma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an nam je tok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av d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=&gt;* t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neko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 v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tpostavimo da 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|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ođe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.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da sledeće konfiguracije odgovaraju istom stanju parser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3F4-1107-49CF-82EB-FF17E052DA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F0DC0-078C-40C5-84F2-60A5029736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reiranje skupa 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v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konfiguracije u jedan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YZ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viti sve konfiguracije u jedan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ti sve druge ekvivalentne konfiguracije da bi postigli zatvorenost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closure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alg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ritam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a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sn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vaj skup predstavlja jedno stanje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nje u kome parser može biti prilikom obrade nekog stringa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5AA-A009-4E62-A59B-BCEDADA0B5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7701A-E224-41CB-B745-1DF9CC7D2F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elasci između sta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lazi iz jednog u drugo stanje na osnov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rađenog simbol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deliranje parsiranja kao konačnog automat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o stanj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skup konfiguracija) ima 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u na k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ju, tada je ono zav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no stan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grad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na osnovu ovog konačnog automat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743200"/>
            <a:ext cx="12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057400"/>
            <a:ext cx="6477120" cy="1191240"/>
            <a:chOff x="914400" y="2057400"/>
            <a:chExt cx="6477120" cy="1191240"/>
          </a:xfrm>
        </p:grpSpPr>
        <p:sp>
          <p:nvSpPr>
            <p:cNvPr id="100" name=""/>
            <p:cNvSpPr/>
            <p:nvPr/>
          </p:nvSpPr>
          <p:spPr>
            <a:xfrm>
              <a:off x="996840" y="2057400"/>
              <a:ext cx="2408400" cy="1191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6440" y="2057400"/>
              <a:ext cx="2408400" cy="1191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XY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w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23414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275-57B8-4BC3-B677-227AE7FD1B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DC224-14F1-4BB4-AAB6-E6138D0D0A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skup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tvore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etna konfigura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unimo g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tiku simbol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o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j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c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azni skup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gradim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od element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drediti zatvorenje (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sure) z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’ -&gt;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ime kompletiramo startno stanje parser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računava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 fu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ju da b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odredili sledeće st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 konfigura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8A4-A034-477D-AC9F-36A819E7FC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FDB23-F317-4452-A932-7AA2E6F4D7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čunavanje zatvorenja(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osur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u konfiguracij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skup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 terminalnim simbolom, kraj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nače, ako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ermin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im simbol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, tada za sve produkcije      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t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;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onoviti zatvorenje na svim dodatim konfiguracijama. Postupak se nastavlja sve dok ima novih elemenata u skupu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640-5D09-4674-A23E-A410C13911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639B6-28B8-406A-AF47-2E5BA53567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: closure(S’ 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7520" y="1496880"/>
            <a:ext cx="2522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0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0" y="1676520"/>
          <a:ext cx="3429000" cy="15523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685800" y="2133720"/>
            <a:ext cx="252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43200"/>
            <a:ext cx="32767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*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352680"/>
            <a:ext cx="2522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962520"/>
            <a:ext cx="396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 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4E3-8307-413E-BFF0-6EB90BAF4D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BA8E1-4F47-4A43-83F0-8DAF6CFE26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tabele prelaza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mora da zna u koje stanje prelazimo poslije shift-a ili reducir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i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bol X, defi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C’ =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Successor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C,X) 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d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svaku konfiguracij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bli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at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to C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raditi zatvoren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5105520"/>
            <a:ext cx="2286000" cy="459720"/>
            <a:chOff x="2971800" y="5105520"/>
            <a:chExt cx="2286000" cy="459720"/>
          </a:xfrm>
        </p:grpSpPr>
        <p:sp>
          <p:nvSpPr>
            <p:cNvPr id="118" name=""/>
            <p:cNvSpPr/>
            <p:nvPr/>
          </p:nvSpPr>
          <p:spPr>
            <a:xfrm>
              <a:off x="2971800" y="5105520"/>
              <a:ext cx="457200" cy="459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3080" y="5105520"/>
              <a:ext cx="504720" cy="459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/>
            <p:nvPr/>
          </p:nvCxnSpPr>
          <p:spPr>
            <a:xfrm>
              <a:off x="3429000" y="5486400"/>
              <a:ext cx="1286640" cy="10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121" name=""/>
            <p:cNvSpPr/>
            <p:nvPr/>
          </p:nvSpPr>
          <p:spPr>
            <a:xfrm>
              <a:off x="37339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EDA-9FEA-4DD3-9617-2546E19A5B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B36A9-9AE0-444E-A487-B876C705D9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uccessor(C,X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7880" y="1496880"/>
            <a:ext cx="7932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rm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“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mjeranje za simbol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”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 jednog skupa u dru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mjeriti tačku des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 X u svim konfiguracijama gdje je tačka bila pri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kloniti sve ostale konfigurac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(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čka je prije nekog drugog simbola koji nije X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viable prefixes only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računaj zatvorenje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osur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959-7D5A-4BFF-BB3B-B815C6514A9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27D22-E9A3-4B77-ADF8-332D073133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uccesso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0"/>
            <a:ext cx="791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33520"/>
            <a:ext cx="838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 = {S’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 *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 T 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 = Successor(C, “(“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{ F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) }  [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amo jedno pravilo s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ri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lose: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odajem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{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, 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*F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 dodajemo rekurzivn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*F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onov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 u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,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pa dodajemo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{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,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T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d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erminal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a završavamo s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erminal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a završavamo s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Fiks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tačka 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 = { F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) ,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,  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*F, 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d,  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T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562720" y="990720"/>
          <a:ext cx="3047760" cy="13716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09B-CF26-406F-AF60-1790DEBCA65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1AF22-9A04-458A-9FFB-DEFBDDF95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od sta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Generisanje familije svih sta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 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= closure{ S’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}.  F = {C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svaki s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k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svak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vo da s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ccessor(Ck, X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 praz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račun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uccessor(Ck, X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dod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navljati korak 2, dok god ima promjena u skupu F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18C-F5A3-4125-A1BF-7138505912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D0D85-C2DC-475C-A4D8-71457AB7E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op-down vs Bottom-up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ottom-up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izražajnija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op-dow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ottom-up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je teže napisati ručno, ali posto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yac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iso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generisan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pe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fikac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maksimalnu upotrebljivost YACC-a moraju se znati teorijske osno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LR pars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tu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bottom-up pars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i odlažu odluku koju produkciju primjeniti dok nam više podataka ne bude dostupno nego kod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op-dow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348-6904-460D-9DB6-1613211FE1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8EEF1-7868-43FA-A2F7-C0DBA66C90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22860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kupovi konfiguracij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im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666880"/>
            <a:ext cx="2209680" cy="17697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0) E’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670572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Skup konfiguracija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ucce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0: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' –&gt; •E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E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' –&gt; E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’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prav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•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T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2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(•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E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: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id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4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+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(E•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•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7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(E)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3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8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+T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1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481-DF9F-4BD2-B67E-B975DB01295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DE10D-D8A4-4413-8734-196BDB9D8C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tanja i prelasci kao graf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08320"/>
            <a:ext cx="1905120" cy="195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55520"/>
              <a:gd name="textAreaBottom" fmla="*/ 1862640 h 195552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'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46440" y="1035000"/>
            <a:ext cx="186984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'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714920"/>
            <a:ext cx="1905120" cy="195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55520"/>
              <a:gd name="textAreaBottom" fmla="*/ 1862640 h 195552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602080"/>
            <a:ext cx="137160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1052640"/>
            <a:ext cx="184932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2266920"/>
            <a:ext cx="180324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+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3535200"/>
            <a:ext cx="149400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E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69712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5" idx="3"/>
            <a:endCxn id="137" idx="1"/>
          </p:cNvCxnSpPr>
          <p:nvPr/>
        </p:nvCxnSpPr>
        <p:spPr>
          <a:xfrm>
            <a:off x="2133720" y="3285720"/>
            <a:ext cx="838800" cy="2407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5" idx="0"/>
            <a:endCxn id="136" idx="1"/>
          </p:cNvCxnSpPr>
          <p:nvPr/>
        </p:nvCxnSpPr>
        <p:spPr>
          <a:xfrm flipH="1" flipV="1" rot="5400000">
            <a:off x="1087920" y="1549800"/>
            <a:ext cx="851760" cy="66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46" idx="1"/>
          </p:cNvCxnSpPr>
          <p:nvPr/>
        </p:nvCxnSpPr>
        <p:spPr>
          <a:xfrm flipV="1">
            <a:off x="4876920" y="4986000"/>
            <a:ext cx="776880" cy="707040"/>
          </a:xfrm>
          <a:prstGeom prst="curvedConnector5">
            <a:avLst>
              <a:gd name="adj1" fmla="val 49884"/>
              <a:gd name="adj2" fmla="val 49974"/>
              <a:gd name="adj3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6000" y="435132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328760"/>
            <a:ext cx="59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132876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28480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6891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320" y="4711680"/>
            <a:ext cx="33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680" y="19209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9960" y="60948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0080" y="43275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21099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76800"/>
            <a:ext cx="579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81600" y="776160"/>
            <a:ext cx="579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12408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36" idx="3"/>
            <a:endCxn id="158" idx="2"/>
          </p:cNvCxnSpPr>
          <p:nvPr/>
        </p:nvCxnSpPr>
        <p:spPr>
          <a:xfrm flipV="1">
            <a:off x="3716280" y="1179000"/>
            <a:ext cx="145656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5" idx="3"/>
            <a:endCxn id="138" idx="1"/>
          </p:cNvCxnSpPr>
          <p:nvPr/>
        </p:nvCxnSpPr>
        <p:spPr>
          <a:xfrm flipV="1">
            <a:off x="2133360" y="2839320"/>
            <a:ext cx="114372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653080" y="4564080"/>
            <a:ext cx="179712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7880" y="5257800"/>
            <a:ext cx="126684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–&gt;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35" idx="2"/>
            <a:endCxn id="162" idx="0"/>
          </p:cNvCxnSpPr>
          <p:nvPr/>
        </p:nvCxnSpPr>
        <p:spPr>
          <a:xfrm flipH="1">
            <a:off x="1041120" y="4262040"/>
            <a:ext cx="140400" cy="9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800600" y="32767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114800"/>
            <a:ext cx="579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176040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37" idx="3"/>
            <a:endCxn id="137" idx="2"/>
          </p:cNvCxnSpPr>
          <p:nvPr/>
        </p:nvCxnSpPr>
        <p:spPr>
          <a:xfrm flipH="1">
            <a:off x="3924000" y="5692680"/>
            <a:ext cx="953280" cy="977040"/>
          </a:xfrm>
          <a:prstGeom prst="curvedConnector5">
            <a:avLst>
              <a:gd name="adj1" fmla="val -23989"/>
              <a:gd name="adj2" fmla="val 61702"/>
              <a:gd name="adj3" fmla="val -2398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5181480" y="6221520"/>
            <a:ext cx="3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endCxn id="137" idx="0"/>
          </p:cNvCxnSpPr>
          <p:nvPr/>
        </p:nvCxnSpPr>
        <p:spPr>
          <a:xfrm flipH="1">
            <a:off x="3924000" y="2246040"/>
            <a:ext cx="1650240" cy="246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39" idx="1"/>
            <a:endCxn id="138" idx="0"/>
          </p:cNvCxnSpPr>
          <p:nvPr/>
        </p:nvCxnSpPr>
        <p:spPr>
          <a:xfrm flipH="1">
            <a:off x="3962160" y="1661760"/>
            <a:ext cx="125784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905120" y="601992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8" idx="2"/>
            <a:endCxn id="137" idx="0"/>
          </p:cNvCxnSpPr>
          <p:nvPr/>
        </p:nvCxnSpPr>
        <p:spPr>
          <a:xfrm flipH="1">
            <a:off x="3924000" y="3076200"/>
            <a:ext cx="388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581280" y="363204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39" idx="2"/>
            <a:endCxn id="146" idx="0"/>
          </p:cNvCxnSpPr>
          <p:nvPr/>
        </p:nvCxnSpPr>
        <p:spPr>
          <a:xfrm>
            <a:off x="6144840" y="2208240"/>
            <a:ext cx="407160" cy="235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24360" y="9907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2986200"/>
            <a:ext cx="5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456876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37" idx="2"/>
            <a:endCxn id="162" idx="3"/>
          </p:cNvCxnSpPr>
          <p:nvPr/>
        </p:nvCxnSpPr>
        <p:spPr>
          <a:xfrm flipV="1" rot="16200000">
            <a:off x="2212200" y="4956840"/>
            <a:ext cx="1173960" cy="2250360"/>
          </a:xfrm>
          <a:prstGeom prst="curvedConnector5">
            <a:avLst>
              <a:gd name="adj1" fmla="val -19478"/>
              <a:gd name="adj2" fmla="val 35552"/>
              <a:gd name="adj3" fmla="val -194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39" idx="3"/>
            <a:endCxn id="140" idx="0"/>
          </p:cNvCxnSpPr>
          <p:nvPr/>
        </p:nvCxnSpPr>
        <p:spPr>
          <a:xfrm>
            <a:off x="7068960" y="1633320"/>
            <a:ext cx="920160" cy="63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6" idx="3"/>
            <a:endCxn id="141" idx="2"/>
          </p:cNvCxnSpPr>
          <p:nvPr/>
        </p:nvCxnSpPr>
        <p:spPr>
          <a:xfrm flipV="1">
            <a:off x="7449840" y="3983760"/>
            <a:ext cx="765720" cy="978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172-EABF-423E-96FE-A8AC1C2E0E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0E344-66A2-4877-AB44-B5AD6A6CC0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od skupov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onstruisat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 = {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... 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}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le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u skupova konfiguracija z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'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nje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 odre</a:t>
            </a:r>
            <a:r>
              <a:rPr b="0" lang="sl-SI" sz="2400" spc="-1" strike="noStrike">
                <a:solidFill>
                  <a:srgbClr val="000099"/>
                </a:solidFill>
                <a:latin typeface="Comic Sans MS"/>
              </a:rPr>
              <a:t>đ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eno s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i.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kcija za stanje i 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, tad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a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redukci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    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svaki ulazni ni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(A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i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'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' –&gt; S•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, tad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$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ccep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 –&gt;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•a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ccessor(Ii, a) = Ij,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a] shift j (a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al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abela prelazaka (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oto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tan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 za sve neterminalne simbole 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uccessor(Ii, A) = Ij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ad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ot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[i, A] = j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va polja koja nisu dobijena primjenom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u grešk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rtno stanje je zatvorenje skupa koji sadrži pravilo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' –&gt; •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BBA-D7A6-49FE-A3E9-DBD7205C69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833C3-8A9C-43CD-B88D-5DD5C684FD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načenje operac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ing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elaz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u novo stan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andl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klanjamo ga s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ek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Pop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 stek stavljamo odgovarajući neterminalni simbol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ccepting: Re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 po pravil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praznim ulazo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rror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azno mjesto u tabeli ( nema načina da se izvede shift ili reduce)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AA1-6BD5-41D1-A00F-56D053C9FC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017E8-6720-4CB6-A474-BD233CE0E1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 pogrešnog ulaz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762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Ulaz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ing: id +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2280" y="1371600"/>
          <a:ext cx="8610480" cy="4952880"/>
        </p:xfrm>
        <a:graphic>
          <a:graphicData uri="http://schemas.openxmlformats.org/drawingml/2006/table">
            <a:tbl>
              <a:tblPr/>
              <a:tblGrid>
                <a:gridCol w="1448280"/>
                <a:gridCol w="2333880"/>
                <a:gridCol w="4828320"/>
              </a:tblGrid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Stek st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Neobrađeni ula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kcija p</a:t>
                      </a:r>
                      <a:r>
                        <a:rPr b="0" lang="en-U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rser</a:t>
                      </a: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 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S4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 stek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, </a:t>
                      </a:r>
                      <a:br>
                        <a:rPr sz="2400"/>
                      </a:b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čitanje sledećeg tok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educe 4) T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id, pop S4, Goto 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educe 2)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T, pop S2, Goto 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S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1S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ema Action [S5, +]  Error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629400" y="152280"/>
            <a:ext cx="2362320" cy="17697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0) E’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AD1-0433-4813-9614-43DC5721BFC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539BB-248C-4388-88EE-F4848C5CB9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ma man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a 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7880" y="1496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1447920"/>
          <a:ext cx="3276720" cy="25272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= T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343400" y="1447920"/>
            <a:ext cx="4343400" cy="1752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5: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= T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/reduc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3352680"/>
            <a:ext cx="4343400" cy="1295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: 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T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…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Reduce/Reduc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0292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ma sve informacije potrebne da se odlučimo između shift i reduc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801-394C-4E5B-A25E-F12D42972AF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88883-221F-4D29-85BE-756E9B4080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meha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- 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ottom-up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o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 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e (konfiguracije)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rodu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Postavljamo tačku na sve moguće pozicij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 skupove 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, koje predstavljaju stanja parser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Skupovi zatvoreni u odnosu na ekvivalencij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laske iz funkcije      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ccessor (state, symbol)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Gradimo tabel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cija i prelaza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implementir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-reduce parser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[st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ja i prelas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]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ao konačni automa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AD1-829C-4013-B488-ECC48BEF8B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88682-9422-40A1-A2CC-A20FE54EAA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nfiguracija reprezentuje koliko daleko je 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ser dospio u prepoznavanju desne strane nekog pravila gramtaik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 konfiguracija kombinuje različite putanje koje je parser  mogao imati do tog trenut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načni automat je mašina čije računanje predstavlja željeni pars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g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ke su najlakše za shvatanje, ali nemaju realnih primj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4A1-B71B-487D-9BFC-159B653EA8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D6340-C88E-4752-B41D-2D44A2AFD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778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7880" y="1496880"/>
            <a:ext cx="77803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Želimo moćne gramatike, čije tabele neće biti ogromnih razm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3526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š cilj: izabrati dovoljno moćnu gramatiku za koju tabela neće biti veli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za čiju konstrukciju nećemo potrošiti previše vrem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BEC-490B-4776-954A-8BC6ECBE7B3A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870DF-192F-4E47-A6EF-F13E539579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imple LR(1)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  SLR(1)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d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0) st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je ne smije sadrž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stovremen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 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dv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aki 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mplet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item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čka na kra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ra biti u posebnom stan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;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će uvijek primjeniti redukciju u tom stan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viri unaprijed u ulazni niz da se provjeri da li je redukcija pogod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je redukcije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YZ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vjeriti da li je sledeći token u skup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(A).  Redu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rati samo ako to jeste slučaj, inače uradi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D47-8D1A-4BA8-8455-23722849EF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B9AB7-9983-40BC-AFA6-8929CC73C2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riste se kontekstno-slobodne gramatik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risti se stek za čuvanje obrađenih tokena i pravila koja su već primjenjen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toku parsira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vi dio ul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jelimično obrađ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esni dio ulaza je potpuno neobrađ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foo (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) { return (int) n+1 ;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hifted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jelimično obrađe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obrađe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omjer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) sledeći ulazni to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 na stek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ada vrh steka sadrži desnu stranu neke produkcije, zamijeniti je sa odgovarajućom lijevom stranom (redukcija)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9C6-1806-4FC3-BB7F-A607A965F9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4BD9C-A9E9-483F-B6F6-92F8C6A831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onstruisat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F = {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,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...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}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kupove LR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0) item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. St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i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cija za dato stanje 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•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Ii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, tada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tion[i,a] reduce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za svako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a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iz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Follow(A)  (A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nije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S')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b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S' –&gt; S•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 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i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, tad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tion[i,$]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cept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c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•a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Ii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uccessor(Ii , a) = Ij, t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Action[i,a]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 =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hift j (a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mora biti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terminal)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3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relazi za stan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e konstruišu za sve neterminale primjenom pravila: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uccessor(Ii, A) = Ij, t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Goto [i, A] = j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va polja koja nisu dobijena primjenom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u grešk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5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tartno stanje je zatvorenje skupa koji sadrži pravilo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' –&gt; •S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236-8001-4131-8FE2-A6324EEFF7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296E5-DE80-45F4-AA66-D6541F008E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vojstv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dina razlika u odnosu na LR(0) je različit način definisanja tabele akci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 SLR(1)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, tada nema nejasnoća, ali obrnuto ne važ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e može imati istovreme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reduce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s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ovi disjunkt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04E-9246-4BAA-A40A-F7665ACED5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21542-39CD-4F62-A61A-6867AA9AC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uccessor (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id)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di 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sultu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(T) = {  +  )  ]  $  }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a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+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]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$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[E] 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ostalim slučajevi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j. z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[ 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304920"/>
            <a:ext cx="2209680" cy="1671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' –&gt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–&gt; E + T |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–&gt; (E) |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| id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219320"/>
            <a:ext cx="2133360" cy="249660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96600"/>
              <a:gd name="textAreaBottom" fmla="*/ 2392560 h 2496600"/>
            </a:gdLst>
            <a:ahLst/>
            <a:rect l="textAreaLeft" t="textAreaTop" r="textAreaRight" b="textAreaBottom"/>
            <a:pathLst>
              <a:path w="21600" h="25277">
                <a:moveTo>
                  <a:pt x="3600" y="0"/>
                </a:moveTo>
                <a:arcTo wR="3600" hR="3600" stAng="16200000" swAng="-5400000"/>
                <a:lnTo>
                  <a:pt x="0" y="21677"/>
                </a:lnTo>
                <a:arcTo wR="3600" hR="3600" stAng="10800000" swAng="-5400000"/>
                <a:lnTo>
                  <a:pt x="18000" y="25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'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057400"/>
            <a:ext cx="216540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666520" y="2438280"/>
            <a:ext cx="1143720" cy="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819520" y="25146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494-8460-44CF-963F-E5696A9C8E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BF8E5-4D2E-4B3D-A4A1-1646C93A0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056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Dva komplet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LR(0) ite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stoji reduce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R(0) 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c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llow(T) = { + ) $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llow(V) = { =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va 2 skupa su disj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nktn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a nema 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vojena polja u tabeli akci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8600" y="457200"/>
            <a:ext cx="4800600" cy="2862360"/>
            <a:chOff x="228600" y="457200"/>
            <a:chExt cx="4800600" cy="2862360"/>
          </a:xfrm>
        </p:grpSpPr>
        <p:sp>
          <p:nvSpPr>
            <p:cNvPr id="219" name=""/>
            <p:cNvSpPr/>
            <p:nvPr/>
          </p:nvSpPr>
          <p:spPr>
            <a:xfrm>
              <a:off x="228600" y="457200"/>
              <a:ext cx="2133720" cy="2862360"/>
            </a:xfrm>
            <a:custGeom>
              <a:avLst/>
              <a:gdLst>
                <a:gd name="textAreaLeft" fmla="*/ 104040 w 2133720"/>
                <a:gd name="textAreaRight" fmla="*/ 2029680 w 2133720"/>
                <a:gd name="textAreaTop" fmla="*/ 104040 h 2862360"/>
                <a:gd name="textAreaBottom" fmla="*/ 2758320 h 2862360"/>
              </a:gdLst>
              <a:ahLst/>
              <a:rect l="textAreaLeft" t="textAreaTop" r="textAreaRight" b="textAreaBottom"/>
              <a:pathLst>
                <a:path w="21600" h="28975">
                  <a:moveTo>
                    <a:pt x="3600" y="0"/>
                  </a:moveTo>
                  <a:arcTo wR="3600" hR="3600" stAng="16200000" swAng="-5400000"/>
                  <a:lnTo>
                    <a:pt x="0" y="25375"/>
                  </a:lnTo>
                  <a:arcTo wR="3600" hR="3600" stAng="10800000" swAng="-5400000"/>
                  <a:lnTo>
                    <a:pt x="18000" y="28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'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 +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V =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(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5320" y="1295280"/>
              <a:ext cx="1523880" cy="914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i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 -&gt; i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9" idx="3"/>
              <a:endCxn id="220" idx="1"/>
            </p:cNvCxnSpPr>
            <p:nvPr/>
          </p:nvCxnSpPr>
          <p:spPr>
            <a:xfrm flipV="1">
              <a:off x="2361960" y="1750320"/>
              <a:ext cx="1143720" cy="136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2590920" y="1447560"/>
              <a:ext cx="5331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248520" y="685800"/>
            <a:ext cx="2209680" cy="2075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' –&gt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–&gt; E + T |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| V 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–&gt; (E) |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V -&gt;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1CE-B3E1-4191-86D6-244B58754D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0FE3B-5587-4BDC-ADB1-DE53ACCED7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fi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i ite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v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skup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a ter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al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o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 postoji kompleta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tem B -&gt; w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tom skupu tako da 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ollow(B).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ab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o znači da nem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bilo kom stanju, tj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a funkcija 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uccessor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z datog skupa ili prelazi u novo stanje ili reducira (ne oboje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a dva kompletn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-&gt; u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 -&gt; u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skup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 Follow s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upovi moraju biti disjunktn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Follow(A)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ollow(B)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razan skup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)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o znači da neće postojati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bilo kom stanju, tj. ako postoji više od jednog neterminala u ovom skupu koji možemo reducirati, na jedinstven način možemo odrediti koji reducuramo na osnovu samo jednog tokena "unaprijed" (lookahaed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LR(1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8FE-5360-4EC8-94BA-68775FE32F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7F3BE-20DF-443C-8786-706BFEF5C9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koji ni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0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'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5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id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 =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6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L =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1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' –&gt; S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7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*R•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2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L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= 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8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L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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9: S –&gt; L = R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L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3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R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4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*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152280"/>
            <a:ext cx="1447920" cy="21049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L 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–&gt; 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–&gt;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–&gt; 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114800"/>
            <a:ext cx="6019560" cy="2526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bajte sa ulaz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id = i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obija 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ft-reduce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ji nije razriješ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upovim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našanje 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e razliku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smo vidjel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kolik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o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an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Ign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san je dio ko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sta parsiran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296-EDA7-4831-B3B3-20E9051184F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ED33-F388-4927-BEDE-A08341EB86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Nedostaci S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 više informacija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0)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li ne i kompletnu informaci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dalje može prepoznati pogrešan handle ili prevremeno uraditi redukcij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elazak 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0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avljenje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pecifičnije informacije o prelasku između stanja, pa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napređiv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reiranjem specifičnije istorije stanja na vrhu ste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910-3CA3-4FBB-84FD-B7A908EBA7E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FA794-0504-49B4-A5E0-3465E8E2C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i nose v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e informacija nego kod LR(0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&gt; X1...Xi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i+1...Xj  , to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rminal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ni simbol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ookahead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Znače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Stanj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X1…Xi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 su već na stek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Očekujemo da naiđu stanj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Xi+1...Xj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koja treba staviti na stek i onda reducirati, al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samo ak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oken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koji slijedi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Xj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k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može bit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$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FDE-7197-4C8E-8832-D0067B30D5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EF51C-9C3E-4F44-9D11-8477096B0C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ite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zdijelit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(A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ojedinačne slučajev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žemo grupisati item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o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o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-&gt;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a/b/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je sledeći token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”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{ a, b, c }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Follow(A)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6FD-DC09-4E8A-8D34-05E79A08D2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5B0B9-DA05-4ACD-A513-17F054A258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kupovi item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š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še skupova neg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tvorenje (c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osure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i ite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[A -&gt;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]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svako pravil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 -&gt;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 svak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rminal b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irs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takav d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B -&gt;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e pripad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,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odat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B -&gt;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odaju se samo itemi sa ispravnim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okahead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m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lje se koris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successor fu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ja za izračunav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 prelaska i sledećih ite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DA0-5A0F-4383-96B6-C335B3F983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FB55B-C737-4EE5-9C1B-98C5777B25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066680"/>
          <a:ext cx="8305920" cy="5295960"/>
        </p:xfrm>
        <a:graphic>
          <a:graphicData uri="http://schemas.openxmlformats.org/drawingml/2006/table">
            <a:tbl>
              <a:tblPr/>
              <a:tblGrid>
                <a:gridCol w="1139760"/>
                <a:gridCol w="1709640"/>
                <a:gridCol w="545652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c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li dio ula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c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id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zagradu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id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T –&gt; 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pop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snu stranu pravil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ijevu stranu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,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laz nepromijenjen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E –&gt; 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radu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T –&gt; (E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E –&gt; 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S –&gt; 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spješan kraj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572000" y="0"/>
            <a:ext cx="2133720" cy="1434600"/>
          </a:xfrm>
          <a:prstGeom prst="rect">
            <a:avLst/>
          </a:prstGeom>
          <a:solidFill>
            <a:srgbClr val="ffff99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m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atik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–&gt; T |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id |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04920"/>
            <a:ext cx="1905120" cy="764280"/>
          </a:xfrm>
          <a:prstGeom prst="rect">
            <a:avLst/>
          </a:prstGeom>
          <a:solidFill>
            <a:srgbClr val="ffff99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Ulazni n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(i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A58-7C63-4111-BFFC-D78FA3D6FC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6D1DD-EA39-4C19-946B-713DDE76FE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successor fun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[A -&gt;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a],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Doda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 skup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ccessor(I,X)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 zatvorenje skup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lično ka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ccessor fu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R(0)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i propagiram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okahead token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svak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rtni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0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nađemo njegovo zatvore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ve skupove koji su neprazni sljedbenic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(succesorrs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sr-Latn-C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 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F2E-D682-44EC-B909-5D933EA05E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5C42B-8873-4320-996D-3FE32A14BF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ja tabele ak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]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a]  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 pravil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A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'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[S' -&gt; 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$]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 ta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$]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ccept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ucc(Ii, a) = Ij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a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hift j (a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ra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ja tabele prelazak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ot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svako st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 svak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ucc(Ii, A) = Ij, 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oto [i, A] = 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8DA-1268-4098-91D5-20B29C74F2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74848-BB03-46AF-A962-1655E74C67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liko stanja z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?  LR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523880"/>
            <a:ext cx="243864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0: S'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1: S' -&gt; S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2: S -&gt; 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3: X -&gt;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/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4: X -&gt; 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/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5: S -&gt; X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1523880"/>
            <a:ext cx="26668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6: X -&gt;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$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7: X -&gt; 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8: X -&gt; a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9: X -&gt; a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1752480"/>
            <a:ext cx="1828800" cy="1671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)  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 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)  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  X  –&gt;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0384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1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4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-&gt; b je kompleti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2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6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a obrađujem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7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a obrađujemo završn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9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plet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ranje pravil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-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5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plet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ran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-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52F-4A7E-41AE-8BE4-7BD255E9578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A8B2C-664B-424B-A5F5-44C15BB860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brzo rast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one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alno sa veličinom pravi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že li se zadržati moć koju dobijamo pr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 -&gt; LR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bez rasta tabel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LR</a:t>
            </a:r>
            <a:r>
              <a:rPr b="0" lang="sr-Latn-CS" sz="3200" spc="-1" strike="noStrike">
                <a:solidFill>
                  <a:srgbClr val="3333cc"/>
                </a:solidFill>
                <a:latin typeface="Comic Sans MS"/>
              </a:rPr>
              <a:t> (LookAhead LR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preagresivno razdvojena da bi se dobil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ti spajanje skupova koji su 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skor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dentič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toji tri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ko izvesti spajanje da ne dođe 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duce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t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5D4-C8E9-4D90-9531-C091FF463E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E2F4D-32E3-495C-9401-CC65DB137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angling ‘else’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i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685800"/>
            <a:ext cx="83822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i potpun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k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generiš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aku konstrukciju programskih jez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 els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djet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“v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able prefix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“if E then if E then 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ada čit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el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-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 pravilom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 može se ukloniti nejasnoća “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a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Može se u tabeli podesiti tako da se prisilno odradi i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redu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rogramski jezik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C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- uvije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shift 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za poslednje 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l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Uvođenje delimiter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(à la Ad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ili VB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A5A-739C-43D2-B1FC-CBB326CF6B0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36E52-9B1A-47F6-B66B-47099A5255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3800" spc="-1" strike="noStrike">
                <a:solidFill>
                  <a:srgbClr val="000099"/>
                </a:solidFill>
                <a:latin typeface="Comic Sans MS"/>
              </a:rPr>
              <a:t>angling-else</a:t>
            </a:r>
            <a:endParaRPr b="0" lang="en-US" sz="3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838080"/>
            <a:ext cx="3809880" cy="2418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ood code, good ind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finish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error_pending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_error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838080"/>
            <a:ext cx="3809880" cy="2418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ood code, bad ind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finish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error_pending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_done() /* oop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3429000"/>
            <a:ext cx="3733560" cy="30916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limiters can disambigu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clean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error_pending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_error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6576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ravoučen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 kreirajte konstrukcije u PJ koje morate prisilno rješavati u tabe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rist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R gra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ike ako je moguć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78D-4C5C-4D1C-AF81-0F20830FEB78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3C6FC-42FD-4016-B828-BB00E394C6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u osobine g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parsera napravljenih od tih g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ne jez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langs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langs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CF lang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zi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r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postoji nek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r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) 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(G)=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(L=L(G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) 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 znači da jezik L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.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zik može biti generisan preko više gramatika, od kojih su neke regularne, neke LR a neke CF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FC8-6BAD-47C2-B845-49602AB571DE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0930F-CEA1-433E-8700-862EAC2DFD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c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G LR(0)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= {S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aAb, 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bBa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B 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} 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ce /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nfl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!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R(0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đ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dimo da je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Follow(A) = Follow(B) = { a, b }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su disjunktni pa gramatika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228600"/>
            <a:ext cx="2057400" cy="2316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a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b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6C1-323A-4B6A-8464-C3A184F2B3D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EA1A5-82D6-485C-A362-93BFF99551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c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 LR(0)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= {S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aAb, 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bBa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B 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} 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ce /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lik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!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R(0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LR(1)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đ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dimo d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Follow(A) = Follow(B) = { a, b }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su disjunktn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Gramatik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jezik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 regular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= {ab, ba}   Reg Expr = ( ab | ba 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228600"/>
            <a:ext cx="2057400" cy="2316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a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b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952880"/>
            <a:ext cx="2057400" cy="1418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D1B-5288-4FBC-A664-8911AD58EAC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F8A7E-AE07-476F-A310-2027513004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nd-of-input oznaka $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nje I1 u grafu na slajdu 29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o ne dolazi d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an kompletan ite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 Reduce E -&gt; E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a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mple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:  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 -&gt; E’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u stvar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 -&gt; E’ $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ompletan (završni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 E -&gt; E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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 uvijek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pecijalni sluča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uce E -&gt; E’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na ulaz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na ulaz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71C-120F-414A-A506-CA987583BD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FC9D7-6909-46DB-9714-A0ACB65326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– glavni program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ija (Reduce)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postoji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sadržaj stek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q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za neko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(q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že biti praz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nda reduciraj stek n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qA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e naziva “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l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poznavan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d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va je ključ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!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Accept: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je A startno stanje i i ulaz je praz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hif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ne možemo odraditi redukciju i postoje neobrađeni tokeni, prebaciti jedan token iz ulaznog niza na ste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rror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e ne može uraditi ni shift ni reduce, došlo je do greš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E7D-FD87-481E-B7C4-5FE6F1ED38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D03C4-C0FD-40B2-BD1E-78F25DD4E0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685800"/>
          <a:ext cx="8305920" cy="5942160"/>
        </p:xfrm>
        <a:graphic>
          <a:graphicData uri="http://schemas.openxmlformats.org/drawingml/2006/table">
            <a:tbl>
              <a:tblPr/>
              <a:tblGrid>
                <a:gridCol w="1254240"/>
                <a:gridCol w="2036520"/>
                <a:gridCol w="501516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rse Stac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brađeni dio ulaz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k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id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+ id) 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(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+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+T;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(Ignore: E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)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S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ce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400800" y="304920"/>
          <a:ext cx="2743200" cy="22082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 –&gt; T  |  E + 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 –&gt; id |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laz: (id + i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866-97D7-45EC-92E6-82FA1C9F62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91457-9D6D-40A5-99AC-D466514298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880" y="762120"/>
            <a:ext cx="7780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ft-to-right input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ghtmost derivation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(učitavan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ulaza slijeva udes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desna deriva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arsiranje zasnovano na tab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ar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ran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a osnov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-re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že obraditi gramatike koje nisu 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(1)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(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primjer, sa rekurzij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gu se obraditi skoro sve strukture programskih jezika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FG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971-FAB4-4595-AC9F-D374FD159C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191C7-8A49-4DA4-BDFB-E06463122A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rukture potrebne za pars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k stan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{s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bela akcija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 tab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ction[s,a];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svako polje tabele sadrž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i jednu redukc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i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j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u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 ili prelazak u stanje ili grešku ili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“accept”</a:t>
            </a: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bela prelaza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oto tab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oto[s,X]; X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s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vako polje sadrži ili oznaku stanja ili grešku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A37-69BE-4A5C-8E85-DC614CBFE8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8E1E7-66CF-4DF1-AB6F-3DB90D6E0C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 Šuković</cp:lastModifiedBy>
  <dcterms:modified xsi:type="dcterms:W3CDTF">2007-10-02T16:40:15Z</dcterms:modified>
  <cp:revision>1595</cp:revision>
  <dc:subject/>
  <dc:title>Welcome to CS143</dc:title>
</cp:coreProperties>
</file>