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1937-8A0B-4A88-A9D4-5DCA092D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E86-6CC2-48A5-A56F-90194948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F46-D3A6-4789-AF68-CA8F5873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A17-3701-4B86-8F47-65EBDD92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C4F-42D0-4A68-ACC8-A09E7376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E86D-97F7-415E-8A39-9BEE5543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E6F8-A738-464F-8DAC-F72341A4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5787-E47A-4FFB-A492-2E9FC865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197B-03BC-4192-98DF-D022BDC3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AE3-ED20-4A4B-93AB-D5FB95AA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9A49-1F76-4CF3-9004-7DC6314C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1A9-A201-4AC9-8039-172D620A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55272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2D18-59CB-494C-9F58-1FDA977281B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Međuprogramska reprezentacij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eđuprogramska reprezentacija (intermediate representation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ada se kreira apstraktno sintaksno stablo (AST), posjedujemo dovoljno informacija za otpočinjanje generisanja koda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evođenje AST u M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ptimizacija međuprogramskog koda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nerisanje koda od M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1E5-D4A6-40C9-BAAD-94B56FA4F7D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BF7A7-1361-43E1-A9C8-72E549E824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AST kao MP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ST (Abstract Syntax Tree) je oblik M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pstraktniji od drveta pasriranj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3376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620120" cy="463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130A-0386-4E8D-9AF6-FE55A9D7ED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35FBE-FFC8-4678-8CE2-DEA1CBA5F0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rimjer AST-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unction: PROCEDURE ident ( params ) bod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{ $$ = MakeFunctionNode($2, $4, $6); }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unction_list: function_list fun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{ $$ = $1; $1-&gt;AppendNode($2); }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stant : int_consta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{ $$ = MakeIntConstantNode($1); }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AD6-CFB3-4171-A45D-6911C55837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DB2E2-7232-4C2D-B04A-DAC6A6BFDF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Od drveta do koda: primje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rvo parsiranja za aritmetičke izraze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609480" y="914400"/>
            <a:ext cx="9753480" cy="4041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4920" y="5334120"/>
            <a:ext cx="8458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eki čvorovi su nebitni za izračunavanje(npr. expr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variable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76AA-A7E3-48C7-B6F6-6F3F070B563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CF25B-B200-4E0C-AA9A-F249A5ED89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Od drveta do koda: primje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ST za isti aritmetički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zraz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ao generisati kod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za ovo drvo?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oristi se AST kao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PR, i odrađujemo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ranslaciju u rutinama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oje obilaze drvo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utine obilaska drveta i generisanja koda (Tree-walk code-gen routines 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869080" y="1759680"/>
            <a:ext cx="2283120" cy="2082600"/>
            <a:chOff x="5869080" y="1759680"/>
            <a:chExt cx="2283120" cy="2082600"/>
          </a:xfrm>
        </p:grpSpPr>
        <p:sp>
          <p:nvSpPr>
            <p:cNvPr id="107" name=""/>
            <p:cNvSpPr/>
            <p:nvPr/>
          </p:nvSpPr>
          <p:spPr>
            <a:xfrm>
              <a:off x="6474960" y="1759680"/>
              <a:ext cx="38808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869080" y="2453400"/>
              <a:ext cx="1568160" cy="596880"/>
              <a:chOff x="5869080" y="2453400"/>
              <a:chExt cx="1568160" cy="5968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69080" y="2529720"/>
                <a:ext cx="378720" cy="520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117920" y="2453400"/>
                <a:ext cx="319320" cy="520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6480360" y="3321720"/>
              <a:ext cx="3787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93280" y="3321720"/>
              <a:ext cx="3589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"/>
            <p:cNvCxnSpPr>
              <a:stCxn id="107" idx="2"/>
              <a:endCxn id="109" idx="0"/>
            </p:cNvCxnSpPr>
            <p:nvPr/>
          </p:nvCxnSpPr>
          <p:spPr>
            <a:xfrm flipH="1">
              <a:off x="6058440" y="2295000"/>
              <a:ext cx="610200" cy="2199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14" name=""/>
            <p:cNvCxnSpPr>
              <a:stCxn id="107" idx="2"/>
              <a:endCxn id="110" idx="0"/>
            </p:cNvCxnSpPr>
            <p:nvPr/>
          </p:nvCxnSpPr>
          <p:spPr>
            <a:xfrm>
              <a:off x="6668640" y="2295000"/>
              <a:ext cx="610560" cy="143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15" name=""/>
            <p:cNvCxnSpPr>
              <a:stCxn id="110" idx="2"/>
              <a:endCxn id="112" idx="0"/>
            </p:cNvCxnSpPr>
            <p:nvPr/>
          </p:nvCxnSpPr>
          <p:spPr>
            <a:xfrm>
              <a:off x="7278120" y="2989080"/>
              <a:ext cx="695520" cy="317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16" name=""/>
            <p:cNvCxnSpPr>
              <a:stCxn id="110" idx="2"/>
              <a:endCxn id="111" idx="0"/>
            </p:cNvCxnSpPr>
            <p:nvPr/>
          </p:nvCxnSpPr>
          <p:spPr>
            <a:xfrm flipH="1">
              <a:off x="6669720" y="2989080"/>
              <a:ext cx="608760" cy="317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3C99-9D52-44C7-9FF5-9C823A312BB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473F6-EA41-4243-9877-4CF7C5E1C7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Rutine obilaska drvet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6108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void GenerateCode(tree t, int resultRegNum) 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{ if (IsArithmeticOp(t-&gt;label)) {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GenerateCode(t-&gt;left, resultRegNum);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GenerateCode(t-&gt;right, resultRegNum + 1);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GenerateArithmeticOp(t-&gt;label,    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resultRegNum, resultRegNum + 1);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} else {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GenerateLoad(t-&gt;label, resultRegNum);  } }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bool IsArithmeticOp(char ch) {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return ((ch == '+') || (ch == '-') || 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(ch == '*') || (ch == '/')); }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340-96DE-4044-9691-55C57AB451E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46C11-9005-4262-85FC-8CF7441928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Rutine obilaska drvet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oid GenerateArithmeticOp(char op,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 reg1, int reg2) {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ar *opCode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witch (op) {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se '+': opCode = "ADD"; break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se '-': opCode = "SUB"; break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se '*': opCode = "MUL"; break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se '/': opCode = "DIV"; break; }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intf("%s R%d, R%d\n", opCode,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g1, reg2); }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oid GenerateLoad(char c, int reg) {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intf("LOAD %c, R%d\n",c , reg); }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3F8-F056-4846-AB09-A53CC029BB8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692D1-6DFE-406D-B46B-8B46770F8B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Napomene vezane za primje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LOAD, MUL, DIV, itd. su kodovi operacija na ciljnoj mašini.</a:t>
            </a:r>
            <a:endParaRPr b="0" lang="en-US" sz="3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GenerateCode kao argument ima registar za čuvanje rezultata.</a:t>
            </a:r>
            <a:endParaRPr b="0" lang="en-US" sz="3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Nije nam poznato koliko registara ima ciljna mašina (target machine).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GenerateCode inkrementira broj registra kada mu zatreba novi registar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Za složene izraze, ovaj pristup može zauzeti sve registre.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Generišemo asemblerski kod kao tekst.</a:t>
            </a:r>
            <a:endParaRPr b="0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3398-463D-4884-9A0E-6E31AA595A0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8F0BE-FDF2-49B5-944B-BDE012BEF2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Još jedan primjer izraz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60948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+', 0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a', 0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“LOAD a, R0”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*', 1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-', 1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b', 1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"LOAD b, R1"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c', 2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"LOAD c, R2"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"SUB R1, R2"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d', 2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"LOAD d, R2"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"MUL R1, R2"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"ADD R0, R1"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640560" y="235440"/>
            <a:ext cx="2294280" cy="2989080"/>
            <a:chOff x="6640560" y="235440"/>
            <a:chExt cx="2294280" cy="2989080"/>
          </a:xfrm>
        </p:grpSpPr>
        <p:sp>
          <p:nvSpPr>
            <p:cNvPr id="126" name=""/>
            <p:cNvSpPr/>
            <p:nvPr/>
          </p:nvSpPr>
          <p:spPr>
            <a:xfrm>
              <a:off x="7246440" y="235440"/>
              <a:ext cx="38808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40560" y="1005120"/>
              <a:ext cx="3787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89760" y="928800"/>
              <a:ext cx="3193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56120" y="1797480"/>
              <a:ext cx="3787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0" name=""/>
            <p:cNvCxnSpPr>
              <a:stCxn id="126" idx="2"/>
              <a:endCxn id="127" idx="0"/>
            </p:cNvCxnSpPr>
            <p:nvPr/>
          </p:nvCxnSpPr>
          <p:spPr>
            <a:xfrm flipH="1">
              <a:off x="6830280" y="771120"/>
              <a:ext cx="610200" cy="2196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31" name=""/>
            <p:cNvCxnSpPr>
              <a:stCxn id="126" idx="2"/>
              <a:endCxn id="128" idx="0"/>
            </p:cNvCxnSpPr>
            <p:nvPr/>
          </p:nvCxnSpPr>
          <p:spPr>
            <a:xfrm>
              <a:off x="7440480" y="771120"/>
              <a:ext cx="610560" cy="1432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28" idx="2"/>
              <a:endCxn id="129" idx="0"/>
            </p:cNvCxnSpPr>
            <p:nvPr/>
          </p:nvCxnSpPr>
          <p:spPr>
            <a:xfrm>
              <a:off x="8049960" y="1465200"/>
              <a:ext cx="695520" cy="3175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33" name=""/>
            <p:cNvCxnSpPr>
              <a:stCxn id="128" idx="2"/>
              <a:endCxn id="134" idx="0"/>
            </p:cNvCxnSpPr>
            <p:nvPr/>
          </p:nvCxnSpPr>
          <p:spPr>
            <a:xfrm flipH="1">
              <a:off x="7443000" y="1465200"/>
              <a:ext cx="607320" cy="3556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7293240" y="1835280"/>
              <a:ext cx="2995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45600" y="2703960"/>
              <a:ext cx="3787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58880" y="2703960"/>
              <a:ext cx="3589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34" idx="2"/>
              <a:endCxn id="136" idx="0"/>
            </p:cNvCxnSpPr>
            <p:nvPr/>
          </p:nvCxnSpPr>
          <p:spPr>
            <a:xfrm>
              <a:off x="7443720" y="2370960"/>
              <a:ext cx="696240" cy="317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34" idx="2"/>
              <a:endCxn id="135" idx="0"/>
            </p:cNvCxnSpPr>
            <p:nvPr/>
          </p:nvCxnSpPr>
          <p:spPr>
            <a:xfrm flipH="1">
              <a:off x="6834960" y="2370960"/>
              <a:ext cx="608760" cy="317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791320" y="3352680"/>
            <a:ext cx="3047760" cy="3080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a, R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b, 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c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 R1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d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 R1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R0, 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9B5D-3A56-4953-90F6-92F4A811272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D1BEB-E8A1-4A3C-9E71-35CB773DEB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Generisani kod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oristili smo registre ali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ema konflikta (prepisujem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rijednost kada nam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još treba.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čitali smo vrijednost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 R0 i ne koristimo je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o samog kraja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ačunanja. 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Za poboljšanje koda, prvo se primjenjuje tehnika alokacije registara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17524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685800"/>
            <a:ext cx="2438280" cy="39333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(b-c)*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a, R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b, 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c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 R1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d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 R1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R0, 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DC7-07CD-4301-9771-31EF7E4B0A8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83F54-261A-43E0-A494-C47668CB93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GCC MPR: RTL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Register Transfer Language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Nizak nivo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Inspirisan Lisp-om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Kompajleri na Solaris-u: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cc.gnu.org/onlinedocs/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cc-2.95.3/gcc_15.html#SEC149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Poslednja verzija: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cc.gnu.org/onlinedocs/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cc-3.2.2/gccint/RTL.html#RT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D8C-EAF6-488C-AC4B-99DA210E72C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C4013-C85C-4449-8D55-2E7576D1C8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Zašto je potrebna MPR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PR – reprezentacija program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pstraktnije od stabal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zavisnije od jezika nego stabl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zavisnije od mašine nego krajnji kod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Zašto direktno ne generisati ko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o je moguće, čak i uobičajeno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ezavisnost je vrlin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CC -- ranije GNU C kompajler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da Gnu Compiler Colle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z više jezika (source) u jednu MPR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z jedne MPR u više arhitektura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DEEB-030B-499B-853D-C015D479EA7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7369E-B527-46EC-A83E-4EF88FC38C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Hello World u GNU  RTL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;; Function main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note 3 2 4 "" NOTE_INSN_FUNCTION_BEG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note 6 4 7 0 NOTE_INSN_BLOCK_BEG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insn 7 6 8 (set (reg:SI 106)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// labele, jump na njih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high:SI (symbol_ref:SI ("*.LLC0")))) -1 (nil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nil)) </a:t>
            </a:r>
            <a:r>
              <a:rPr b="0" lang="en-US" sz="3000" spc="-1" strike="noStrike">
                <a:solidFill>
                  <a:srgbClr val="ff3399"/>
                </a:solidFill>
                <a:latin typeface="Times New Roman"/>
              </a:rPr>
              <a:t>// .LLC0 je asemblerska labela za string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insn 8 7 10 (set (reg:SI 8 %o0) (lo_sum:SI (reg:SI 106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symbol_ref:SI ("*.LLC0")))) -1 (nil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nil)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99"/>
                </a:solidFill>
                <a:latin typeface="Arial"/>
              </a:rPr>
              <a:t>// </a:t>
            </a:r>
            <a:r>
              <a:rPr b="0" lang="en-US" sz="3000" spc="-1" strike="noStrike">
                <a:solidFill>
                  <a:srgbClr val="ff3399"/>
                </a:solidFill>
                <a:latin typeface="Times New Roman"/>
              </a:rPr>
              <a:t>“high” &amp; “lo_sum” izgrađuju  niz od 2 instrukcije za dostup globalnoj memoriji.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56CB-C338-46A1-BEB7-CEF68D88536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CD336-1C3F-4EAA-93D3-8E730E986C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Hello World - nastavak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call_insn 10 8 12 (parallel[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// nekoliko bočnih efekat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set (reg:SI 8 %o0)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// paralelno odrađenih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call (mem:SI (symbol_ref:SI ("printf")) 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const_int 0 [0x0]))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clobber (reg:SI 15 %o7))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] ) -1 (nil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nil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expr_list (use (reg:SI 8 %o0)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nil))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note 12 10 13 0 NOTE_INSN_BLOCK_END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note 13 12 15 "" NOTE_INSN_FUNCTION_END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// clobber: moguće čuvanje neočekivane, neopisane vrijedsnoti u 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4BD0-AE86-42D2-9225-B0FA34AE16A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8ECF0-696E-4F30-AB3F-94AD17184A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Java Bytecode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PR postaje primarno način distribucij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iljna mašina je Java Virtual Machine (JVM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Zasnovana na registrima+ste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ogodna za strukturalnu verifikaciju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Provjera sigurnosti tipova!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ogodna za direktnu interpretaciju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rlo visoki niv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ozvoljava laku dekompilaciju (iz objektnog koda nazad u neki izvorni kod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0C1-A5A1-4CA3-8134-A3ECFFEAE69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9BA17-7319-4AA7-B17F-77A1D0372C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Java Bytecode - primje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5052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 gcd 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tic int gcd(int x, int y) 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 d = x - y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f (d &gt; 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gcd(d, y)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se if (d &lt; 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gcd(x, -d)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x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19720" y="2209320"/>
            <a:ext cx="441936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ublic static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oid main(String []av) 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ystem.out.println(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cd(33, 42))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0BE9-08F2-4F55-B295-F1AD21B352A4}" type="slidenum">
              <a:t>2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EE224-84B3-4929-B7DB-630CC451B0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Java Bytecode primjer (nastavak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52815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ethod int gcd(int x, int y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0 iload_0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push r[0] (x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 iload_1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push r[1] (y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 isub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x - 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 istore_2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r[2] (d) := po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 iload_2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push r[2] (d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 ifle 14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branch if &lt;= 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…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5 iload_0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push r[0]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6 ireturn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return i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480" y="1676520"/>
            <a:ext cx="381024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Lokalni registri r[0], r[1] sadr</a:t>
            </a:r>
            <a:r>
              <a:rPr b="0" lang="hr-HR" sz="2600" spc="-1" strike="noStrike">
                <a:solidFill>
                  <a:srgbClr val="000099"/>
                </a:solidFill>
                <a:latin typeface="Times New Roman"/>
              </a:rPr>
              <a:t>ž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e aktuelne argumente po ulasku  u proceduru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Poređenje sa  </a:t>
            </a:r>
            <a:br>
              <a:rPr sz="2600"/>
            </a:b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Decaf-VM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Može biti ponovo korišćen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Sve operacije se rade na steku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4EC-0D62-4950-95C0-88FA4F58E3B3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D670B-7065-440B-B788-A7F70529E4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Java Bytecode primjer (nastavak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Method void main(java.lang.String[]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0 getstatic #3 &lt;Field java.io.PrintStream out&gt; 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; push System.out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3 bipush 33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; push integer byte 33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5 bipush 42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; push integer byte 42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7 invokestatic #2 &lt;Method int gcd(int, int)&gt;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; invoke static method gcd(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10 invokevirtual #4 &lt;Method void println(int)&gt;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; invoke instance method println(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13 return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; return from main(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E9A-50AF-4DCA-B843-9BB36EE1BD3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21D06-70DC-4E59-85DB-F878D9D465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MPR model za Decaf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048120"/>
            <a:ext cx="2209680" cy="1295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 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3048120"/>
            <a:ext cx="2209680" cy="1295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1" idx="3"/>
            <a:endCxn id="162" idx="1"/>
          </p:cNvCxnSpPr>
          <p:nvPr/>
        </p:nvCxnSpPr>
        <p:spPr>
          <a:xfrm>
            <a:off x="4123800" y="3695400"/>
            <a:ext cx="972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5" idx="1"/>
            <a:endCxn id="165" idx="3"/>
          </p:cNvCxnSpPr>
          <p:nvPr/>
        </p:nvCxnSpPr>
        <p:spPr>
          <a:xfrm>
            <a:off x="151920" y="3695400"/>
            <a:ext cx="1753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7" idx="1"/>
            <a:endCxn id="167" idx="3"/>
          </p:cNvCxnSpPr>
          <p:nvPr/>
        </p:nvCxnSpPr>
        <p:spPr>
          <a:xfrm>
            <a:off x="7314840" y="3619080"/>
            <a:ext cx="1677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152280" y="3048120"/>
            <a:ext cx="1752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nt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365760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15200" y="3124080"/>
            <a:ext cx="1676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sembler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jez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2066760"/>
            <a:ext cx="123840" cy="990720"/>
          </a:xfrm>
          <a:custGeom>
            <a:avLst/>
            <a:gdLst/>
            <a:ahLst/>
            <a:rect l="l" t="t" r="r" b="b"/>
            <a:pathLst>
              <a:path w="78" h="624">
                <a:moveTo>
                  <a:pt x="78" y="0"/>
                </a:moveTo>
                <a:cubicBezTo>
                  <a:pt x="64" y="23"/>
                  <a:pt x="0" y="86"/>
                  <a:pt x="0" y="138"/>
                </a:cubicBezTo>
                <a:cubicBezTo>
                  <a:pt x="0" y="190"/>
                  <a:pt x="78" y="256"/>
                  <a:pt x="78" y="312"/>
                </a:cubicBezTo>
                <a:cubicBezTo>
                  <a:pt x="78" y="368"/>
                  <a:pt x="0" y="422"/>
                  <a:pt x="0" y="474"/>
                </a:cubicBezTo>
                <a:cubicBezTo>
                  <a:pt x="0" y="526"/>
                  <a:pt x="62" y="593"/>
                  <a:pt x="78" y="62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666880" y="4343400"/>
            <a:ext cx="123840" cy="990720"/>
          </a:xfrm>
          <a:custGeom>
            <a:avLst/>
            <a:gdLst/>
            <a:ahLst/>
            <a:rect l="l" t="t" r="r" b="b"/>
            <a:pathLst>
              <a:path w="78" h="624">
                <a:moveTo>
                  <a:pt x="78" y="0"/>
                </a:moveTo>
                <a:cubicBezTo>
                  <a:pt x="64" y="23"/>
                  <a:pt x="0" y="86"/>
                  <a:pt x="0" y="138"/>
                </a:cubicBezTo>
                <a:cubicBezTo>
                  <a:pt x="0" y="190"/>
                  <a:pt x="78" y="256"/>
                  <a:pt x="78" y="312"/>
                </a:cubicBezTo>
                <a:cubicBezTo>
                  <a:pt x="78" y="368"/>
                  <a:pt x="0" y="422"/>
                  <a:pt x="0" y="474"/>
                </a:cubicBezTo>
                <a:cubicBezTo>
                  <a:pt x="0" y="526"/>
                  <a:pt x="62" y="593"/>
                  <a:pt x="78" y="62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2057400"/>
            <a:ext cx="123840" cy="990720"/>
          </a:xfrm>
          <a:custGeom>
            <a:avLst/>
            <a:gdLst/>
            <a:ahLst/>
            <a:rect l="l" t="t" r="r" b="b"/>
            <a:pathLst>
              <a:path w="78" h="624">
                <a:moveTo>
                  <a:pt x="78" y="0"/>
                </a:moveTo>
                <a:cubicBezTo>
                  <a:pt x="64" y="23"/>
                  <a:pt x="0" y="86"/>
                  <a:pt x="0" y="138"/>
                </a:cubicBezTo>
                <a:cubicBezTo>
                  <a:pt x="0" y="190"/>
                  <a:pt x="78" y="256"/>
                  <a:pt x="78" y="312"/>
                </a:cubicBezTo>
                <a:cubicBezTo>
                  <a:pt x="78" y="368"/>
                  <a:pt x="0" y="422"/>
                  <a:pt x="0" y="474"/>
                </a:cubicBezTo>
                <a:cubicBezTo>
                  <a:pt x="0" y="526"/>
                  <a:pt x="62" y="593"/>
                  <a:pt x="78" y="62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095880" y="4333320"/>
            <a:ext cx="123840" cy="990360"/>
          </a:xfrm>
          <a:custGeom>
            <a:avLst/>
            <a:gdLst/>
            <a:ahLst/>
            <a:rect l="l" t="t" r="r" b="b"/>
            <a:pathLst>
              <a:path w="78" h="624">
                <a:moveTo>
                  <a:pt x="78" y="0"/>
                </a:moveTo>
                <a:cubicBezTo>
                  <a:pt x="64" y="23"/>
                  <a:pt x="0" y="86"/>
                  <a:pt x="0" y="138"/>
                </a:cubicBezTo>
                <a:cubicBezTo>
                  <a:pt x="0" y="190"/>
                  <a:pt x="78" y="256"/>
                  <a:pt x="78" y="312"/>
                </a:cubicBezTo>
                <a:cubicBezTo>
                  <a:pt x="78" y="368"/>
                  <a:pt x="0" y="422"/>
                  <a:pt x="0" y="474"/>
                </a:cubicBezTo>
                <a:cubicBezTo>
                  <a:pt x="0" y="526"/>
                  <a:pt x="62" y="593"/>
                  <a:pt x="78" y="62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981080"/>
            <a:ext cx="297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Nezavisno 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jezika i maš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198108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Zavis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od maš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1981080"/>
            <a:ext cx="1981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Zavisi 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jez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62920" y="44956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parc, x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5029200"/>
            <a:ext cx="1447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e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krei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502920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eb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apis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57600" y="502920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D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5181480"/>
            <a:ext cx="167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eb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apis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9" idx="0"/>
            <a:endCxn id="168" idx="2"/>
          </p:cNvCxnSpPr>
          <p:nvPr/>
        </p:nvCxnSpPr>
        <p:spPr>
          <a:xfrm flipV="1">
            <a:off x="4495680" y="4190760"/>
            <a:ext cx="7668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8" idx="0"/>
          </p:cNvCxnSpPr>
          <p:nvPr/>
        </p:nvCxnSpPr>
        <p:spPr>
          <a:xfrm flipV="1">
            <a:off x="2781000" y="4419000"/>
            <a:ext cx="26892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7" idx="0"/>
            <a:endCxn id="165" idx="2"/>
          </p:cNvCxnSpPr>
          <p:nvPr/>
        </p:nvCxnSpPr>
        <p:spPr>
          <a:xfrm flipV="1">
            <a:off x="952560" y="4342680"/>
            <a:ext cx="7668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0" idx="0"/>
            <a:endCxn id="162" idx="2"/>
          </p:cNvCxnSpPr>
          <p:nvPr/>
        </p:nvCxnSpPr>
        <p:spPr>
          <a:xfrm flipH="1" flipV="1">
            <a:off x="6209640" y="4352400"/>
            <a:ext cx="114840" cy="829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8B6E-AD52-4D81-BE2A-D22998DEC46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A59CE-9C07-4A13-81B7-553EA588FD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roadresni kod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neralni koncept sa više realizacija; osnovna ideja j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:= Y op Z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vo-, tro- i četvoro-adresni ko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prezentacija kao trojke (triple), četvorke (quadruples), petorke (quintuples)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Neuniformna terminologija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caf TAC je izuzetno prost, ali dovoljan za kreiranje kompajler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3C9E-9CCA-48D3-A343-FD51FEED793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9C6DB-09B5-4192-898E-540C87776D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Generisanje TAC-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bilazak AST-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AC se čuva kao rastuća list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st&lt;Instruction*&gt;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zlaz na kraju obilask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 obliku pogodnom za štampu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 MIPS asemblerskom kodu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Potrebno je obezbijediti emiter zavisan od mašine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9F3A-DD15-4724-900D-BB71E431432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BC806-34A7-4FA8-ABF9-971162DA47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Šta je Decaf-TAC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strukcije koje operišu sa imenovanim lokacijama i labelam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enerički kod nivoa asembler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okacij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vaka lokacija je mjesto za čuvanje 4 bajt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cc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Times New Roman"/>
              </a:rPr>
              <a:t>Smatraćemo da broj lokacija nije ograničen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li na stek frejmu: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cc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Times New Roman"/>
              </a:rPr>
              <a:t>Zadajemo offset (plus ostalu dostupnu informaciju)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li globalna promjenljiv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cc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Times New Roman"/>
              </a:rPr>
              <a:t>referisan preko globalnog imena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bele (generišu se po potrebi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itanja vezana za okolinu izvršavanj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B16-9777-4567-A4F2-8DE66693247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33993-CCF2-40FF-9BAE-17C1F800F7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Motivacija za MP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4356000"/>
            <a:ext cx="84582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dr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a za više front i back-endov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djela zadataka i odlaganje zadatak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ozvoljava optimizaciju nezavisnu od mašin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1066680"/>
            <a:ext cx="8609760" cy="3199680"/>
            <a:chOff x="228600" y="1066680"/>
            <a:chExt cx="8609760" cy="3199680"/>
          </a:xfrm>
        </p:grpSpPr>
        <p:grpSp>
          <p:nvGrpSpPr>
            <p:cNvPr id="48" name=""/>
            <p:cNvGrpSpPr/>
            <p:nvPr/>
          </p:nvGrpSpPr>
          <p:grpSpPr>
            <a:xfrm>
              <a:off x="228600" y="1066680"/>
              <a:ext cx="1542960" cy="3199680"/>
              <a:chOff x="228600" y="1066680"/>
              <a:chExt cx="1542960" cy="3199680"/>
            </a:xfrm>
          </p:grpSpPr>
          <p:sp>
            <p:nvSpPr>
              <p:cNvPr id="49" name=""/>
              <p:cNvSpPr/>
              <p:nvPr/>
            </p:nvSpPr>
            <p:spPr>
              <a:xfrm>
                <a:off x="390600" y="1066680"/>
                <a:ext cx="129960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90600" y="2251800"/>
                <a:ext cx="129960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eca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28600" y="3437280"/>
                <a:ext cx="1542960" cy="829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odula-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6158160" y="2251800"/>
              <a:ext cx="974520" cy="82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M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2584080" y="1066680"/>
              <a:ext cx="1299240" cy="3199680"/>
              <a:chOff x="2584080" y="1066680"/>
              <a:chExt cx="1299240" cy="3199680"/>
            </a:xfrm>
          </p:grpSpPr>
          <p:sp>
            <p:nvSpPr>
              <p:cNvPr id="54" name=""/>
              <p:cNvSpPr/>
              <p:nvPr/>
            </p:nvSpPr>
            <p:spPr>
              <a:xfrm>
                <a:off x="2584080" y="1066680"/>
                <a:ext cx="129924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par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584080" y="2251800"/>
                <a:ext cx="129924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R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584080" y="3437280"/>
                <a:ext cx="1299240" cy="829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x8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4289760" y="1066680"/>
              <a:ext cx="1542960" cy="3199680"/>
              <a:chOff x="4289760" y="1066680"/>
              <a:chExt cx="1542960" cy="3199680"/>
            </a:xfrm>
          </p:grpSpPr>
          <p:sp>
            <p:nvSpPr>
              <p:cNvPr id="58" name=""/>
              <p:cNvSpPr/>
              <p:nvPr/>
            </p:nvSpPr>
            <p:spPr>
              <a:xfrm>
                <a:off x="4370760" y="1066680"/>
                <a:ext cx="129960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70760" y="2251800"/>
                <a:ext cx="129960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eca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289760" y="3437280"/>
                <a:ext cx="1542960" cy="829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odula-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7539120" y="1066680"/>
              <a:ext cx="1299240" cy="3199680"/>
              <a:chOff x="7539120" y="1066680"/>
              <a:chExt cx="1299240" cy="3199680"/>
            </a:xfrm>
          </p:grpSpPr>
          <p:sp>
            <p:nvSpPr>
              <p:cNvPr id="62" name=""/>
              <p:cNvSpPr/>
              <p:nvPr/>
            </p:nvSpPr>
            <p:spPr>
              <a:xfrm>
                <a:off x="7539120" y="1066680"/>
                <a:ext cx="129924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par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539120" y="2251800"/>
                <a:ext cx="129924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R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539120" y="3437280"/>
                <a:ext cx="1299240" cy="829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x8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5" name=""/>
            <p:cNvCxnSpPr>
              <a:stCxn id="49" idx="3"/>
              <a:endCxn id="54" idx="1"/>
            </p:cNvCxnSpPr>
            <p:nvPr/>
          </p:nvCxnSpPr>
          <p:spPr>
            <a:xfrm>
              <a:off x="1700640" y="1481040"/>
              <a:ext cx="874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"/>
            <p:cNvCxnSpPr>
              <a:stCxn id="49" idx="3"/>
              <a:endCxn id="55" idx="1"/>
            </p:cNvCxnSpPr>
            <p:nvPr/>
          </p:nvCxnSpPr>
          <p:spPr>
            <a:xfrm>
              <a:off x="1700640" y="1481400"/>
              <a:ext cx="87408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" name=""/>
            <p:cNvCxnSpPr>
              <a:stCxn id="49" idx="3"/>
              <a:endCxn id="56" idx="1"/>
            </p:cNvCxnSpPr>
            <p:nvPr/>
          </p:nvCxnSpPr>
          <p:spPr>
            <a:xfrm>
              <a:off x="1700640" y="1481040"/>
              <a:ext cx="874080" cy="2371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0" idx="3"/>
            </p:cNvCxnSpPr>
            <p:nvPr/>
          </p:nvCxnSpPr>
          <p:spPr>
            <a:xfrm flipV="1">
              <a:off x="1700280" y="1540440"/>
              <a:ext cx="803160" cy="1126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0" idx="3"/>
              <a:endCxn id="55" idx="1"/>
            </p:cNvCxnSpPr>
            <p:nvPr/>
          </p:nvCxnSpPr>
          <p:spPr>
            <a:xfrm>
              <a:off x="1700640" y="2666520"/>
              <a:ext cx="874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50" idx="3"/>
              <a:endCxn id="56" idx="1"/>
            </p:cNvCxnSpPr>
            <p:nvPr/>
          </p:nvCxnSpPr>
          <p:spPr>
            <a:xfrm>
              <a:off x="1700640" y="2666880"/>
              <a:ext cx="87408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51" idx="3"/>
              <a:endCxn id="54" idx="1"/>
            </p:cNvCxnSpPr>
            <p:nvPr/>
          </p:nvCxnSpPr>
          <p:spPr>
            <a:xfrm flipV="1">
              <a:off x="1782000" y="1480680"/>
              <a:ext cx="792720" cy="2371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51" idx="3"/>
              <a:endCxn id="55" idx="1"/>
            </p:cNvCxnSpPr>
            <p:nvPr/>
          </p:nvCxnSpPr>
          <p:spPr>
            <a:xfrm flipV="1">
              <a:off x="1782000" y="2666520"/>
              <a:ext cx="79272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" name=""/>
            <p:cNvCxnSpPr>
              <a:stCxn id="51" idx="3"/>
              <a:endCxn id="56" idx="1"/>
            </p:cNvCxnSpPr>
            <p:nvPr/>
          </p:nvCxnSpPr>
          <p:spPr>
            <a:xfrm>
              <a:off x="1782000" y="3852000"/>
              <a:ext cx="7927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58" idx="3"/>
              <a:endCxn id="52" idx="1"/>
            </p:cNvCxnSpPr>
            <p:nvPr/>
          </p:nvCxnSpPr>
          <p:spPr>
            <a:xfrm>
              <a:off x="5680440" y="1481400"/>
              <a:ext cx="46764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59" idx="3"/>
              <a:endCxn id="52" idx="1"/>
            </p:cNvCxnSpPr>
            <p:nvPr/>
          </p:nvCxnSpPr>
          <p:spPr>
            <a:xfrm>
              <a:off x="5680440" y="2666520"/>
              <a:ext cx="4676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" name=""/>
            <p:cNvCxnSpPr>
              <a:stCxn id="60" idx="3"/>
              <a:endCxn id="52" idx="1"/>
            </p:cNvCxnSpPr>
            <p:nvPr/>
          </p:nvCxnSpPr>
          <p:spPr>
            <a:xfrm flipV="1">
              <a:off x="5843160" y="2666520"/>
              <a:ext cx="30528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" name=""/>
            <p:cNvCxnSpPr>
              <a:stCxn id="52" idx="3"/>
              <a:endCxn id="62" idx="1"/>
            </p:cNvCxnSpPr>
            <p:nvPr/>
          </p:nvCxnSpPr>
          <p:spPr>
            <a:xfrm flipV="1">
              <a:off x="7143120" y="1481040"/>
              <a:ext cx="38664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" name=""/>
            <p:cNvCxnSpPr>
              <a:stCxn id="52" idx="3"/>
              <a:endCxn id="63" idx="1"/>
            </p:cNvCxnSpPr>
            <p:nvPr/>
          </p:nvCxnSpPr>
          <p:spPr>
            <a:xfrm>
              <a:off x="7143120" y="2666520"/>
              <a:ext cx="3866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52" idx="3"/>
              <a:endCxn id="64" idx="1"/>
            </p:cNvCxnSpPr>
            <p:nvPr/>
          </p:nvCxnSpPr>
          <p:spPr>
            <a:xfrm>
              <a:off x="7143120" y="2666880"/>
              <a:ext cx="38664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D62-2606-4B9F-9E4E-61447748C9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741CE-D4E0-454B-BAC3-0F533C5A06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Decaf TAC Instrukcije (I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46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djeljivanje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sna strana može biti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okacij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ring konstant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eger konstant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abel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2600" y="914400"/>
            <a:ext cx="4146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imjer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2 = t1;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3 = “Hello”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5 = 42;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7 = _L1;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42670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-&gt;Append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new LoadStringConstant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/*t3=*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TempVar(),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“Hello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159-91EC-4CD6-B8E2-54F12FE6D8A3}" type="slidenum">
              <a:t>3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35408-7351-47DF-BDD4-AE0CC2214C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Decaf TAC instrukcije (II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4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ritmetičk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inarno add, sub, multiply, divide, modulu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Jednakost (==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lacioni (&lt;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gički (&amp;&amp;, ||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91120" y="1066320"/>
            <a:ext cx="4572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bele i grananje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metanje labele u TAC niz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_L4: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ezuslovni sko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Goto _L4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slovni sko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IfZ t1 Goto _L3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413A-358A-4A09-85EB-CF2BBC095FBD}" type="slidenum">
              <a:t>3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D541C-7D17-4390-BB42-793240CA16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Decaf TAC instrukcije (III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527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iprema poziva f-ij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PushParam t1;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(eval left to right)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(push right to left)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PopParams n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Arial"/>
              </a:rPr>
              <a:t>(no effect on Sparc)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2600" y="914400"/>
            <a:ext cx="4146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zivanje metod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bel vs. Adres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LCall, ACall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oid vs. nonvoi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T1 = LCall _L3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ACall t3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BEE7-5641-4382-964F-5A6D83B5BF68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43BBF-BFD3-4CC2-9025-B60130ACAD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Decaf TAC instrukcije (IV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527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isanje funkcij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BeginFunc &lt;n&gt;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Arial"/>
              </a:rPr>
              <a:t>Ulazak u f-iju, specifkacija veličine  stek frejma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EndFunc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Return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Return t3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66720" y="8380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ads i Stor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Opcionalni integer offset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Primjeri: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Arial"/>
              </a:rPr>
              <a:t>t2 = *(t4)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Arial"/>
              </a:rPr>
              <a:t>*(t5+4) = t6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pecifikacija podataka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VTable name = &lt;list of labels&gt;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46E4-852C-42F7-BD27-C27D0A96294D}" type="slidenum">
              <a:t>3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A5FF9-2534-4625-A827-B3328CAA08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Šta TAC nema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arni minus, logi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ko no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deksacija niza (provjera granica!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rray.length(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lacioni &lt;=, &gt;=, &gt;, 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rugi uslovni skokovi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istup poljim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oristi se base+offset load/stor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ethod dispatch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oristi se load iz vtable i Acal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B396-B5A2-4EA4-9DC5-F5AFB67AF17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D62FE-7563-4939-B7C0-831AA6A411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Built-in funkcije: libdecaf.c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520" y="6091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lled using LCal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0" y="1143000"/>
          <a:ext cx="9144000" cy="5334120"/>
        </p:xfrm>
        <a:graphic>
          <a:graphicData uri="http://schemas.openxmlformats.org/drawingml/2006/table">
            <a:tbl>
              <a:tblPr/>
              <a:tblGrid>
                <a:gridCol w="2286000"/>
                <a:gridCol w="2021040"/>
                <a:gridCol w="1368360"/>
                <a:gridCol w="3468600"/>
              </a:tblGrid>
              <a:tr h="59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aramter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vrač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Alloc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 sz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id 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llocate memor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Readl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har 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ad a l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ReadIntege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ad an i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StringEqu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har *a, *b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mpare two string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PrintI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 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int i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PrintString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har *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int string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PrintBoo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 b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int boo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Hal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top (runtime error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107-82CD-4748-9954-5118DC7C947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BEB72-FB1D-4CB1-B2DA-F8B200F2DB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Emitovanje TAC: primje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375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void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main() {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x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y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x = ReadInteger()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y = ReadInteger()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rint(gcd(x, y), "\n")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81280" y="685800"/>
            <a:ext cx="5562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main: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BeginFunc 24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_tmp9 = LCall _ReadInteger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x = _tmp9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_tmp10 = LCall _ReadInteger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y = _tmp10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ushParam y #1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ushParam x #0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_tmp11 = LCall _gcd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opParams 8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ushParam _tmp11 #0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LCall _PrintInt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opParams 4 ;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/* ostatka nema */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…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EndFunc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741D-28F0-45CD-96BF-20CC138E2B50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35668-ADDF-4E77-B2D2-D0B0C5208A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 primjer: IfZ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4051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nt gcd(int x, int y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nt d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 = x - y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f (d &gt; 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return gcd(d, y)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lse if (d &lt;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turn gcd(x, -d)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turn x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0" y="609480"/>
            <a:ext cx="4572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gcd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eginFunc 4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0 = x - y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 = _tmp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1 = 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2 = _tmp1 &lt; d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fZ _tmp2 Goto _L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ushParam y #1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ushParam d #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3 = LCall _gcd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opParams 8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turn _tmp3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oto _L1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L0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4 = 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L1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dFunc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E7A-F3BD-4441-9D83-BBA82A4C540D}" type="slidenum">
              <a:t>3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99F2B-A264-404E-8172-C0830CDD09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sintetisanje &lt;=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375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factorial(int n)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if (n &lt;=1 )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return 1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return n*factorial(n-1)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void main()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rint(factorial(6))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62160" y="60948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factorial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eginFunc 36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_tmp0 = 1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_tmp1 = n &lt; _tmp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_tmp2 = n == _tmp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_tmp3 = _tmp1 || _tmp2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fZ _tmp3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Goto _L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4 = 1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turn _tmp4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L0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5 = 1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6 = n - _tmp5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ushParam _tmp6 #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7 = LCall _factorial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opParams 4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8 = n * _tmp7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turn _tmp8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dFunc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437F-B2B5-4DBA-B9B0-BD06F1821D76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967EA-E86A-471C-8075-E3DC211D9F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pristup poljima (I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4527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 P2 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 x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 y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void set(int x, int y) {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his.x = x; this.y = y;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t getX() { return x; 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 getY() { return y; 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 abs() 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x*x + y*y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343040" y="609480"/>
            <a:ext cx="4800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P2.set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eginFunc 0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*(this + 4) = x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*(this + 8) = y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ndFunc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P2.getX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eginFunc 4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0 = *(this + 4)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turn _tmp0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ndFunc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6D86-BAEE-4253-9DC9-FFC4A3E67CA7}" type="slidenum">
              <a:t>3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51FF2-B17E-4B37-869E-B656139570F5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Kontinuum MPR-ov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stoji mnogo M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w-level M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ao RISC instrukcij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gistri, literali, proste operacij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igh-level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ference na nizove, izdvajanje polja, itd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Čuvaju određenu semantiku, jer će možda kasnije iskoristiti tu informaciju za popravljanje koda ili za specifične brze mašinske operacij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106-7E0E-4CAE-AC5A-8026E309FC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BD11C-94AC-4782-B828-B8BDF397C5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pristup poljima (II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527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class P2 {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x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y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set(int x, int y) { 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this.x = x; this.y = y; 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getX() { return x; 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getY() { return y; 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int abs() {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return x*x + y*y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809520" y="609120"/>
            <a:ext cx="533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P2.ab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eginFunc 28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2 = *(this + 4)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3 = *(this + 4)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4 = _tmp2 * _tmp3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5 = *(this + 8)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6 = *(this + 8)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7 = _tmp5 * _tmp6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8 = _tmp4 + _tmp7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turn _tmp8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ndFunc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03B4-FA41-4300-86E6-1BB5010170A2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D9ABB-1509-4083-9318-33FCADFBD8F3}" type="datetime1">
              <a:rPr lang="en-US"/>
              <a:t>07/30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virtuelni metodi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 computeAbs(P2 p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.abs()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 C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-&gt;vtable-&gt;abs(p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886200" y="685800"/>
            <a:ext cx="510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_computeAb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eginFunc 12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_tmp21 = *(p)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; thi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_tmp22 = *(_tmp21 + 12)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ushParam p #0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; thi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_tmp23 = ACall _tmp22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pParams 4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_tmp23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dFunc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E9E4-D4C6-406E-9BC4-15484BBFD442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75720-0211-4586-8F72-CCCBC5DC15BB}" type="datetime1">
              <a:rPr lang="en-US"/>
              <a:t>07/30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implementacija </a:t>
            </a:r>
            <a:r>
              <a:rPr b="0" i="1" lang="en-US" sz="4000" spc="-1" strike="noStrike">
                <a:solidFill>
                  <a:srgbClr val="000099"/>
                </a:solidFill>
                <a:latin typeface="Arial"/>
              </a:rPr>
              <a:t>New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527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2 makeNewPoint() 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ew(P2)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34340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VTable P2 =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_P2.set,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_P2.getX,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_P2.getY,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_P2.abs,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_makeNewPoint: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BeginFunc 12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_tmp24 = 12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PushParam _tmp24 #0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_tmp25 = LCall _Alloc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PopParams 4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_tmp26 = P2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*(_tmp25) = _tmp26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Return _tmp25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EndFunc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7209-D314-43ED-A5B1-76EE154D64FD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BE0C5-146D-493E-A7AC-66D664B2F28A}" type="datetime1">
              <a:rPr lang="en-US"/>
              <a:t>07/30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implementacija </a:t>
            </a:r>
            <a:r>
              <a:rPr b="0" i="1" lang="en-US" sz="4000" spc="-1" strike="noStrike">
                <a:solidFill>
                  <a:srgbClr val="000099"/>
                </a:solidFill>
                <a:latin typeface="Arial"/>
              </a:rPr>
              <a:t>for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etlje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527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void main() {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nt i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for (i = 0; i &lt; 10; i = i + 1)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Print(i)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191120" y="762120"/>
            <a:ext cx="4952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main: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BeginFunc 24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tmp0 = 0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i = _tmp0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L0: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tmp1 = 10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tmp2 = i &lt; _tmp1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IfZ _tmp2 Goto _L1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PushParam i #0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LCall _PrintInt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PopParams 4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tmp3 = 1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tmp4 = i + _tmp3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i = _tmp4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Goto _L0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L1: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EndFunc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77B8-63EB-40A4-B65F-0CAD254B9EB8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6621E-C555-4D20-80EB-DFCD4DF5598A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Kontinuum MPR-ov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riginalni C sour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loat a[10][20];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[i][j+2];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igh-level MPR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1 = a[i, j+2]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// kao C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914400"/>
            <a:ext cx="41148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685800"/>
            <a:ext cx="46483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id-level MP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1 = j + 2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2 = i * 20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3 = t1 + t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4 = 4 * t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5 = addr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6 = t5 + t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7 = *t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// kao asemb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// koriste  privremene // promjenlj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BF0-3E50-48F8-B6A7-0B8A0863CC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FF8E4-E431-4232-A8A6-8F78AA8C27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Kontinuum MPR-ova 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w-level IR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// Kao RISC asembl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1 = [fp - 4]    // Proste operacije na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2 = [r1 + 2]    // registrima.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3 = [fp - 8]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4 = r3 * 20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5 = r4 + r2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6 = 4 * r5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7 = fp – 216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1 = [r7 + r6]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EEC5-F3A8-40EF-9FC9-D6ECCBA32E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5FEE5-02D8-4546-B034-AD07D62273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Oblici MPR-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še oblika je moguć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azličiti nivoi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imjeri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ST (Abstract syntax trees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Vrlo visok nivo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CC-ov RTL (Register Transfer Language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Nizak nivo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Java bytecod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Visok nivo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roadresni kod (Three Address Code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1814-6612-4977-9621-41D1EA05B0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89173-0C38-4C14-9A29-71B8BBEC84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AST kao MP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gram –&gt; function_lis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unction_list –&gt; function_list function | fun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unction –&gt; PROCEDURE ident ( params ) bod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arams –&gt; 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A713-335D-43DD-B6D7-E876BB2703D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2CE3C-E627-4FF6-9617-1C22F2C566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AST kao MP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CEDURE main(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tement..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CEDURE factorial(n:INTEGER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atement..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15A9-2D22-4D58-A65D-2E9B0BCDEB6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18673-87A9-46AB-AE1B-6B3C986EA8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Home</cp:lastModifiedBy>
  <dcterms:modified xsi:type="dcterms:W3CDTF">2009-04-01T20:33:03Z</dcterms:modified>
  <cp:revision>4877</cp:revision>
  <dc:subject/>
  <dc:title>Welcome to CS143</dc:title>
</cp:coreProperties>
</file>